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1.png" ContentType="image/png"/>
  <Override PartName="/ppt/media/image22.wmf" ContentType="image/x-wmf"/>
  <Override PartName="/ppt/media/image1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  <p:custShowLst>
    <p:custShow name="自定义放映 1" id="0">
      <p:sldLst>
        <p:sld r:id="rId30"/>
        <p:sld r:id="rId25"/>
        <p:sld r:id="rId3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CC1F-5B8A-4DEA-BB3C-FBA9934C9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AF14-FCC3-4A73-8CF9-91BE0753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1B2E-7C53-48AC-A660-B88B5AA21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5E30-EFF4-453F-BD0E-F88CD9D18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CD88-6718-4DDA-B438-E832940A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49B1-DEAA-45D7-939A-B30CE1C0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F945-C781-4408-B824-DB13B91B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5F29-ACFC-4E15-8729-C30C1939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0E1C-2E4E-4DCA-84C7-245194B9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996A-5FC1-44F9-BAED-8E035620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EA0C-7D8B-4CD7-A9C6-6954D065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5ED2-A874-4C50-936C-E35E5519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8115-9FD7-4B6B-B9D5-E48D009FBF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44546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42920" y="3454560"/>
            <a:ext cx="3600360" cy="1255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基本使用方法（初级界面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排课高手3"/>
          <p:cNvPicPr/>
          <p:nvPr/>
        </p:nvPicPr>
        <p:blipFill>
          <a:blip r:embed="rId1"/>
          <a:stretch/>
        </p:blipFill>
        <p:spPr>
          <a:xfrm>
            <a:off x="2727360" y="2303640"/>
            <a:ext cx="3743280" cy="10681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3203640" y="62064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教学管理软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979640" y="4941720"/>
            <a:ext cx="61927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幻灯片制作  南京市 张鸿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202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7020000" y="6021360"/>
            <a:ext cx="1727280" cy="43200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86310" h="21600">
                <a:moveTo>
                  <a:pt x="0" y="0"/>
                </a:moveTo>
                <a:lnTo>
                  <a:pt x="86310" y="0"/>
                </a:lnTo>
                <a:lnTo>
                  <a:pt x="86310" y="21600"/>
                </a:lnTo>
                <a:lnTo>
                  <a:pt x="0" y="21600"/>
                </a:lnTo>
                <a:close/>
              </a:path>
              <a:path fill="lightenLess" w="86310" h="21600">
                <a:moveTo>
                  <a:pt x="0" y="0"/>
                </a:moveTo>
                <a:lnTo>
                  <a:pt x="86310" y="0"/>
                </a:lnTo>
                <a:lnTo>
                  <a:pt x="84910" y="1400"/>
                </a:lnTo>
                <a:lnTo>
                  <a:pt x="1400" y="1400"/>
                </a:lnTo>
                <a:close/>
              </a:path>
              <a:path fill="darken" w="86310" h="21600">
                <a:moveTo>
                  <a:pt x="86310" y="0"/>
                </a:moveTo>
                <a:lnTo>
                  <a:pt x="86310" y="21600"/>
                </a:lnTo>
                <a:lnTo>
                  <a:pt x="84910" y="20200"/>
                </a:lnTo>
                <a:lnTo>
                  <a:pt x="84910" y="1400"/>
                </a:lnTo>
                <a:close/>
              </a:path>
              <a:path fill="darkenLess" w="86310" h="21600">
                <a:moveTo>
                  <a:pt x="86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10" y="20200"/>
                </a:lnTo>
                <a:close/>
              </a:path>
              <a:path fill="lighten" w="86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10" h="21600">
                <a:moveTo>
                  <a:pt x="36149" y="3794"/>
                </a:moveTo>
                <a:lnTo>
                  <a:pt x="50162" y="10800"/>
                </a:lnTo>
                <a:lnTo>
                  <a:pt x="3614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2843280" y="141300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Arial"/>
                <a:ea typeface="华文新魏"/>
              </a:rPr>
              <a:t>智能电脑排课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1" descr=""/>
          <p:cNvPicPr/>
          <p:nvPr/>
        </p:nvPicPr>
        <p:blipFill>
          <a:blip r:embed="rId1"/>
          <a:stretch/>
        </p:blipFill>
        <p:spPr>
          <a:xfrm>
            <a:off x="187200" y="1484280"/>
            <a:ext cx="7012080" cy="52070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6012000" y="189000"/>
            <a:ext cx="27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辑全校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084720" y="692280"/>
            <a:ext cx="20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 专用教室和作息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2916360" y="3282840"/>
            <a:ext cx="2016000" cy="368640"/>
          </a:xfrm>
          <a:prstGeom prst="wedgeRectCallout">
            <a:avLst>
              <a:gd name="adj1" fmla="val -87310"/>
              <a:gd name="adj2" fmla="val 251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此框输入教学楼名称，回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3492360" y="4283640"/>
            <a:ext cx="1801800" cy="368640"/>
          </a:xfrm>
          <a:prstGeom prst="wedgeRectCallout">
            <a:avLst>
              <a:gd name="adj1" fmla="val -127342"/>
              <a:gd name="adj2" fmla="val 66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系统自动产生教学楼简称，若不合适可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2484360" y="6073920"/>
            <a:ext cx="935280" cy="642600"/>
          </a:xfrm>
          <a:prstGeom prst="wedgeRectCallout">
            <a:avLst>
              <a:gd name="adj1" fmla="val 68388"/>
              <a:gd name="adj2" fmla="val 565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添加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8">
            <a:hlinkClick r:id="" action="ppaction://hlinkshowjump?jump=nextslide"/>
          </p:cNvPr>
          <p:cNvSpPr/>
          <p:nvPr/>
        </p:nvSpPr>
        <p:spPr>
          <a:xfrm>
            <a:off x="7764480" y="6008400"/>
            <a:ext cx="1158840" cy="423000"/>
          </a:xfrm>
          <a:custGeom>
            <a:avLst/>
            <a:gdLst>
              <a:gd name="textAreaLeft" fmla="*/ 27360 w 1158840"/>
              <a:gd name="textAreaRight" fmla="*/ 1131480 w 11588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59143" h="21600">
                <a:moveTo>
                  <a:pt x="0" y="0"/>
                </a:moveTo>
                <a:lnTo>
                  <a:pt x="59143" y="0"/>
                </a:lnTo>
                <a:lnTo>
                  <a:pt x="59143" y="21600"/>
                </a:lnTo>
                <a:lnTo>
                  <a:pt x="0" y="21600"/>
                </a:lnTo>
                <a:close/>
              </a:path>
              <a:path fill="lightenLess" w="59143" h="21600">
                <a:moveTo>
                  <a:pt x="0" y="0"/>
                </a:moveTo>
                <a:lnTo>
                  <a:pt x="59143" y="0"/>
                </a:lnTo>
                <a:lnTo>
                  <a:pt x="57743" y="1400"/>
                </a:lnTo>
                <a:lnTo>
                  <a:pt x="1400" y="1400"/>
                </a:lnTo>
                <a:close/>
              </a:path>
              <a:path fill="darken" w="59143" h="21600">
                <a:moveTo>
                  <a:pt x="59143" y="0"/>
                </a:moveTo>
                <a:lnTo>
                  <a:pt x="59143" y="21600"/>
                </a:lnTo>
                <a:lnTo>
                  <a:pt x="57743" y="20200"/>
                </a:lnTo>
                <a:lnTo>
                  <a:pt x="57743" y="1400"/>
                </a:lnTo>
                <a:close/>
              </a:path>
              <a:path fill="darkenLess" w="59143" h="21600">
                <a:moveTo>
                  <a:pt x="59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743" y="20200"/>
                </a:lnTo>
                <a:close/>
              </a:path>
              <a:path fill="lighten" w="59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143" h="21600">
                <a:moveTo>
                  <a:pt x="22565" y="3794"/>
                </a:moveTo>
                <a:lnTo>
                  <a:pt x="36578" y="10800"/>
                </a:lnTo>
                <a:lnTo>
                  <a:pt x="2256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9"/>
          <p:cNvSpPr/>
          <p:nvPr/>
        </p:nvSpPr>
        <p:spPr>
          <a:xfrm>
            <a:off x="7236000" y="2991960"/>
            <a:ext cx="1800000" cy="368640"/>
          </a:xfrm>
          <a:prstGeom prst="wedgeRectCallout">
            <a:avLst>
              <a:gd name="adj1" fmla="val -100666"/>
              <a:gd name="adj2" fmla="val 2550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输入作息时间（如果需要的话），输入完成后按“确定作息时间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7199280" y="14842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普通中小学本页可不做任何操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1"/>
          <p:cNvSpPr/>
          <p:nvPr/>
        </p:nvSpPr>
        <p:spPr>
          <a:xfrm>
            <a:off x="7740720" y="4724280"/>
            <a:ext cx="1133280" cy="432000"/>
          </a:xfrm>
          <a:custGeom>
            <a:avLst/>
            <a:gdLst>
              <a:gd name="textAreaLeft" fmla="*/ 27720 w 1133280"/>
              <a:gd name="textAreaRight" fmla="*/ 1105560 w 113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6635" h="21600">
                <a:moveTo>
                  <a:pt x="0" y="0"/>
                </a:moveTo>
                <a:lnTo>
                  <a:pt x="56635" y="0"/>
                </a:lnTo>
                <a:lnTo>
                  <a:pt x="56635" y="21600"/>
                </a:lnTo>
                <a:lnTo>
                  <a:pt x="0" y="21600"/>
                </a:lnTo>
                <a:close/>
              </a:path>
              <a:path fill="lightenLess" w="56635" h="21600">
                <a:moveTo>
                  <a:pt x="0" y="0"/>
                </a:moveTo>
                <a:lnTo>
                  <a:pt x="56635" y="0"/>
                </a:lnTo>
                <a:lnTo>
                  <a:pt x="55235" y="1400"/>
                </a:lnTo>
                <a:lnTo>
                  <a:pt x="1400" y="1400"/>
                </a:lnTo>
                <a:close/>
              </a:path>
              <a:path fill="darken" w="56635" h="21600">
                <a:moveTo>
                  <a:pt x="56635" y="0"/>
                </a:moveTo>
                <a:lnTo>
                  <a:pt x="56635" y="21600"/>
                </a:lnTo>
                <a:lnTo>
                  <a:pt x="55235" y="20200"/>
                </a:lnTo>
                <a:lnTo>
                  <a:pt x="55235" y="1400"/>
                </a:lnTo>
                <a:close/>
              </a:path>
              <a:path fill="darkenLess" w="56635" h="21600">
                <a:moveTo>
                  <a:pt x="56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35" y="20200"/>
                </a:lnTo>
                <a:close/>
              </a:path>
              <a:path fill="lighten" w="56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635" h="21600">
                <a:moveTo>
                  <a:pt x="21311" y="10800"/>
                </a:moveTo>
                <a:lnTo>
                  <a:pt x="35324" y="3794"/>
                </a:lnTo>
                <a:lnTo>
                  <a:pt x="3532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2"/>
          <p:cNvSpPr/>
          <p:nvPr/>
        </p:nvSpPr>
        <p:spPr>
          <a:xfrm>
            <a:off x="2124000" y="478440"/>
            <a:ext cx="1584360" cy="642600"/>
          </a:xfrm>
          <a:prstGeom prst="wedgeRectCallout">
            <a:avLst>
              <a:gd name="adj1" fmla="val -82370"/>
              <a:gd name="adj2" fmla="val 3832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如果用“输入”方式则选择教学楼还是教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3"/>
          <p:cNvSpPr/>
          <p:nvPr/>
        </p:nvSpPr>
        <p:spPr>
          <a:xfrm>
            <a:off x="3059280" y="5304240"/>
            <a:ext cx="2665080" cy="368640"/>
          </a:xfrm>
          <a:prstGeom prst="wedgeRectCallout">
            <a:avLst>
              <a:gd name="adj1" fmla="val -89597"/>
              <a:gd name="adj2" fmla="val 190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教学楼的层和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6"/>
          <p:cNvSpPr/>
          <p:nvPr/>
        </p:nvSpPr>
        <p:spPr>
          <a:xfrm>
            <a:off x="293760" y="615600"/>
            <a:ext cx="1584360" cy="368640"/>
          </a:xfrm>
          <a:prstGeom prst="wedgeRectCallout">
            <a:avLst>
              <a:gd name="adj1" fmla="val 31254"/>
              <a:gd name="adj2" fmla="val 5148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先选择输入教室的方式，输入还是剪贴板粘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8"/>
          <p:cNvSpPr/>
          <p:nvPr/>
        </p:nvSpPr>
        <p:spPr>
          <a:xfrm>
            <a:off x="3708360" y="467640"/>
            <a:ext cx="2087640" cy="642600"/>
          </a:xfrm>
          <a:prstGeom prst="wedgeRectCallout">
            <a:avLst>
              <a:gd name="adj1" fmla="val -4018"/>
              <a:gd name="adj2" fmla="val 2259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本页编辑完按“教师特殊要求”标签，进入“编辑全校条件”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0">
            <a:hlinkClick r:id="" action="ppaction://hlinkshowjump?jump=previousslide"/>
          </p:cNvPr>
          <p:cNvSpPr/>
          <p:nvPr/>
        </p:nvSpPr>
        <p:spPr>
          <a:xfrm>
            <a:off x="7740720" y="5445000"/>
            <a:ext cx="1152360" cy="360360"/>
          </a:xfrm>
          <a:custGeom>
            <a:avLst/>
            <a:gdLst>
              <a:gd name="textAreaLeft" fmla="*/ 23040 w 1152360"/>
              <a:gd name="textAreaRight" fmla="*/ 1129320 w 115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25" h="21600">
                <a:moveTo>
                  <a:pt x="0" y="0"/>
                </a:moveTo>
                <a:lnTo>
                  <a:pt x="69025" y="0"/>
                </a:lnTo>
                <a:lnTo>
                  <a:pt x="69025" y="21600"/>
                </a:lnTo>
                <a:lnTo>
                  <a:pt x="0" y="21600"/>
                </a:lnTo>
                <a:close/>
              </a:path>
              <a:path fill="lightenLess" w="69025" h="21600">
                <a:moveTo>
                  <a:pt x="0" y="0"/>
                </a:moveTo>
                <a:lnTo>
                  <a:pt x="69025" y="0"/>
                </a:lnTo>
                <a:lnTo>
                  <a:pt x="67625" y="1400"/>
                </a:lnTo>
                <a:lnTo>
                  <a:pt x="1400" y="1400"/>
                </a:lnTo>
                <a:close/>
              </a:path>
              <a:path fill="darken" w="69025" h="21600">
                <a:moveTo>
                  <a:pt x="69025" y="0"/>
                </a:moveTo>
                <a:lnTo>
                  <a:pt x="69025" y="21600"/>
                </a:lnTo>
                <a:lnTo>
                  <a:pt x="67625" y="20200"/>
                </a:lnTo>
                <a:lnTo>
                  <a:pt x="67625" y="1400"/>
                </a:lnTo>
                <a:close/>
              </a:path>
              <a:path fill="darkenLess" w="69025" h="21600">
                <a:moveTo>
                  <a:pt x="69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25" y="20200"/>
                </a:lnTo>
                <a:close/>
              </a:path>
              <a:path fill="lighten" w="69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025" h="21600">
                <a:moveTo>
                  <a:pt x="27506" y="10800"/>
                </a:moveTo>
                <a:lnTo>
                  <a:pt x="41519" y="3794"/>
                </a:lnTo>
                <a:lnTo>
                  <a:pt x="4151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dur="indefinite" nodeType="afterEffect" fill="hold" presetClass="entr" presetID="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3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8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3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5000"/>
                            </p:stCondLst>
                            <p:childTnLst>
                              <p:par>
                                <p:cTn id="298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0000"/>
                            </p:stCondLst>
                            <p:childTnLst>
                              <p:par>
                                <p:cTn id="303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5000"/>
                            </p:stCondLst>
                            <p:childTnLst>
                              <p:par>
                                <p:cTn id="308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" descr=""/>
          <p:cNvPicPr/>
          <p:nvPr/>
        </p:nvPicPr>
        <p:blipFill>
          <a:blip r:embed="rId1"/>
          <a:stretch/>
        </p:blipFill>
        <p:spPr>
          <a:xfrm>
            <a:off x="79200" y="1387440"/>
            <a:ext cx="7297920" cy="54054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"/>
          <p:cNvSpPr/>
          <p:nvPr/>
        </p:nvSpPr>
        <p:spPr>
          <a:xfrm>
            <a:off x="6102360" y="324000"/>
            <a:ext cx="27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辑全校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724360" y="863640"/>
            <a:ext cx="321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 教师特殊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4021200" y="6009120"/>
            <a:ext cx="1584360" cy="368640"/>
          </a:xfrm>
          <a:prstGeom prst="wedgeRectCallout">
            <a:avLst>
              <a:gd name="adj1" fmla="val -7087"/>
              <a:gd name="adj2" fmla="val -64902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待选教师框中选择教师，按“添加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5929200" y="6005880"/>
            <a:ext cx="1343160" cy="368640"/>
          </a:xfrm>
          <a:prstGeom prst="wedgeRectCallout">
            <a:avLst>
              <a:gd name="adj1" fmla="val -114143"/>
              <a:gd name="adj2" fmla="val -6475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框中选择教师，按“删除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>
            <a:hlinkClick r:id="" action="ppaction://hlinkshowjump?jump=nextslide"/>
          </p:cNvPr>
          <p:cNvSpPr/>
          <p:nvPr/>
        </p:nvSpPr>
        <p:spPr>
          <a:xfrm>
            <a:off x="7524720" y="5868720"/>
            <a:ext cx="1341360" cy="423000"/>
          </a:xfrm>
          <a:custGeom>
            <a:avLst/>
            <a:gdLst>
              <a:gd name="textAreaLeft" fmla="*/ 27360 w 1341360"/>
              <a:gd name="textAreaRight" fmla="*/ 1314000 w 13413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68455" h="21600">
                <a:moveTo>
                  <a:pt x="0" y="0"/>
                </a:moveTo>
                <a:lnTo>
                  <a:pt x="68455" y="0"/>
                </a:lnTo>
                <a:lnTo>
                  <a:pt x="68455" y="21600"/>
                </a:lnTo>
                <a:lnTo>
                  <a:pt x="0" y="21600"/>
                </a:lnTo>
                <a:close/>
              </a:path>
              <a:path fill="lightenLess" w="68455" h="21600">
                <a:moveTo>
                  <a:pt x="0" y="0"/>
                </a:moveTo>
                <a:lnTo>
                  <a:pt x="68455" y="0"/>
                </a:lnTo>
                <a:lnTo>
                  <a:pt x="67055" y="1400"/>
                </a:lnTo>
                <a:lnTo>
                  <a:pt x="1400" y="1400"/>
                </a:lnTo>
                <a:close/>
              </a:path>
              <a:path fill="darken" w="68455" h="21600">
                <a:moveTo>
                  <a:pt x="68455" y="0"/>
                </a:moveTo>
                <a:lnTo>
                  <a:pt x="68455" y="21600"/>
                </a:lnTo>
                <a:lnTo>
                  <a:pt x="67055" y="20200"/>
                </a:lnTo>
                <a:lnTo>
                  <a:pt x="67055" y="1400"/>
                </a:lnTo>
                <a:close/>
              </a:path>
              <a:path fill="darkenLess" w="68455" h="21600">
                <a:moveTo>
                  <a:pt x="68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055" y="20200"/>
                </a:lnTo>
                <a:close/>
              </a:path>
              <a:path fill="lighten" w="68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455" h="21600">
                <a:moveTo>
                  <a:pt x="27221" y="3794"/>
                </a:moveTo>
                <a:lnTo>
                  <a:pt x="41234" y="10800"/>
                </a:lnTo>
                <a:lnTo>
                  <a:pt x="2722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2700360" y="480240"/>
            <a:ext cx="3097080" cy="642600"/>
          </a:xfrm>
          <a:prstGeom prst="wedgeRectCallout">
            <a:avLst>
              <a:gd name="adj1" fmla="val 47578"/>
              <a:gd name="adj2" fmla="val 209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本页编辑完毕按”教师课表指定位置不排“标签，进入“编辑全校条件”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>
            <a:off x="7524720" y="4365720"/>
            <a:ext cx="1351080" cy="468360"/>
          </a:xfrm>
          <a:custGeom>
            <a:avLst/>
            <a:gdLst>
              <a:gd name="textAreaLeft" fmla="*/ 30240 w 1351080"/>
              <a:gd name="textAreaRight" fmla="*/ 1320840 w 135108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62278" h="21600">
                <a:moveTo>
                  <a:pt x="0" y="0"/>
                </a:moveTo>
                <a:lnTo>
                  <a:pt x="62278" y="0"/>
                </a:lnTo>
                <a:lnTo>
                  <a:pt x="62278" y="21600"/>
                </a:lnTo>
                <a:lnTo>
                  <a:pt x="0" y="21600"/>
                </a:lnTo>
                <a:close/>
              </a:path>
              <a:path fill="lightenLess" w="62278" h="21600">
                <a:moveTo>
                  <a:pt x="0" y="0"/>
                </a:moveTo>
                <a:lnTo>
                  <a:pt x="62278" y="0"/>
                </a:lnTo>
                <a:lnTo>
                  <a:pt x="60878" y="1400"/>
                </a:lnTo>
                <a:lnTo>
                  <a:pt x="1400" y="1400"/>
                </a:lnTo>
                <a:close/>
              </a:path>
              <a:path fill="darken" w="62278" h="21600">
                <a:moveTo>
                  <a:pt x="62278" y="0"/>
                </a:moveTo>
                <a:lnTo>
                  <a:pt x="62278" y="21600"/>
                </a:lnTo>
                <a:lnTo>
                  <a:pt x="60878" y="20200"/>
                </a:lnTo>
                <a:lnTo>
                  <a:pt x="60878" y="1400"/>
                </a:lnTo>
                <a:close/>
              </a:path>
              <a:path fill="darkenLess" w="62278" h="21600">
                <a:moveTo>
                  <a:pt x="62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878" y="20200"/>
                </a:lnTo>
                <a:close/>
              </a:path>
              <a:path fill="lighten" w="62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278" h="21600">
                <a:moveTo>
                  <a:pt x="24133" y="10800"/>
                </a:moveTo>
                <a:lnTo>
                  <a:pt x="38146" y="3794"/>
                </a:lnTo>
                <a:lnTo>
                  <a:pt x="3814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2">
            <a:hlinkClick r:id="" action="ppaction://hlinkshowjump?jump=previousslide"/>
          </p:cNvPr>
          <p:cNvSpPr/>
          <p:nvPr/>
        </p:nvSpPr>
        <p:spPr>
          <a:xfrm>
            <a:off x="7524720" y="5157720"/>
            <a:ext cx="1368360" cy="432000"/>
          </a:xfrm>
          <a:custGeom>
            <a:avLst/>
            <a:gdLst>
              <a:gd name="textAreaLeft" fmla="*/ 27720 w 1368360"/>
              <a:gd name="textAreaRight" fmla="*/ 1340640 w 1368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8379" h="21600">
                <a:moveTo>
                  <a:pt x="0" y="0"/>
                </a:moveTo>
                <a:lnTo>
                  <a:pt x="68379" y="0"/>
                </a:lnTo>
                <a:lnTo>
                  <a:pt x="68379" y="21600"/>
                </a:lnTo>
                <a:lnTo>
                  <a:pt x="0" y="21600"/>
                </a:lnTo>
                <a:close/>
              </a:path>
              <a:path fill="lightenLess" w="68379" h="21600">
                <a:moveTo>
                  <a:pt x="0" y="0"/>
                </a:moveTo>
                <a:lnTo>
                  <a:pt x="68379" y="0"/>
                </a:lnTo>
                <a:lnTo>
                  <a:pt x="66979" y="1400"/>
                </a:lnTo>
                <a:lnTo>
                  <a:pt x="1400" y="1400"/>
                </a:lnTo>
                <a:close/>
              </a:path>
              <a:path fill="darken" w="68379" h="21600">
                <a:moveTo>
                  <a:pt x="68379" y="0"/>
                </a:moveTo>
                <a:lnTo>
                  <a:pt x="68379" y="21600"/>
                </a:lnTo>
                <a:lnTo>
                  <a:pt x="66979" y="20200"/>
                </a:lnTo>
                <a:lnTo>
                  <a:pt x="66979" y="1400"/>
                </a:lnTo>
                <a:close/>
              </a:path>
              <a:path fill="darkenLess" w="68379" h="21600">
                <a:moveTo>
                  <a:pt x="68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79" y="20200"/>
                </a:lnTo>
                <a:close/>
              </a:path>
              <a:path fill="lighten" w="68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379" h="21600">
                <a:moveTo>
                  <a:pt x="27183" y="10800"/>
                </a:moveTo>
                <a:lnTo>
                  <a:pt x="41196" y="3794"/>
                </a:lnTo>
                <a:lnTo>
                  <a:pt x="4119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5530680" y="2826360"/>
            <a:ext cx="1182960" cy="368640"/>
          </a:xfrm>
          <a:prstGeom prst="wedgeRectCallout">
            <a:avLst>
              <a:gd name="adj1" fmla="val -145527"/>
              <a:gd name="adj2" fmla="val -11282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慎重选择该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1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图片 2" descr=""/>
          <p:cNvPicPr/>
          <p:nvPr/>
        </p:nvPicPr>
        <p:blipFill>
          <a:blip r:embed="rId1"/>
          <a:stretch/>
        </p:blipFill>
        <p:spPr>
          <a:xfrm>
            <a:off x="100080" y="1241280"/>
            <a:ext cx="7372440" cy="544536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3"/>
          <p:cNvSpPr/>
          <p:nvPr/>
        </p:nvSpPr>
        <p:spPr>
          <a:xfrm>
            <a:off x="5580000" y="189000"/>
            <a:ext cx="165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辑       全校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7164360" y="18900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 教师指定位置不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100080" y="277560"/>
            <a:ext cx="1027080" cy="642600"/>
          </a:xfrm>
          <a:prstGeom prst="wedgeRectCallout">
            <a:avLst>
              <a:gd name="adj1" fmla="val 34162"/>
              <a:gd name="adj2" fmla="val 2445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状态”为“添加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1192320" y="331560"/>
            <a:ext cx="2306520" cy="642600"/>
          </a:xfrm>
          <a:prstGeom prst="wedgeRectCallout">
            <a:avLst>
              <a:gd name="adj1" fmla="val 59518"/>
              <a:gd name="adj2" fmla="val 2785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若在教师框中选择教师，就在“待选教师”框中选择教师，按“添加教师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>
            <a:hlinkClick r:id="" action="ppaction://hlinkshowjump?jump=nextslide"/>
          </p:cNvPr>
          <p:cNvSpPr/>
          <p:nvPr/>
        </p:nvSpPr>
        <p:spPr>
          <a:xfrm>
            <a:off x="7885080" y="6157440"/>
            <a:ext cx="1079640" cy="423000"/>
          </a:xfrm>
          <a:custGeom>
            <a:avLst/>
            <a:gdLst>
              <a:gd name="textAreaLeft" fmla="*/ 27360 w 1079640"/>
              <a:gd name="textAreaRight" fmla="*/ 1052280 w 10796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55102" h="21600">
                <a:moveTo>
                  <a:pt x="0" y="0"/>
                </a:moveTo>
                <a:lnTo>
                  <a:pt x="55102" y="0"/>
                </a:lnTo>
                <a:lnTo>
                  <a:pt x="55102" y="21600"/>
                </a:lnTo>
                <a:lnTo>
                  <a:pt x="0" y="21600"/>
                </a:lnTo>
                <a:close/>
              </a:path>
              <a:path fill="lightenLess" w="55102" h="21600">
                <a:moveTo>
                  <a:pt x="0" y="0"/>
                </a:moveTo>
                <a:lnTo>
                  <a:pt x="55102" y="0"/>
                </a:lnTo>
                <a:lnTo>
                  <a:pt x="53702" y="1400"/>
                </a:lnTo>
                <a:lnTo>
                  <a:pt x="1400" y="1400"/>
                </a:lnTo>
                <a:close/>
              </a:path>
              <a:path fill="darken" w="55102" h="21600">
                <a:moveTo>
                  <a:pt x="55102" y="0"/>
                </a:moveTo>
                <a:lnTo>
                  <a:pt x="55102" y="21600"/>
                </a:lnTo>
                <a:lnTo>
                  <a:pt x="53702" y="20200"/>
                </a:lnTo>
                <a:lnTo>
                  <a:pt x="53702" y="1400"/>
                </a:lnTo>
                <a:close/>
              </a:path>
              <a:path fill="darkenLess" w="55102" h="21600">
                <a:moveTo>
                  <a:pt x="551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02" y="20200"/>
                </a:lnTo>
                <a:close/>
              </a:path>
              <a:path fill="lighten" w="551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102" h="21600">
                <a:moveTo>
                  <a:pt x="20545" y="3794"/>
                </a:moveTo>
                <a:lnTo>
                  <a:pt x="34558" y="10800"/>
                </a:lnTo>
                <a:lnTo>
                  <a:pt x="2054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179280" y="5441760"/>
            <a:ext cx="2700360" cy="642600"/>
          </a:xfrm>
          <a:prstGeom prst="wedgeRectCallout">
            <a:avLst>
              <a:gd name="adj1" fmla="val -30152"/>
              <a:gd name="adj2" fmla="val -2072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小课表中选择本次“不排”的节次，在已选节次上单击则撤销选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1547640" y="4001760"/>
            <a:ext cx="1727280" cy="368640"/>
          </a:xfrm>
          <a:prstGeom prst="wedgeRectCallout">
            <a:avLst>
              <a:gd name="adj1" fmla="val -41981"/>
              <a:gd name="adj2" fmla="val -3320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或输入不排的原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0"/>
          <p:cNvSpPr/>
          <p:nvPr/>
        </p:nvSpPr>
        <p:spPr>
          <a:xfrm>
            <a:off x="7740720" y="2967120"/>
            <a:ext cx="1403280" cy="917280"/>
          </a:xfrm>
          <a:prstGeom prst="wedgeRectCallout">
            <a:avLst>
              <a:gd name="adj1" fmla="val -237300"/>
              <a:gd name="adj2" fmla="val -10331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若选某年级某课程教师教师，就在“年级”框中选择年级，在“课程”框中选择课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1"/>
          <p:cNvSpPr/>
          <p:nvPr/>
        </p:nvSpPr>
        <p:spPr>
          <a:xfrm>
            <a:off x="7885080" y="1399320"/>
            <a:ext cx="1258920" cy="368640"/>
          </a:xfrm>
          <a:prstGeom prst="wedgeRectCallout">
            <a:avLst>
              <a:gd name="adj1" fmla="val -107060"/>
              <a:gd name="adj2" fmla="val 1956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最后按“添加确定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2"/>
          <p:cNvSpPr/>
          <p:nvPr/>
        </p:nvSpPr>
        <p:spPr>
          <a:xfrm>
            <a:off x="3564000" y="331560"/>
            <a:ext cx="2119320" cy="642600"/>
          </a:xfrm>
          <a:prstGeom prst="wedgeRectCallout">
            <a:avLst>
              <a:gd name="adj1" fmla="val 102203"/>
              <a:gd name="adj2" fmla="val 2015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本页编辑完毕按”统一课“标签，进入“编辑全校条件”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3"/>
          <p:cNvSpPr/>
          <p:nvPr/>
        </p:nvSpPr>
        <p:spPr>
          <a:xfrm>
            <a:off x="7885080" y="4941720"/>
            <a:ext cx="1089000" cy="424080"/>
          </a:xfrm>
          <a:custGeom>
            <a:avLst/>
            <a:gdLst>
              <a:gd name="textAreaLeft" fmla="*/ 27360 w 1089000"/>
              <a:gd name="textAreaRight" fmla="*/ 1061640 w 1089000"/>
              <a:gd name="textAreaTop" fmla="*/ 27360 h 424080"/>
              <a:gd name="textAreaBottom" fmla="*/ 396720 h 424080"/>
            </a:gdLst>
            <a:ahLst/>
            <a:rect l="textAreaLeft" t="textAreaTop" r="textAreaRight" b="textAreaBottom"/>
            <a:pathLst>
              <a:path w="55438" h="21600">
                <a:moveTo>
                  <a:pt x="0" y="0"/>
                </a:moveTo>
                <a:lnTo>
                  <a:pt x="55438" y="0"/>
                </a:lnTo>
                <a:lnTo>
                  <a:pt x="55438" y="21600"/>
                </a:lnTo>
                <a:lnTo>
                  <a:pt x="0" y="21600"/>
                </a:lnTo>
                <a:close/>
              </a:path>
              <a:path fill="lightenLess" w="55438" h="21600">
                <a:moveTo>
                  <a:pt x="0" y="0"/>
                </a:moveTo>
                <a:lnTo>
                  <a:pt x="55438" y="0"/>
                </a:lnTo>
                <a:lnTo>
                  <a:pt x="54038" y="1400"/>
                </a:lnTo>
                <a:lnTo>
                  <a:pt x="1400" y="1400"/>
                </a:lnTo>
                <a:close/>
              </a:path>
              <a:path fill="darken" w="55438" h="21600">
                <a:moveTo>
                  <a:pt x="55438" y="0"/>
                </a:moveTo>
                <a:lnTo>
                  <a:pt x="55438" y="21600"/>
                </a:lnTo>
                <a:lnTo>
                  <a:pt x="54038" y="20200"/>
                </a:lnTo>
                <a:lnTo>
                  <a:pt x="54038" y="1400"/>
                </a:lnTo>
                <a:close/>
              </a:path>
              <a:path fill="darkenLess" w="55438" h="21600">
                <a:moveTo>
                  <a:pt x="554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038" y="20200"/>
                </a:lnTo>
                <a:close/>
              </a:path>
              <a:path fill="lighten" w="554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438" h="21600">
                <a:moveTo>
                  <a:pt x="20713" y="10800"/>
                </a:moveTo>
                <a:lnTo>
                  <a:pt x="34726" y="3794"/>
                </a:lnTo>
                <a:lnTo>
                  <a:pt x="3472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7">
            <a:hlinkClick r:id="" action="ppaction://hlinkshowjump?jump=previousslide"/>
          </p:cNvPr>
          <p:cNvSpPr/>
          <p:nvPr/>
        </p:nvSpPr>
        <p:spPr>
          <a:xfrm>
            <a:off x="7885080" y="5589720"/>
            <a:ext cx="1079640" cy="358560"/>
          </a:xfrm>
          <a:custGeom>
            <a:avLst/>
            <a:gdLst>
              <a:gd name="textAreaLeft" fmla="*/ 23040 w 1079640"/>
              <a:gd name="textAreaRight" fmla="*/ 1056600 w 1079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64995" h="21600">
                <a:moveTo>
                  <a:pt x="0" y="0"/>
                </a:moveTo>
                <a:lnTo>
                  <a:pt x="64995" y="0"/>
                </a:lnTo>
                <a:lnTo>
                  <a:pt x="64995" y="21600"/>
                </a:lnTo>
                <a:lnTo>
                  <a:pt x="0" y="21600"/>
                </a:lnTo>
                <a:close/>
              </a:path>
              <a:path fill="lightenLess" w="64995" h="21600">
                <a:moveTo>
                  <a:pt x="0" y="0"/>
                </a:moveTo>
                <a:lnTo>
                  <a:pt x="64995" y="0"/>
                </a:lnTo>
                <a:lnTo>
                  <a:pt x="63595" y="1400"/>
                </a:lnTo>
                <a:lnTo>
                  <a:pt x="1400" y="1400"/>
                </a:lnTo>
                <a:close/>
              </a:path>
              <a:path fill="darken" w="64995" h="21600">
                <a:moveTo>
                  <a:pt x="64995" y="0"/>
                </a:moveTo>
                <a:lnTo>
                  <a:pt x="64995" y="21600"/>
                </a:lnTo>
                <a:lnTo>
                  <a:pt x="63595" y="20200"/>
                </a:lnTo>
                <a:lnTo>
                  <a:pt x="63595" y="1400"/>
                </a:lnTo>
                <a:close/>
              </a:path>
              <a:path fill="darkenLess" w="64995" h="21600">
                <a:moveTo>
                  <a:pt x="649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595" y="20200"/>
                </a:lnTo>
                <a:close/>
              </a:path>
              <a:path fill="lighten" w="649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995" h="21600">
                <a:moveTo>
                  <a:pt x="25491" y="10800"/>
                </a:moveTo>
                <a:lnTo>
                  <a:pt x="39504" y="3794"/>
                </a:lnTo>
                <a:lnTo>
                  <a:pt x="3950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4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9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4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359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5000"/>
                            </p:stCondLst>
                            <p:childTnLst>
                              <p:par>
                                <p:cTn id="364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0000"/>
                            </p:stCondLst>
                            <p:childTnLst>
                              <p:par>
                                <p:cTn id="369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3" descr=""/>
          <p:cNvPicPr/>
          <p:nvPr/>
        </p:nvPicPr>
        <p:blipFill>
          <a:blip r:embed="rId1"/>
          <a:stretch/>
        </p:blipFill>
        <p:spPr>
          <a:xfrm>
            <a:off x="104760" y="1035000"/>
            <a:ext cx="7707240" cy="56944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3"/>
          <p:cNvSpPr/>
          <p:nvPr/>
        </p:nvSpPr>
        <p:spPr>
          <a:xfrm>
            <a:off x="4140360" y="0"/>
            <a:ext cx="1512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辑     全校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5508720" y="115920"/>
            <a:ext cx="104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 统一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179280" y="192960"/>
            <a:ext cx="1368360" cy="642600"/>
          </a:xfrm>
          <a:prstGeom prst="wedgeRectCallout">
            <a:avLst>
              <a:gd name="adj1" fmla="val 17726"/>
              <a:gd name="adj2" fmla="val 24143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状态”为“添加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6"/>
          <p:cNvSpPr/>
          <p:nvPr/>
        </p:nvSpPr>
        <p:spPr>
          <a:xfrm>
            <a:off x="4427640" y="5664600"/>
            <a:ext cx="2520720" cy="368640"/>
          </a:xfrm>
          <a:prstGeom prst="wedgeRectCallout">
            <a:avLst>
              <a:gd name="adj1" fmla="val -63847"/>
              <a:gd name="adj2" fmla="val 216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教师（可多选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7">
            <a:hlinkClick r:id="" action="ppaction://hlinkshowjump?jump=nextslide"/>
          </p:cNvPr>
          <p:cNvSpPr/>
          <p:nvPr/>
        </p:nvSpPr>
        <p:spPr>
          <a:xfrm>
            <a:off x="8015400" y="6391440"/>
            <a:ext cx="960480" cy="423000"/>
          </a:xfrm>
          <a:custGeom>
            <a:avLst/>
            <a:gdLst>
              <a:gd name="textAreaLeft" fmla="*/ 27360 w 960480"/>
              <a:gd name="textAreaRight" fmla="*/ 933120 w 96048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9022" h="21600">
                <a:moveTo>
                  <a:pt x="0" y="0"/>
                </a:moveTo>
                <a:lnTo>
                  <a:pt x="49022" y="0"/>
                </a:lnTo>
                <a:lnTo>
                  <a:pt x="49022" y="21600"/>
                </a:lnTo>
                <a:lnTo>
                  <a:pt x="0" y="21600"/>
                </a:lnTo>
                <a:close/>
              </a:path>
              <a:path fill="lightenLess" w="49022" h="21600">
                <a:moveTo>
                  <a:pt x="0" y="0"/>
                </a:moveTo>
                <a:lnTo>
                  <a:pt x="49022" y="0"/>
                </a:lnTo>
                <a:lnTo>
                  <a:pt x="47622" y="1400"/>
                </a:lnTo>
                <a:lnTo>
                  <a:pt x="1400" y="1400"/>
                </a:lnTo>
                <a:close/>
              </a:path>
              <a:path fill="darken" w="49022" h="21600">
                <a:moveTo>
                  <a:pt x="49022" y="0"/>
                </a:moveTo>
                <a:lnTo>
                  <a:pt x="49022" y="21600"/>
                </a:lnTo>
                <a:lnTo>
                  <a:pt x="47622" y="20200"/>
                </a:lnTo>
                <a:lnTo>
                  <a:pt x="47622" y="1400"/>
                </a:lnTo>
                <a:close/>
              </a:path>
              <a:path fill="darkenLess" w="49022" h="21600">
                <a:moveTo>
                  <a:pt x="490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22" y="20200"/>
                </a:lnTo>
                <a:close/>
              </a:path>
              <a:path fill="lighten" w="490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022" h="21600">
                <a:moveTo>
                  <a:pt x="17505" y="3794"/>
                </a:moveTo>
                <a:lnTo>
                  <a:pt x="31518" y="10800"/>
                </a:lnTo>
                <a:lnTo>
                  <a:pt x="1750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8"/>
          <p:cNvSpPr/>
          <p:nvPr/>
        </p:nvSpPr>
        <p:spPr>
          <a:xfrm>
            <a:off x="7885080" y="2424240"/>
            <a:ext cx="1116000" cy="855360"/>
          </a:xfrm>
          <a:prstGeom prst="wedgeRectCallout">
            <a:avLst>
              <a:gd name="adj1" fmla="val -331356"/>
              <a:gd name="adj2" fmla="val -2926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若选择“确定节次的方式”为“自动确定”，就再选择“每周节数”，系统自动在小课表中选择节次。一般选择“人工确定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4427640" y="5232960"/>
            <a:ext cx="1944720" cy="368640"/>
          </a:xfrm>
          <a:prstGeom prst="wedgeRectCallout">
            <a:avLst>
              <a:gd name="adj1" fmla="val -135041"/>
              <a:gd name="adj2" fmla="val -664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0"/>
          <p:cNvSpPr/>
          <p:nvPr/>
        </p:nvSpPr>
        <p:spPr>
          <a:xfrm>
            <a:off x="5003640" y="4722480"/>
            <a:ext cx="1873440" cy="368640"/>
          </a:xfrm>
          <a:prstGeom prst="wedgeRectCallout">
            <a:avLst>
              <a:gd name="adj1" fmla="val -232611"/>
              <a:gd name="adj2" fmla="val -469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年级或班级（可多选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1"/>
          <p:cNvSpPr/>
          <p:nvPr/>
        </p:nvSpPr>
        <p:spPr>
          <a:xfrm>
            <a:off x="6948360" y="4852800"/>
            <a:ext cx="863640" cy="642600"/>
          </a:xfrm>
          <a:prstGeom prst="wedgeRectCallout">
            <a:avLst>
              <a:gd name="adj1" fmla="val -64874"/>
              <a:gd name="adj2" fmla="val 167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最后按“添加确定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2"/>
          <p:cNvSpPr/>
          <p:nvPr/>
        </p:nvSpPr>
        <p:spPr>
          <a:xfrm>
            <a:off x="5796000" y="1784520"/>
            <a:ext cx="2017800" cy="855360"/>
          </a:xfrm>
          <a:prstGeom prst="wedgeRectCallout">
            <a:avLst>
              <a:gd name="adj1" fmla="val -102314"/>
              <a:gd name="adj2" fmla="val 123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若选择“确定节次的方式”为“人工确定”，就在小课表中选择节次，在已选节次上单击则撤销选择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3"/>
          <p:cNvSpPr/>
          <p:nvPr/>
        </p:nvSpPr>
        <p:spPr>
          <a:xfrm>
            <a:off x="1692360" y="315000"/>
            <a:ext cx="2374920" cy="368280"/>
          </a:xfrm>
          <a:prstGeom prst="wedgeRectCallout">
            <a:avLst>
              <a:gd name="adj1" fmla="val -27814"/>
              <a:gd name="adj2" fmla="val 3040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按”下步“按钮进入“编辑班级数据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4"/>
          <p:cNvSpPr/>
          <p:nvPr/>
        </p:nvSpPr>
        <p:spPr>
          <a:xfrm>
            <a:off x="7956720" y="5157720"/>
            <a:ext cx="936360" cy="432000"/>
          </a:xfrm>
          <a:custGeom>
            <a:avLst/>
            <a:gdLst>
              <a:gd name="textAreaLeft" fmla="*/ 27720 w 936360"/>
              <a:gd name="textAreaRight" fmla="*/ 908640 w 93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6797" h="21600">
                <a:moveTo>
                  <a:pt x="0" y="0"/>
                </a:moveTo>
                <a:lnTo>
                  <a:pt x="46797" y="0"/>
                </a:lnTo>
                <a:lnTo>
                  <a:pt x="46797" y="21600"/>
                </a:lnTo>
                <a:lnTo>
                  <a:pt x="0" y="21600"/>
                </a:lnTo>
                <a:close/>
              </a:path>
              <a:path fill="lightenLess" w="46797" h="21600">
                <a:moveTo>
                  <a:pt x="0" y="0"/>
                </a:moveTo>
                <a:lnTo>
                  <a:pt x="46797" y="0"/>
                </a:lnTo>
                <a:lnTo>
                  <a:pt x="45397" y="1400"/>
                </a:lnTo>
                <a:lnTo>
                  <a:pt x="1400" y="1400"/>
                </a:lnTo>
                <a:close/>
              </a:path>
              <a:path fill="darken" w="46797" h="21600">
                <a:moveTo>
                  <a:pt x="46797" y="0"/>
                </a:moveTo>
                <a:lnTo>
                  <a:pt x="46797" y="21600"/>
                </a:lnTo>
                <a:lnTo>
                  <a:pt x="45397" y="20200"/>
                </a:lnTo>
                <a:lnTo>
                  <a:pt x="45397" y="1400"/>
                </a:lnTo>
                <a:close/>
              </a:path>
              <a:path fill="darkenLess" w="46797" h="21600">
                <a:moveTo>
                  <a:pt x="46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7" y="20200"/>
                </a:lnTo>
                <a:close/>
              </a:path>
              <a:path fill="lighten" w="46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7" h="21600">
                <a:moveTo>
                  <a:pt x="16392" y="10800"/>
                </a:moveTo>
                <a:lnTo>
                  <a:pt x="30405" y="3794"/>
                </a:lnTo>
                <a:lnTo>
                  <a:pt x="3040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7"/>
          <p:cNvSpPr/>
          <p:nvPr/>
        </p:nvSpPr>
        <p:spPr>
          <a:xfrm>
            <a:off x="6588000" y="278280"/>
            <a:ext cx="2556000" cy="368640"/>
          </a:xfrm>
          <a:prstGeom prst="wedgeRectCallout">
            <a:avLst>
              <a:gd name="adj1" fmla="val -5782"/>
              <a:gd name="adj2" fmla="val -624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若干个班级在统一时间由统一的教师上统一课程，这样的课叫统一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4">
            <a:hlinkClick r:id="" action="ppaction://hlinkshowjump?jump=previousslide"/>
          </p:cNvPr>
          <p:cNvSpPr/>
          <p:nvPr/>
        </p:nvSpPr>
        <p:spPr>
          <a:xfrm>
            <a:off x="8028000" y="5805360"/>
            <a:ext cx="936720" cy="360360"/>
          </a:xfrm>
          <a:custGeom>
            <a:avLst/>
            <a:gdLst>
              <a:gd name="textAreaLeft" fmla="*/ 23040 w 936720"/>
              <a:gd name="textAreaRight" fmla="*/ 913680 w 936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6113" h="21600">
                <a:moveTo>
                  <a:pt x="0" y="0"/>
                </a:moveTo>
                <a:lnTo>
                  <a:pt x="56113" y="0"/>
                </a:lnTo>
                <a:lnTo>
                  <a:pt x="56113" y="21600"/>
                </a:lnTo>
                <a:lnTo>
                  <a:pt x="0" y="21600"/>
                </a:lnTo>
                <a:close/>
              </a:path>
              <a:path fill="lightenLess" w="56113" h="21600">
                <a:moveTo>
                  <a:pt x="0" y="0"/>
                </a:moveTo>
                <a:lnTo>
                  <a:pt x="56113" y="0"/>
                </a:lnTo>
                <a:lnTo>
                  <a:pt x="54713" y="1400"/>
                </a:lnTo>
                <a:lnTo>
                  <a:pt x="1400" y="1400"/>
                </a:lnTo>
                <a:close/>
              </a:path>
              <a:path fill="darken" w="56113" h="21600">
                <a:moveTo>
                  <a:pt x="56113" y="0"/>
                </a:moveTo>
                <a:lnTo>
                  <a:pt x="56113" y="21600"/>
                </a:lnTo>
                <a:lnTo>
                  <a:pt x="54713" y="20200"/>
                </a:lnTo>
                <a:lnTo>
                  <a:pt x="54713" y="1400"/>
                </a:lnTo>
                <a:close/>
              </a:path>
              <a:path fill="darkenLess" w="56113" h="21600">
                <a:moveTo>
                  <a:pt x="561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3" y="20200"/>
                </a:lnTo>
                <a:close/>
              </a:path>
              <a:path fill="lighten" w="561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13" h="21600">
                <a:moveTo>
                  <a:pt x="21050" y="10800"/>
                </a:moveTo>
                <a:lnTo>
                  <a:pt x="35063" y="3794"/>
                </a:lnTo>
                <a:lnTo>
                  <a:pt x="3506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000"/>
                            </p:stCondLst>
                            <p:childTnLst>
                              <p:par>
                                <p:cTn id="382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8000"/>
                            </p:stCondLst>
                            <p:childTnLst>
                              <p:par>
                                <p:cTn id="387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2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8000"/>
                            </p:stCondLst>
                            <p:childTnLst>
                              <p:par>
                                <p:cTn id="397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3000"/>
                            </p:stCondLst>
                            <p:childTnLst>
                              <p:par>
                                <p:cTn id="402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8000"/>
                            </p:stCondLst>
                            <p:childTnLst>
                              <p:par>
                                <p:cTn id="407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33000"/>
                            </p:stCondLst>
                            <p:childTnLst>
                              <p:par>
                                <p:cTn id="412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8000"/>
                            </p:stCondLst>
                            <p:childTnLst>
                              <p:par>
                                <p:cTn id="417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图片 1" descr=""/>
          <p:cNvPicPr/>
          <p:nvPr/>
        </p:nvPicPr>
        <p:blipFill>
          <a:blip r:embed="rId1"/>
          <a:stretch/>
        </p:blipFill>
        <p:spPr>
          <a:xfrm>
            <a:off x="123840" y="1177920"/>
            <a:ext cx="7254720" cy="462744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3"/>
          <p:cNvSpPr/>
          <p:nvPr/>
        </p:nvSpPr>
        <p:spPr>
          <a:xfrm>
            <a:off x="5940360" y="189000"/>
            <a:ext cx="266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编辑班级数据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逐班输入数据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1908000" y="330120"/>
            <a:ext cx="936720" cy="368640"/>
          </a:xfrm>
          <a:prstGeom prst="wedgeRectCallout">
            <a:avLst>
              <a:gd name="adj1" fmla="val -150111"/>
              <a:gd name="adj2" fmla="val 5536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班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5"/>
          <p:cNvSpPr/>
          <p:nvPr/>
        </p:nvSpPr>
        <p:spPr>
          <a:xfrm>
            <a:off x="1908000" y="5880600"/>
            <a:ext cx="1584360" cy="368640"/>
          </a:xfrm>
          <a:prstGeom prst="wedgeRectCallout">
            <a:avLst>
              <a:gd name="adj1" fmla="val -523"/>
              <a:gd name="adj2" fmla="val -3278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6">
            <a:hlinkClick r:id="" action="ppaction://hlinkshowjump?jump=nextslide"/>
          </p:cNvPr>
          <p:cNvSpPr/>
          <p:nvPr/>
        </p:nvSpPr>
        <p:spPr>
          <a:xfrm>
            <a:off x="8317080" y="6300360"/>
            <a:ext cx="684000" cy="423000"/>
          </a:xfrm>
          <a:custGeom>
            <a:avLst/>
            <a:gdLst>
              <a:gd name="textAreaLeft" fmla="*/ 27360 w 684000"/>
              <a:gd name="textAreaRight" fmla="*/ 656640 w 68400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34916" h="21600">
                <a:moveTo>
                  <a:pt x="0" y="0"/>
                </a:moveTo>
                <a:lnTo>
                  <a:pt x="34916" y="0"/>
                </a:lnTo>
                <a:lnTo>
                  <a:pt x="34916" y="21600"/>
                </a:lnTo>
                <a:lnTo>
                  <a:pt x="0" y="21600"/>
                </a:lnTo>
                <a:close/>
              </a:path>
              <a:path fill="lightenLess" w="34916" h="21600">
                <a:moveTo>
                  <a:pt x="0" y="0"/>
                </a:moveTo>
                <a:lnTo>
                  <a:pt x="34916" y="0"/>
                </a:lnTo>
                <a:lnTo>
                  <a:pt x="33516" y="1400"/>
                </a:lnTo>
                <a:lnTo>
                  <a:pt x="1400" y="1400"/>
                </a:lnTo>
                <a:close/>
              </a:path>
              <a:path fill="darken" w="34916" h="21600">
                <a:moveTo>
                  <a:pt x="34916" y="0"/>
                </a:moveTo>
                <a:lnTo>
                  <a:pt x="34916" y="21600"/>
                </a:lnTo>
                <a:lnTo>
                  <a:pt x="33516" y="20200"/>
                </a:lnTo>
                <a:lnTo>
                  <a:pt x="33516" y="1400"/>
                </a:lnTo>
                <a:close/>
              </a:path>
              <a:path fill="darkenLess" w="34916" h="21600">
                <a:moveTo>
                  <a:pt x="34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16" y="20200"/>
                </a:lnTo>
                <a:close/>
              </a:path>
              <a:path fill="lighten" w="34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16" h="21600">
                <a:moveTo>
                  <a:pt x="10452" y="3794"/>
                </a:moveTo>
                <a:lnTo>
                  <a:pt x="24465" y="10800"/>
                </a:lnTo>
                <a:lnTo>
                  <a:pt x="1045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7524720" y="5069520"/>
            <a:ext cx="1440000" cy="642600"/>
          </a:xfrm>
          <a:prstGeom prst="wedgeRectCallout">
            <a:avLst>
              <a:gd name="adj1" fmla="val -280240"/>
              <a:gd name="adj2" fmla="val 415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输入本班的所有课程，一定要使“未确定节数”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8"/>
          <p:cNvSpPr/>
          <p:nvPr/>
        </p:nvSpPr>
        <p:spPr>
          <a:xfrm>
            <a:off x="0" y="5880600"/>
            <a:ext cx="1655640" cy="368640"/>
          </a:xfrm>
          <a:prstGeom prst="wedgeRectCallout">
            <a:avLst>
              <a:gd name="adj1" fmla="val 32824"/>
              <a:gd name="adj2" fmla="val -53282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2195640" y="6385320"/>
            <a:ext cx="2160360" cy="368640"/>
          </a:xfrm>
          <a:prstGeom prst="wedgeRectCallout">
            <a:avLst>
              <a:gd name="adj1" fmla="val 73972"/>
              <a:gd name="adj2" fmla="val -3922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添加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0"/>
          <p:cNvSpPr/>
          <p:nvPr/>
        </p:nvSpPr>
        <p:spPr>
          <a:xfrm>
            <a:off x="7524720" y="1534320"/>
            <a:ext cx="1511280" cy="1191600"/>
          </a:xfrm>
          <a:prstGeom prst="wedgeRectCallout">
            <a:avLst>
              <a:gd name="adj1" fmla="val -135277"/>
              <a:gd name="adj2" fmla="val 3444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若有“合教教师”就在“教师”框选择教师，在右边表格中选择需要的位置，再按“修改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1"/>
          <p:cNvSpPr/>
          <p:nvPr/>
        </p:nvSpPr>
        <p:spPr>
          <a:xfrm>
            <a:off x="2916360" y="330120"/>
            <a:ext cx="2950920" cy="368640"/>
          </a:xfrm>
          <a:prstGeom prst="wedgeRectCallout">
            <a:avLst>
              <a:gd name="adj1" fmla="val -80125"/>
              <a:gd name="adj2" fmla="val 3002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本页编辑完毕按”下步“按钮，进入“排课调课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2"/>
          <p:cNvSpPr/>
          <p:nvPr/>
        </p:nvSpPr>
        <p:spPr>
          <a:xfrm>
            <a:off x="179280" y="6385320"/>
            <a:ext cx="1944720" cy="368640"/>
          </a:xfrm>
          <a:prstGeom prst="wedgeRectCallout">
            <a:avLst>
              <a:gd name="adj1" fmla="val 23291"/>
              <a:gd name="adj2" fmla="val -2951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每周节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4"/>
          <p:cNvSpPr/>
          <p:nvPr/>
        </p:nvSpPr>
        <p:spPr>
          <a:xfrm>
            <a:off x="6588000" y="6308640"/>
            <a:ext cx="790560" cy="433440"/>
          </a:xfrm>
          <a:custGeom>
            <a:avLst/>
            <a:gdLst>
              <a:gd name="textAreaLeft" fmla="*/ 28080 w 790560"/>
              <a:gd name="textAreaRight" fmla="*/ 762480 w 7905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9382" h="21600">
                <a:moveTo>
                  <a:pt x="0" y="0"/>
                </a:moveTo>
                <a:lnTo>
                  <a:pt x="39382" y="0"/>
                </a:lnTo>
                <a:lnTo>
                  <a:pt x="39382" y="21600"/>
                </a:lnTo>
                <a:lnTo>
                  <a:pt x="0" y="21600"/>
                </a:lnTo>
                <a:close/>
              </a:path>
              <a:path fill="lightenLess" w="39382" h="21600">
                <a:moveTo>
                  <a:pt x="0" y="0"/>
                </a:moveTo>
                <a:lnTo>
                  <a:pt x="39382" y="0"/>
                </a:lnTo>
                <a:lnTo>
                  <a:pt x="37982" y="1400"/>
                </a:lnTo>
                <a:lnTo>
                  <a:pt x="1400" y="1400"/>
                </a:lnTo>
                <a:close/>
              </a:path>
              <a:path fill="darken" w="39382" h="21600">
                <a:moveTo>
                  <a:pt x="39382" y="0"/>
                </a:moveTo>
                <a:lnTo>
                  <a:pt x="39382" y="21600"/>
                </a:lnTo>
                <a:lnTo>
                  <a:pt x="37982" y="20200"/>
                </a:lnTo>
                <a:lnTo>
                  <a:pt x="37982" y="1400"/>
                </a:lnTo>
                <a:close/>
              </a:path>
              <a:path fill="darkenLess" w="39382" h="21600">
                <a:moveTo>
                  <a:pt x="39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82" y="20200"/>
                </a:lnTo>
                <a:close/>
              </a:path>
              <a:path fill="lighten" w="39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382" h="21600">
                <a:moveTo>
                  <a:pt x="12684" y="10800"/>
                </a:moveTo>
                <a:lnTo>
                  <a:pt x="26697" y="3794"/>
                </a:lnTo>
                <a:lnTo>
                  <a:pt x="2669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5"/>
          <p:cNvSpPr/>
          <p:nvPr/>
        </p:nvSpPr>
        <p:spPr>
          <a:xfrm>
            <a:off x="179280" y="278280"/>
            <a:ext cx="1656000" cy="368640"/>
          </a:xfrm>
          <a:prstGeom prst="wedgeRectCallout">
            <a:avLst>
              <a:gd name="adj1" fmla="val -38680"/>
              <a:gd name="adj2" fmla="val 3927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先选择工作状态，可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导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8"/>
          <p:cNvSpPr/>
          <p:nvPr/>
        </p:nvSpPr>
        <p:spPr>
          <a:xfrm>
            <a:off x="7524720" y="3731400"/>
            <a:ext cx="1476360" cy="642600"/>
          </a:xfrm>
          <a:prstGeom prst="wedgeRectCallout">
            <a:avLst>
              <a:gd name="adj1" fmla="val -218111"/>
              <a:gd name="adj2" fmla="val -11544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若有补课就 用“修改”功能输入补课节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9"/>
          <p:cNvSpPr/>
          <p:nvPr/>
        </p:nvSpPr>
        <p:spPr>
          <a:xfrm>
            <a:off x="4427640" y="5970600"/>
            <a:ext cx="2087640" cy="642600"/>
          </a:xfrm>
          <a:prstGeom prst="wedgeRectCallout">
            <a:avLst>
              <a:gd name="adj1" fmla="val 9842"/>
              <a:gd name="adj2" fmla="val -1571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复制”按钮可以把本班数据复制到其他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0">
            <a:hlinkClick r:id="" action="ppaction://hlinkshowjump?jump=previousslide"/>
          </p:cNvPr>
          <p:cNvSpPr/>
          <p:nvPr/>
        </p:nvSpPr>
        <p:spPr>
          <a:xfrm>
            <a:off x="7451640" y="6308640"/>
            <a:ext cx="720720" cy="433440"/>
          </a:xfrm>
          <a:custGeom>
            <a:avLst/>
            <a:gdLst>
              <a:gd name="textAreaLeft" fmla="*/ 28080 w 720720"/>
              <a:gd name="textAreaRight" fmla="*/ 692640 w 720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5904" h="21600">
                <a:moveTo>
                  <a:pt x="0" y="0"/>
                </a:moveTo>
                <a:lnTo>
                  <a:pt x="35904" y="0"/>
                </a:lnTo>
                <a:lnTo>
                  <a:pt x="35904" y="21600"/>
                </a:lnTo>
                <a:lnTo>
                  <a:pt x="0" y="21600"/>
                </a:lnTo>
                <a:close/>
              </a:path>
              <a:path fill="lightenLess" w="35904" h="21600">
                <a:moveTo>
                  <a:pt x="0" y="0"/>
                </a:moveTo>
                <a:lnTo>
                  <a:pt x="35904" y="0"/>
                </a:lnTo>
                <a:lnTo>
                  <a:pt x="34504" y="1400"/>
                </a:lnTo>
                <a:lnTo>
                  <a:pt x="1400" y="1400"/>
                </a:lnTo>
                <a:close/>
              </a:path>
              <a:path fill="darken" w="35904" h="21600">
                <a:moveTo>
                  <a:pt x="35904" y="0"/>
                </a:moveTo>
                <a:lnTo>
                  <a:pt x="35904" y="21600"/>
                </a:lnTo>
                <a:lnTo>
                  <a:pt x="34504" y="20200"/>
                </a:lnTo>
                <a:lnTo>
                  <a:pt x="34504" y="1400"/>
                </a:lnTo>
                <a:close/>
              </a:path>
              <a:path fill="darkenLess" w="35904" h="21600">
                <a:moveTo>
                  <a:pt x="359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04" y="20200"/>
                </a:lnTo>
                <a:close/>
              </a:path>
              <a:path fill="lighten" w="359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04" h="21600">
                <a:moveTo>
                  <a:pt x="10946" y="10800"/>
                </a:moveTo>
                <a:lnTo>
                  <a:pt x="24959" y="3794"/>
                </a:lnTo>
                <a:lnTo>
                  <a:pt x="2495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3000"/>
                            </p:stCondLst>
                            <p:childTnLst>
                              <p:par>
                                <p:cTn id="430" dur="indefinite" nodeType="afterEffect" fill="hold" presetClass="entr" presetID="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5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0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0000"/>
                            </p:stCondLst>
                            <p:childTnLst>
                              <p:par>
                                <p:cTn id="445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5000"/>
                            </p:stCondLst>
                            <p:childTnLst>
                              <p:par>
                                <p:cTn id="450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0000"/>
                            </p:stCondLst>
                            <p:childTnLst>
                              <p:par>
                                <p:cTn id="455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35000"/>
                            </p:stCondLst>
                            <p:childTnLst>
                              <p:par>
                                <p:cTn id="46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38000"/>
                            </p:stCondLst>
                            <p:childTnLst>
                              <p:par>
                                <p:cTn id="465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43000"/>
                            </p:stCondLst>
                            <p:childTnLst>
                              <p:par>
                                <p:cTn id="47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6000"/>
                            </p:stCondLst>
                            <p:childTnLst>
                              <p:par>
                                <p:cTn id="47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7127640" cy="469404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5"/>
          <p:cNvSpPr/>
          <p:nvPr/>
        </p:nvSpPr>
        <p:spPr>
          <a:xfrm>
            <a:off x="5580000" y="189000"/>
            <a:ext cx="302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编辑班级数据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导入数据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6"/>
          <p:cNvSpPr/>
          <p:nvPr/>
        </p:nvSpPr>
        <p:spPr>
          <a:xfrm>
            <a:off x="324000" y="545760"/>
            <a:ext cx="1800000" cy="642600"/>
          </a:xfrm>
          <a:prstGeom prst="wedgeRectCallout">
            <a:avLst>
              <a:gd name="adj1" fmla="val 41879"/>
              <a:gd name="adj2" fmla="val 23185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先选择工作状态为“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格导入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2771640" y="690480"/>
            <a:ext cx="1800360" cy="368640"/>
          </a:xfrm>
          <a:prstGeom prst="wedgeRectCallout">
            <a:avLst>
              <a:gd name="adj1" fmla="val -124847"/>
              <a:gd name="adj2" fmla="val 62716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此按钮产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样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8"/>
          <p:cNvSpPr/>
          <p:nvPr/>
        </p:nvSpPr>
        <p:spPr>
          <a:xfrm>
            <a:off x="3419640" y="2778120"/>
            <a:ext cx="1584000" cy="368640"/>
          </a:xfrm>
          <a:prstGeom prst="wedgeRectCallout">
            <a:avLst>
              <a:gd name="adj1" fmla="val -31574"/>
              <a:gd name="adj2" fmla="val 898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要求填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9"/>
          <p:cNvSpPr/>
          <p:nvPr/>
        </p:nvSpPr>
        <p:spPr>
          <a:xfrm>
            <a:off x="3132000" y="4794120"/>
            <a:ext cx="1800360" cy="642600"/>
          </a:xfrm>
          <a:prstGeom prst="wedgeRectCallout">
            <a:avLst>
              <a:gd name="adj1" fmla="val -148037"/>
              <a:gd name="adj2" fmla="val 7720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此按钮从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格导入班级排课数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0"/>
          <p:cNvSpPr/>
          <p:nvPr/>
        </p:nvSpPr>
        <p:spPr>
          <a:xfrm>
            <a:off x="3132000" y="3930480"/>
            <a:ext cx="2089440" cy="368640"/>
          </a:xfrm>
          <a:prstGeom prst="wedgeRectCallout">
            <a:avLst>
              <a:gd name="adj1" fmla="val -97097"/>
              <a:gd name="adj2" fmla="val -334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需要导入数据的年级班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1">
            <a:hlinkClick r:id="" action="ppaction://hlinkshowjump?jump=nextslide"/>
          </p:cNvPr>
          <p:cNvSpPr/>
          <p:nvPr/>
        </p:nvSpPr>
        <p:spPr>
          <a:xfrm>
            <a:off x="7697880" y="5757480"/>
            <a:ext cx="1090440" cy="423000"/>
          </a:xfrm>
          <a:custGeom>
            <a:avLst/>
            <a:gdLst>
              <a:gd name="textAreaLeft" fmla="*/ 27360 w 1090440"/>
              <a:gd name="textAreaRight" fmla="*/ 1063080 w 10904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55653" h="21600">
                <a:moveTo>
                  <a:pt x="0" y="0"/>
                </a:moveTo>
                <a:lnTo>
                  <a:pt x="55653" y="0"/>
                </a:lnTo>
                <a:lnTo>
                  <a:pt x="55653" y="21600"/>
                </a:lnTo>
                <a:lnTo>
                  <a:pt x="0" y="21600"/>
                </a:lnTo>
                <a:close/>
              </a:path>
              <a:path fill="lightenLess" w="55653" h="21600">
                <a:moveTo>
                  <a:pt x="0" y="0"/>
                </a:moveTo>
                <a:lnTo>
                  <a:pt x="55653" y="0"/>
                </a:lnTo>
                <a:lnTo>
                  <a:pt x="54253" y="1400"/>
                </a:lnTo>
                <a:lnTo>
                  <a:pt x="1400" y="1400"/>
                </a:lnTo>
                <a:close/>
              </a:path>
              <a:path fill="darken" w="55653" h="21600">
                <a:moveTo>
                  <a:pt x="55653" y="0"/>
                </a:moveTo>
                <a:lnTo>
                  <a:pt x="55653" y="21600"/>
                </a:lnTo>
                <a:lnTo>
                  <a:pt x="54253" y="20200"/>
                </a:lnTo>
                <a:lnTo>
                  <a:pt x="54253" y="1400"/>
                </a:lnTo>
                <a:close/>
              </a:path>
              <a:path fill="darkenLess" w="55653" h="21600">
                <a:moveTo>
                  <a:pt x="556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253" y="20200"/>
                </a:lnTo>
                <a:close/>
              </a:path>
              <a:path fill="lighten" w="556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653" h="21600">
                <a:moveTo>
                  <a:pt x="20820" y="3794"/>
                </a:moveTo>
                <a:lnTo>
                  <a:pt x="34833" y="10800"/>
                </a:lnTo>
                <a:lnTo>
                  <a:pt x="2082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2"/>
          <p:cNvSpPr/>
          <p:nvPr/>
        </p:nvSpPr>
        <p:spPr>
          <a:xfrm>
            <a:off x="7740720" y="357336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9164" y="10800"/>
                </a:moveTo>
                <a:lnTo>
                  <a:pt x="23177" y="3794"/>
                </a:lnTo>
                <a:lnTo>
                  <a:pt x="2317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3">
            <a:hlinkClick r:id="" action="ppaction://hlinkshowjump?jump=previousslide"/>
          </p:cNvPr>
          <p:cNvSpPr/>
          <p:nvPr/>
        </p:nvSpPr>
        <p:spPr>
          <a:xfrm>
            <a:off x="7740720" y="4869000"/>
            <a:ext cx="1079280" cy="431640"/>
          </a:xfrm>
          <a:custGeom>
            <a:avLst/>
            <a:gdLst>
              <a:gd name="textAreaLeft" fmla="*/ 27720 w 1079280"/>
              <a:gd name="textAreaRight" fmla="*/ 1051560 w 1079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3982" h="21600">
                <a:moveTo>
                  <a:pt x="0" y="0"/>
                </a:moveTo>
                <a:lnTo>
                  <a:pt x="53982" y="0"/>
                </a:lnTo>
                <a:lnTo>
                  <a:pt x="53982" y="21600"/>
                </a:lnTo>
                <a:lnTo>
                  <a:pt x="0" y="21600"/>
                </a:lnTo>
                <a:close/>
              </a:path>
              <a:path fill="lightenLess" w="53982" h="21600">
                <a:moveTo>
                  <a:pt x="0" y="0"/>
                </a:moveTo>
                <a:lnTo>
                  <a:pt x="53982" y="0"/>
                </a:lnTo>
                <a:lnTo>
                  <a:pt x="52582" y="1400"/>
                </a:lnTo>
                <a:lnTo>
                  <a:pt x="1400" y="1400"/>
                </a:lnTo>
                <a:close/>
              </a:path>
              <a:path fill="darken" w="53982" h="21600">
                <a:moveTo>
                  <a:pt x="53982" y="0"/>
                </a:moveTo>
                <a:lnTo>
                  <a:pt x="53982" y="21600"/>
                </a:lnTo>
                <a:lnTo>
                  <a:pt x="52582" y="20200"/>
                </a:lnTo>
                <a:lnTo>
                  <a:pt x="52582" y="1400"/>
                </a:lnTo>
                <a:close/>
              </a:path>
              <a:path fill="darkenLess" w="53982" h="21600">
                <a:moveTo>
                  <a:pt x="539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2" y="20200"/>
                </a:lnTo>
                <a:close/>
              </a:path>
              <a:path fill="lighten" w="539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82" h="21600">
                <a:moveTo>
                  <a:pt x="19985" y="10800"/>
                </a:moveTo>
                <a:lnTo>
                  <a:pt x="33997" y="3794"/>
                </a:lnTo>
                <a:lnTo>
                  <a:pt x="3399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8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8000"/>
                            </p:stCondLst>
                            <p:childTnLst>
                              <p:par>
                                <p:cTn id="493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8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3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要想排课快捷顺利，就要注意以下几点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“全校条件”不要设置得过于苛刻，这点非常重要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先排难排的班级和教师的课表，特别难排的班级或教师的课表先用“人班”、“人师”方式排好，再“机排”其他课表，排好一个班的课表，就用“调课”功能调整一下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一个年级的最后几个班的课表难排，因为教师课表的空位少了，可以用“人班”方式排最后几个班的课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76720" y="404640"/>
            <a:ext cx="2808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排 课 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3"/>
          <p:cNvSpPr/>
          <p:nvPr/>
        </p:nvSpPr>
        <p:spPr>
          <a:xfrm>
            <a:off x="6948360" y="5947200"/>
            <a:ext cx="703440" cy="423000"/>
          </a:xfrm>
          <a:custGeom>
            <a:avLst/>
            <a:gdLst>
              <a:gd name="textAreaLeft" fmla="*/ 27360 w 703440"/>
              <a:gd name="textAreaRight" fmla="*/ 676080 w 7034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35908" h="21600">
                <a:moveTo>
                  <a:pt x="0" y="0"/>
                </a:moveTo>
                <a:lnTo>
                  <a:pt x="35908" y="0"/>
                </a:lnTo>
                <a:lnTo>
                  <a:pt x="35908" y="21600"/>
                </a:lnTo>
                <a:lnTo>
                  <a:pt x="0" y="21600"/>
                </a:lnTo>
                <a:close/>
              </a:path>
              <a:path fill="lightenLess" w="35908" h="21600">
                <a:moveTo>
                  <a:pt x="0" y="0"/>
                </a:moveTo>
                <a:lnTo>
                  <a:pt x="35908" y="0"/>
                </a:lnTo>
                <a:lnTo>
                  <a:pt x="34508" y="1400"/>
                </a:lnTo>
                <a:lnTo>
                  <a:pt x="1400" y="1400"/>
                </a:lnTo>
                <a:close/>
              </a:path>
              <a:path fill="darken" w="35908" h="21600">
                <a:moveTo>
                  <a:pt x="35908" y="0"/>
                </a:moveTo>
                <a:lnTo>
                  <a:pt x="35908" y="21600"/>
                </a:lnTo>
                <a:lnTo>
                  <a:pt x="34508" y="20200"/>
                </a:lnTo>
                <a:lnTo>
                  <a:pt x="34508" y="1400"/>
                </a:lnTo>
                <a:close/>
              </a:path>
              <a:path fill="darkenLess" w="35908" h="21600">
                <a:moveTo>
                  <a:pt x="35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08" y="20200"/>
                </a:lnTo>
                <a:close/>
              </a:path>
              <a:path fill="lighten" w="35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08" h="21600">
                <a:moveTo>
                  <a:pt x="10948" y="3794"/>
                </a:moveTo>
                <a:lnTo>
                  <a:pt x="24961" y="10800"/>
                </a:lnTo>
                <a:lnTo>
                  <a:pt x="1094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6012000" y="5805360"/>
            <a:ext cx="720720" cy="71928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43" h="21600">
                <a:moveTo>
                  <a:pt x="0" y="0"/>
                </a:moveTo>
                <a:lnTo>
                  <a:pt x="21643" y="0"/>
                </a:lnTo>
                <a:lnTo>
                  <a:pt x="21643" y="21600"/>
                </a:lnTo>
                <a:lnTo>
                  <a:pt x="0" y="21600"/>
                </a:lnTo>
                <a:close/>
              </a:path>
              <a:path fill="lightenLess" w="21643" h="21600">
                <a:moveTo>
                  <a:pt x="0" y="0"/>
                </a:moveTo>
                <a:lnTo>
                  <a:pt x="21643" y="0"/>
                </a:lnTo>
                <a:lnTo>
                  <a:pt x="20243" y="1400"/>
                </a:lnTo>
                <a:lnTo>
                  <a:pt x="1400" y="1400"/>
                </a:lnTo>
                <a:close/>
              </a:path>
              <a:path fill="darken" w="21643" h="21600">
                <a:moveTo>
                  <a:pt x="21643" y="0"/>
                </a:moveTo>
                <a:lnTo>
                  <a:pt x="21643" y="21600"/>
                </a:lnTo>
                <a:lnTo>
                  <a:pt x="20243" y="20200"/>
                </a:lnTo>
                <a:lnTo>
                  <a:pt x="20243" y="1400"/>
                </a:lnTo>
                <a:close/>
              </a:path>
              <a:path fill="darkenLess" w="21643" h="21600">
                <a:moveTo>
                  <a:pt x="21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3" y="20200"/>
                </a:lnTo>
                <a:close/>
              </a:path>
              <a:path fill="lighten" w="21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43" h="21600">
                <a:moveTo>
                  <a:pt x="3815" y="10800"/>
                </a:moveTo>
                <a:lnTo>
                  <a:pt x="17828" y="3794"/>
                </a:lnTo>
                <a:lnTo>
                  <a:pt x="1782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7"/>
          <p:cNvSpPr/>
          <p:nvPr/>
        </p:nvSpPr>
        <p:spPr>
          <a:xfrm>
            <a:off x="5076720" y="580536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图片 1" descr=""/>
          <p:cNvPicPr/>
          <p:nvPr/>
        </p:nvPicPr>
        <p:blipFill>
          <a:blip r:embed="rId1"/>
          <a:stretch/>
        </p:blipFill>
        <p:spPr>
          <a:xfrm>
            <a:off x="182520" y="1643040"/>
            <a:ext cx="8089920" cy="485316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3"/>
          <p:cNvSpPr/>
          <p:nvPr/>
        </p:nvSpPr>
        <p:spPr>
          <a:xfrm>
            <a:off x="6156360" y="189000"/>
            <a:ext cx="2663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排 课 调 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机排：逐班自动排课，是最常用的排课方式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2484360" y="2995560"/>
            <a:ext cx="1513080" cy="642600"/>
          </a:xfrm>
          <a:prstGeom prst="wedgeRectCallout">
            <a:avLst>
              <a:gd name="adj1" fmla="val -48694"/>
              <a:gd name="adj2" fmla="val -14714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一个未排班级，以便排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5473800" y="1668960"/>
            <a:ext cx="2798640" cy="368640"/>
          </a:xfrm>
          <a:prstGeom prst="wedgeRectCallout">
            <a:avLst>
              <a:gd name="adj1" fmla="val -52004"/>
              <a:gd name="adj2" fmla="val 1538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左击某教师，再右击，显示该教师的详细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7"/>
          <p:cNvSpPr/>
          <p:nvPr/>
        </p:nvSpPr>
        <p:spPr>
          <a:xfrm>
            <a:off x="3529080" y="6285240"/>
            <a:ext cx="3525840" cy="368640"/>
          </a:xfrm>
          <a:prstGeom prst="wedgeRectCallout">
            <a:avLst>
              <a:gd name="adj1" fmla="val -11921"/>
              <a:gd name="adj2" fmla="val -3595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教师及其任课情况。在此框左击，显示该教师详细课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8"/>
          <p:cNvSpPr/>
          <p:nvPr/>
        </p:nvSpPr>
        <p:spPr>
          <a:xfrm>
            <a:off x="1546200" y="306360"/>
            <a:ext cx="1008000" cy="917280"/>
          </a:xfrm>
          <a:prstGeom prst="wedgeRectCallout">
            <a:avLst>
              <a:gd name="adj1" fmla="val -85379"/>
              <a:gd name="adj2" fmla="val 1370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机排”按钮，逐班自动排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0"/>
          <p:cNvSpPr/>
          <p:nvPr/>
        </p:nvSpPr>
        <p:spPr>
          <a:xfrm>
            <a:off x="182520" y="443520"/>
            <a:ext cx="1224000" cy="642600"/>
          </a:xfrm>
          <a:prstGeom prst="wedgeRectCallout">
            <a:avLst>
              <a:gd name="adj1" fmla="val 6305"/>
              <a:gd name="adj2" fmla="val 20307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”下步“按钮，查看打印导出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1"/>
          <p:cNvSpPr/>
          <p:nvPr/>
        </p:nvSpPr>
        <p:spPr>
          <a:xfrm>
            <a:off x="179280" y="6248160"/>
            <a:ext cx="3089520" cy="368640"/>
          </a:xfrm>
          <a:prstGeom prst="wedgeRectCallout">
            <a:avLst>
              <a:gd name="adj1" fmla="val -41194"/>
              <a:gd name="adj2" fmla="val -93838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班级及其班主任。在此框左击，显示该班级详细课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2"/>
          <p:cNvSpPr/>
          <p:nvPr/>
        </p:nvSpPr>
        <p:spPr>
          <a:xfrm>
            <a:off x="4859280" y="557640"/>
            <a:ext cx="1297080" cy="368640"/>
          </a:xfrm>
          <a:prstGeom prst="wedgeRectCallout">
            <a:avLst>
              <a:gd name="adj1" fmla="val -139398"/>
              <a:gd name="adj2" fmla="val 44238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自动显示该班级的课程及其节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5"/>
          <p:cNvSpPr/>
          <p:nvPr/>
        </p:nvSpPr>
        <p:spPr>
          <a:xfrm>
            <a:off x="2697120" y="465480"/>
            <a:ext cx="1657440" cy="368640"/>
          </a:xfrm>
          <a:prstGeom prst="wedgeRectCallout">
            <a:avLst>
              <a:gd name="adj1" fmla="val -112601"/>
              <a:gd name="adj2" fmla="val 38131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人工审查课表，不合适的用“调课”功能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7"/>
          <p:cNvSpPr/>
          <p:nvPr/>
        </p:nvSpPr>
        <p:spPr>
          <a:xfrm>
            <a:off x="8423280" y="206064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23"/>
          <p:cNvSpPr/>
          <p:nvPr/>
        </p:nvSpPr>
        <p:spPr>
          <a:xfrm>
            <a:off x="8440560" y="3857760"/>
            <a:ext cx="703440" cy="423000"/>
          </a:xfrm>
          <a:custGeom>
            <a:avLst/>
            <a:gdLst>
              <a:gd name="textAreaLeft" fmla="*/ 27360 w 703440"/>
              <a:gd name="textAreaRight" fmla="*/ 676080 w 7034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35908" h="21600">
                <a:moveTo>
                  <a:pt x="0" y="0"/>
                </a:moveTo>
                <a:lnTo>
                  <a:pt x="35908" y="0"/>
                </a:lnTo>
                <a:lnTo>
                  <a:pt x="35908" y="21600"/>
                </a:lnTo>
                <a:lnTo>
                  <a:pt x="0" y="21600"/>
                </a:lnTo>
                <a:close/>
              </a:path>
              <a:path fill="lightenLess" w="35908" h="21600">
                <a:moveTo>
                  <a:pt x="0" y="0"/>
                </a:moveTo>
                <a:lnTo>
                  <a:pt x="35908" y="0"/>
                </a:lnTo>
                <a:lnTo>
                  <a:pt x="34508" y="1400"/>
                </a:lnTo>
                <a:lnTo>
                  <a:pt x="1400" y="1400"/>
                </a:lnTo>
                <a:close/>
              </a:path>
              <a:path fill="darken" w="35908" h="21600">
                <a:moveTo>
                  <a:pt x="35908" y="0"/>
                </a:moveTo>
                <a:lnTo>
                  <a:pt x="35908" y="21600"/>
                </a:lnTo>
                <a:lnTo>
                  <a:pt x="34508" y="20200"/>
                </a:lnTo>
                <a:lnTo>
                  <a:pt x="34508" y="1400"/>
                </a:lnTo>
                <a:close/>
              </a:path>
              <a:path fill="darkenLess" w="35908" h="21600">
                <a:moveTo>
                  <a:pt x="35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08" y="20200"/>
                </a:lnTo>
                <a:close/>
              </a:path>
              <a:path fill="lighten" w="35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08" h="21600">
                <a:moveTo>
                  <a:pt x="10948" y="3794"/>
                </a:moveTo>
                <a:lnTo>
                  <a:pt x="24961" y="10800"/>
                </a:lnTo>
                <a:lnTo>
                  <a:pt x="1094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25"/>
          <p:cNvSpPr/>
          <p:nvPr/>
        </p:nvSpPr>
        <p:spPr>
          <a:xfrm>
            <a:off x="2484360" y="4293000"/>
            <a:ext cx="2454480" cy="307440"/>
          </a:xfrm>
          <a:prstGeom prst="wedgeRectCallout">
            <a:avLst>
              <a:gd name="adj1" fmla="val -94638"/>
              <a:gd name="adj2" fmla="val -7385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人班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在电脑指引下人工编排班级课表；可用于编排难排的或有特殊要求的课表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27">
            <a:hlinkClick r:id="" action="ppaction://hlinkshowjump?jump=previousslide"/>
          </p:cNvPr>
          <p:cNvSpPr/>
          <p:nvPr/>
        </p:nvSpPr>
        <p:spPr>
          <a:xfrm>
            <a:off x="8494560" y="292428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3824" y="10800"/>
                </a:moveTo>
                <a:lnTo>
                  <a:pt x="17836" y="3794"/>
                </a:lnTo>
                <a:lnTo>
                  <a:pt x="1783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0"/>
                            </p:stCondLst>
                            <p:childTnLst>
                              <p:par>
                                <p:cTn id="516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9000"/>
                            </p:stCondLst>
                            <p:childTnLst>
                              <p:par>
                                <p:cTn id="521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526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9000"/>
                            </p:stCondLst>
                            <p:childTnLst>
                              <p:par>
                                <p:cTn id="531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3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3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4000"/>
                            </p:stCondLst>
                            <p:childTnLst>
                              <p:par>
                                <p:cTn id="536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9000"/>
                            </p:stCondLst>
                            <p:childTnLst>
                              <p:par>
                                <p:cTn id="541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34000"/>
                            </p:stCondLst>
                            <p:childTnLst>
                              <p:par>
                                <p:cTn id="546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39000"/>
                            </p:stCondLst>
                            <p:childTnLst>
                              <p:par>
                                <p:cTn id="551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2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785440" cy="528948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3"/>
          <p:cNvSpPr/>
          <p:nvPr/>
        </p:nvSpPr>
        <p:spPr>
          <a:xfrm>
            <a:off x="5508720" y="189000"/>
            <a:ext cx="3456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排课调课</a:t>
            </a:r>
            <a:br>
              <a:rPr sz="32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人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系统指引下人工编排班级课表，用于排难排的和有特殊要求的班级课表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3492360" y="5010120"/>
            <a:ext cx="1575000" cy="642600"/>
          </a:xfrm>
          <a:prstGeom prst="wedgeRectCallout">
            <a:avLst>
              <a:gd name="adj1" fmla="val -110462"/>
              <a:gd name="adj2" fmla="val -503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一个未排班级，以便排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6">
            <a:hlinkClick r:id="" action="ppaction://hlinkshowjump?jump=nextslide"/>
          </p:cNvPr>
          <p:cNvSpPr/>
          <p:nvPr/>
        </p:nvSpPr>
        <p:spPr>
          <a:xfrm>
            <a:off x="8263080" y="6091200"/>
            <a:ext cx="687240" cy="422280"/>
          </a:xfrm>
          <a:custGeom>
            <a:avLst/>
            <a:gdLst>
              <a:gd name="textAreaLeft" fmla="*/ 27360 w 687240"/>
              <a:gd name="textAreaRight" fmla="*/ 659880 w 68724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35141" h="21600">
                <a:moveTo>
                  <a:pt x="0" y="0"/>
                </a:moveTo>
                <a:lnTo>
                  <a:pt x="35141" y="0"/>
                </a:lnTo>
                <a:lnTo>
                  <a:pt x="35141" y="21600"/>
                </a:lnTo>
                <a:lnTo>
                  <a:pt x="0" y="21600"/>
                </a:lnTo>
                <a:close/>
              </a:path>
              <a:path fill="lightenLess" w="35141" h="21600">
                <a:moveTo>
                  <a:pt x="0" y="0"/>
                </a:moveTo>
                <a:lnTo>
                  <a:pt x="35141" y="0"/>
                </a:lnTo>
                <a:lnTo>
                  <a:pt x="33741" y="1400"/>
                </a:lnTo>
                <a:lnTo>
                  <a:pt x="1400" y="1400"/>
                </a:lnTo>
                <a:close/>
              </a:path>
              <a:path fill="darken" w="35141" h="21600">
                <a:moveTo>
                  <a:pt x="35141" y="0"/>
                </a:moveTo>
                <a:lnTo>
                  <a:pt x="35141" y="21600"/>
                </a:lnTo>
                <a:lnTo>
                  <a:pt x="33741" y="20200"/>
                </a:lnTo>
                <a:lnTo>
                  <a:pt x="33741" y="1400"/>
                </a:lnTo>
                <a:close/>
              </a:path>
              <a:path fill="darkenLess" w="35141" h="21600">
                <a:moveTo>
                  <a:pt x="35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41" y="20200"/>
                </a:lnTo>
                <a:close/>
              </a:path>
              <a:path fill="lighten" w="35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41" h="21600">
                <a:moveTo>
                  <a:pt x="10564" y="3794"/>
                </a:moveTo>
                <a:lnTo>
                  <a:pt x="24577" y="10800"/>
                </a:lnTo>
                <a:lnTo>
                  <a:pt x="1056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8"/>
          <p:cNvSpPr/>
          <p:nvPr/>
        </p:nvSpPr>
        <p:spPr>
          <a:xfrm>
            <a:off x="1419120" y="474480"/>
            <a:ext cx="920880" cy="642600"/>
          </a:xfrm>
          <a:prstGeom prst="wedgeRectCallout">
            <a:avLst>
              <a:gd name="adj1" fmla="val -22569"/>
              <a:gd name="adj2" fmla="val 1560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人班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9"/>
          <p:cNvSpPr/>
          <p:nvPr/>
        </p:nvSpPr>
        <p:spPr>
          <a:xfrm>
            <a:off x="324000" y="474480"/>
            <a:ext cx="792000" cy="368640"/>
          </a:xfrm>
          <a:prstGeom prst="wedgeRectCallout">
            <a:avLst>
              <a:gd name="adj1" fmla="val 10699"/>
              <a:gd name="adj2" fmla="val 3955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提示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2"/>
          <p:cNvSpPr/>
          <p:nvPr/>
        </p:nvSpPr>
        <p:spPr>
          <a:xfrm>
            <a:off x="2700360" y="603720"/>
            <a:ext cx="2303280" cy="368640"/>
          </a:xfrm>
          <a:prstGeom prst="wedgeRectCallout">
            <a:avLst>
              <a:gd name="adj1" fmla="val -11074"/>
              <a:gd name="adj2" fmla="val 3603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自动显示该班需排的课程及其节数，选择其中一个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3"/>
          <p:cNvSpPr/>
          <p:nvPr/>
        </p:nvSpPr>
        <p:spPr>
          <a:xfrm>
            <a:off x="2195640" y="5010120"/>
            <a:ext cx="1081080" cy="368640"/>
          </a:xfrm>
          <a:prstGeom prst="wedgeRectCallout">
            <a:avLst>
              <a:gd name="adj1" fmla="val -90375"/>
              <a:gd name="adj2" fmla="val -7997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 “未排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8"/>
          <p:cNvSpPr/>
          <p:nvPr/>
        </p:nvSpPr>
        <p:spPr>
          <a:xfrm>
            <a:off x="250920" y="5408280"/>
            <a:ext cx="1728720" cy="368640"/>
          </a:xfrm>
          <a:prstGeom prst="wedgeRectCallout">
            <a:avLst>
              <a:gd name="adj1" fmla="val -26328"/>
              <a:gd name="adj2" fmla="val -6402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班级课表选择黄色节次，被选课程排进上面的班级课表和下面的教师课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9"/>
          <p:cNvSpPr/>
          <p:nvPr/>
        </p:nvSpPr>
        <p:spPr>
          <a:xfrm>
            <a:off x="8244000" y="6091200"/>
            <a:ext cx="687240" cy="422280"/>
          </a:xfrm>
          <a:custGeom>
            <a:avLst/>
            <a:gdLst>
              <a:gd name="textAreaLeft" fmla="*/ 27360 w 687240"/>
              <a:gd name="textAreaRight" fmla="*/ 659880 w 68724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35141" h="21600">
                <a:moveTo>
                  <a:pt x="0" y="0"/>
                </a:moveTo>
                <a:lnTo>
                  <a:pt x="35141" y="0"/>
                </a:lnTo>
                <a:lnTo>
                  <a:pt x="35141" y="21600"/>
                </a:lnTo>
                <a:lnTo>
                  <a:pt x="0" y="21600"/>
                </a:lnTo>
                <a:close/>
              </a:path>
              <a:path fill="lightenLess" w="35141" h="21600">
                <a:moveTo>
                  <a:pt x="0" y="0"/>
                </a:moveTo>
                <a:lnTo>
                  <a:pt x="35141" y="0"/>
                </a:lnTo>
                <a:lnTo>
                  <a:pt x="33741" y="1400"/>
                </a:lnTo>
                <a:lnTo>
                  <a:pt x="1400" y="1400"/>
                </a:lnTo>
                <a:close/>
              </a:path>
              <a:path fill="darken" w="35141" h="21600">
                <a:moveTo>
                  <a:pt x="35141" y="0"/>
                </a:moveTo>
                <a:lnTo>
                  <a:pt x="35141" y="21600"/>
                </a:lnTo>
                <a:lnTo>
                  <a:pt x="33741" y="20200"/>
                </a:lnTo>
                <a:lnTo>
                  <a:pt x="33741" y="1400"/>
                </a:lnTo>
                <a:close/>
              </a:path>
              <a:path fill="darkenLess" w="35141" h="21600">
                <a:moveTo>
                  <a:pt x="35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41" y="20200"/>
                </a:lnTo>
                <a:close/>
              </a:path>
              <a:path fill="lighten" w="35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41" h="21600">
                <a:moveTo>
                  <a:pt x="10564" y="3794"/>
                </a:moveTo>
                <a:lnTo>
                  <a:pt x="24577" y="10800"/>
                </a:lnTo>
                <a:lnTo>
                  <a:pt x="1056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0"/>
          <p:cNvSpPr/>
          <p:nvPr/>
        </p:nvSpPr>
        <p:spPr>
          <a:xfrm>
            <a:off x="6516720" y="59500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3"/>
          <p:cNvSpPr/>
          <p:nvPr/>
        </p:nvSpPr>
        <p:spPr>
          <a:xfrm>
            <a:off x="3203640" y="2849400"/>
            <a:ext cx="4753080" cy="642600"/>
          </a:xfrm>
          <a:prstGeom prst="wedgeRectCallout">
            <a:avLst>
              <a:gd name="adj1" fmla="val -52995"/>
              <a:gd name="adj2" fmla="val -13292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“人班”排课结束后，按“退出人排班级课表”按钮。不管该班课表是否全部排好，都可以退出“人班”。可以用其他方式继续排本班课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4">
            <a:hlinkClick r:id="" action="ppaction://hlinkshowjump?jump=previousslide"/>
          </p:cNvPr>
          <p:cNvSpPr/>
          <p:nvPr/>
        </p:nvSpPr>
        <p:spPr>
          <a:xfrm>
            <a:off x="7380360" y="59500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0"/>
                            </p:stCondLst>
                            <p:childTnLst>
                              <p:par>
                                <p:cTn id="564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9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3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4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7000"/>
                            </p:stCondLst>
                            <p:childTnLst>
                              <p:par>
                                <p:cTn id="579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2000"/>
                            </p:stCondLst>
                            <p:childTnLst>
                              <p:par>
                                <p:cTn id="584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6000"/>
                            </p:stCondLst>
                            <p:childTnLst>
                              <p:par>
                                <p:cTn id="589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1" descr=""/>
          <p:cNvPicPr/>
          <p:nvPr/>
        </p:nvPicPr>
        <p:blipFill>
          <a:blip r:embed="rId1"/>
          <a:stretch/>
        </p:blipFill>
        <p:spPr>
          <a:xfrm>
            <a:off x="287280" y="1268280"/>
            <a:ext cx="8856720" cy="533268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3"/>
          <p:cNvSpPr/>
          <p:nvPr/>
        </p:nvSpPr>
        <p:spPr>
          <a:xfrm>
            <a:off x="250920" y="189000"/>
            <a:ext cx="2665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排  课  调  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（调整长期课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4"/>
          <p:cNvSpPr/>
          <p:nvPr/>
        </p:nvSpPr>
        <p:spPr>
          <a:xfrm>
            <a:off x="324000" y="5868000"/>
            <a:ext cx="6192720" cy="368640"/>
          </a:xfrm>
          <a:prstGeom prst="wedgeRectCallout">
            <a:avLst>
              <a:gd name="adj1" fmla="val -19916"/>
              <a:gd name="adj2" fmla="val -746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班级课表中选择需调的课，需调的课成白底黑字，在班级课表中自动显示各课状态：蓝：必须调；绿：优先可调；黄：可调；橙：可调但最好不调；红：不可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2"/>
          <p:cNvSpPr/>
          <p:nvPr/>
        </p:nvSpPr>
        <p:spPr>
          <a:xfrm>
            <a:off x="3203640" y="3198600"/>
            <a:ext cx="2952720" cy="642600"/>
          </a:xfrm>
          <a:prstGeom prst="wedgeRectCallout">
            <a:avLst>
              <a:gd name="adj1" fmla="val -80254"/>
              <a:gd name="adj2" fmla="val -96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可调的课，调课成功，可以继续调课，或者按“退调”按钮（也可以在班级框单击某班级），退出调课状态，回到“查班”状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3"/>
          <p:cNvSpPr/>
          <p:nvPr/>
        </p:nvSpPr>
        <p:spPr>
          <a:xfrm>
            <a:off x="3132000" y="401760"/>
            <a:ext cx="2519640" cy="642600"/>
          </a:xfrm>
          <a:prstGeom prst="wedgeRectCallout">
            <a:avLst>
              <a:gd name="adj1" fmla="val -71268"/>
              <a:gd name="adj2" fmla="val 1461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调课”按钮，进入调课状态，“调课”按钮变成“退调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7"/>
          <p:cNvSpPr/>
          <p:nvPr/>
        </p:nvSpPr>
        <p:spPr>
          <a:xfrm>
            <a:off x="8172360" y="386064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9"/>
          <p:cNvSpPr/>
          <p:nvPr/>
        </p:nvSpPr>
        <p:spPr>
          <a:xfrm>
            <a:off x="8197920" y="5811120"/>
            <a:ext cx="682560" cy="422280"/>
          </a:xfrm>
          <a:custGeom>
            <a:avLst/>
            <a:gdLst>
              <a:gd name="textAreaLeft" fmla="*/ 27360 w 682560"/>
              <a:gd name="textAreaRight" fmla="*/ 655200 w 68256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34902" h="21600">
                <a:moveTo>
                  <a:pt x="0" y="0"/>
                </a:moveTo>
                <a:lnTo>
                  <a:pt x="34902" y="0"/>
                </a:lnTo>
                <a:lnTo>
                  <a:pt x="34902" y="21600"/>
                </a:lnTo>
                <a:lnTo>
                  <a:pt x="0" y="21600"/>
                </a:lnTo>
                <a:close/>
              </a:path>
              <a:path fill="lightenLess" w="34902" h="21600">
                <a:moveTo>
                  <a:pt x="0" y="0"/>
                </a:moveTo>
                <a:lnTo>
                  <a:pt x="34902" y="0"/>
                </a:lnTo>
                <a:lnTo>
                  <a:pt x="33502" y="1400"/>
                </a:lnTo>
                <a:lnTo>
                  <a:pt x="1400" y="1400"/>
                </a:lnTo>
                <a:close/>
              </a:path>
              <a:path fill="darken" w="34902" h="21600">
                <a:moveTo>
                  <a:pt x="34902" y="0"/>
                </a:moveTo>
                <a:lnTo>
                  <a:pt x="34902" y="21600"/>
                </a:lnTo>
                <a:lnTo>
                  <a:pt x="33502" y="20200"/>
                </a:lnTo>
                <a:lnTo>
                  <a:pt x="33502" y="1400"/>
                </a:lnTo>
                <a:close/>
              </a:path>
              <a:path fill="darkenLess" w="34902" h="21600">
                <a:moveTo>
                  <a:pt x="349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02" y="20200"/>
                </a:lnTo>
                <a:close/>
              </a:path>
              <a:path fill="lighten" w="349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02" h="21600">
                <a:moveTo>
                  <a:pt x="10445" y="3794"/>
                </a:moveTo>
                <a:lnTo>
                  <a:pt x="24458" y="10800"/>
                </a:lnTo>
                <a:lnTo>
                  <a:pt x="1044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24"/>
          <p:cNvSpPr/>
          <p:nvPr/>
        </p:nvSpPr>
        <p:spPr>
          <a:xfrm>
            <a:off x="5867280" y="538560"/>
            <a:ext cx="936720" cy="368640"/>
          </a:xfrm>
          <a:prstGeom prst="wedgeRectCallout">
            <a:avLst>
              <a:gd name="adj1" fmla="val -342699"/>
              <a:gd name="adj2" fmla="val 3689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长期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5"/>
          <p:cNvSpPr/>
          <p:nvPr/>
        </p:nvSpPr>
        <p:spPr>
          <a:xfrm>
            <a:off x="6877080" y="1834920"/>
            <a:ext cx="2220840" cy="642600"/>
          </a:xfrm>
          <a:prstGeom prst="wedgeRectCallout">
            <a:avLst>
              <a:gd name="adj1" fmla="val -235347"/>
              <a:gd name="adj2" fmla="val -5817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退调后可以按“撤调”按钮，撤销已进行的调课（最多撤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步调课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6">
            <a:hlinkClick r:id="" action="ppaction://hlinkshowjump?jump=previousslide"/>
          </p:cNvPr>
          <p:cNvSpPr/>
          <p:nvPr/>
        </p:nvSpPr>
        <p:spPr>
          <a:xfrm>
            <a:off x="8172360" y="479736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2"/>
          <p:cNvSpPr/>
          <p:nvPr/>
        </p:nvSpPr>
        <p:spPr>
          <a:xfrm>
            <a:off x="6335640" y="3405600"/>
            <a:ext cx="2305080" cy="368640"/>
          </a:xfrm>
          <a:prstGeom prst="wedgeRectCallout">
            <a:avLst>
              <a:gd name="adj1" fmla="val -218439"/>
              <a:gd name="adj2" fmla="val 178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如果选择橙字或红字作为可调的课，就会出现最好不调或不能调的原因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0"/>
                            </p:stCondLst>
                            <p:childTnLst>
                              <p:par>
                                <p:cTn id="602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3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3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7" dur="indefinite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7000"/>
                            </p:stCondLst>
                            <p:childTnLst>
                              <p:par>
                                <p:cTn id="612" dur="indefinite" nodeType="afterEffect" fill="hold" presetClass="entr" presetID="2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3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3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26000"/>
                            </p:stCondLst>
                            <p:childTnLst>
                              <p:par>
                                <p:cTn id="617" dur="indefinite" nodeType="afterEffect" fill="hold" presetClass="entr" presetID="2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3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3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35000"/>
                            </p:stCondLst>
                            <p:childTnLst>
                              <p:par>
                                <p:cTn id="622" dur="indefinite" nodeType="afterEffect" fill="hold" presetClass="entr" presetID="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68000" y="259920"/>
            <a:ext cx="504036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排课五个基本步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3132000" y="1413000"/>
            <a:ext cx="3527640" cy="431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编辑教师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4500720" y="1989000"/>
            <a:ext cx="86328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3132000" y="2421000"/>
            <a:ext cx="3527640" cy="431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编辑全校条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4500720" y="2997360"/>
            <a:ext cx="8632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/>
          <p:cNvSpPr/>
          <p:nvPr/>
        </p:nvSpPr>
        <p:spPr>
          <a:xfrm>
            <a:off x="3132000" y="3429000"/>
            <a:ext cx="3456000" cy="431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编辑班级数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4500720" y="4005360"/>
            <a:ext cx="8632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9"/>
          <p:cNvSpPr/>
          <p:nvPr/>
        </p:nvSpPr>
        <p:spPr>
          <a:xfrm>
            <a:off x="3132000" y="4437000"/>
            <a:ext cx="3456000" cy="432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排课调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4500720" y="5013360"/>
            <a:ext cx="8632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1"/>
          <p:cNvSpPr/>
          <p:nvPr/>
        </p:nvSpPr>
        <p:spPr>
          <a:xfrm>
            <a:off x="3132000" y="5445000"/>
            <a:ext cx="3456000" cy="432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打印导出表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2">
            <a:hlinkClick r:id="" action="ppaction://hlinkshowjump?jump=nextslide"/>
          </p:cNvPr>
          <p:cNvSpPr/>
          <p:nvPr/>
        </p:nvSpPr>
        <p:spPr>
          <a:xfrm>
            <a:off x="6912000" y="5454720"/>
            <a:ext cx="1727280" cy="43164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6382" h="21600">
                <a:moveTo>
                  <a:pt x="0" y="0"/>
                </a:moveTo>
                <a:lnTo>
                  <a:pt x="86382" y="0"/>
                </a:lnTo>
                <a:lnTo>
                  <a:pt x="86382" y="21600"/>
                </a:lnTo>
                <a:lnTo>
                  <a:pt x="0" y="21600"/>
                </a:lnTo>
                <a:close/>
              </a:path>
              <a:path fill="lightenLess" w="86382" h="21600">
                <a:moveTo>
                  <a:pt x="0" y="0"/>
                </a:moveTo>
                <a:lnTo>
                  <a:pt x="86382" y="0"/>
                </a:lnTo>
                <a:lnTo>
                  <a:pt x="84982" y="1400"/>
                </a:lnTo>
                <a:lnTo>
                  <a:pt x="1400" y="1400"/>
                </a:lnTo>
                <a:close/>
              </a:path>
              <a:path fill="darken" w="86382" h="21600">
                <a:moveTo>
                  <a:pt x="86382" y="0"/>
                </a:moveTo>
                <a:lnTo>
                  <a:pt x="86382" y="21600"/>
                </a:lnTo>
                <a:lnTo>
                  <a:pt x="84982" y="20200"/>
                </a:lnTo>
                <a:lnTo>
                  <a:pt x="84982" y="1400"/>
                </a:lnTo>
                <a:close/>
              </a:path>
              <a:path fill="darkenLess" w="86382" h="21600">
                <a:moveTo>
                  <a:pt x="86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2" y="20200"/>
                </a:lnTo>
                <a:close/>
              </a:path>
              <a:path fill="lighten" w="86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82" h="21600">
                <a:moveTo>
                  <a:pt x="36185" y="3794"/>
                </a:moveTo>
                <a:lnTo>
                  <a:pt x="50197" y="10800"/>
                </a:lnTo>
                <a:lnTo>
                  <a:pt x="361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3">
            <a:hlinkClick r:id="" action="ppaction://hlinkshowjump?jump=previousslide"/>
          </p:cNvPr>
          <p:cNvSpPr/>
          <p:nvPr/>
        </p:nvSpPr>
        <p:spPr>
          <a:xfrm>
            <a:off x="6877080" y="4797360"/>
            <a:ext cx="1727280" cy="43200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86310" h="21600">
                <a:moveTo>
                  <a:pt x="0" y="0"/>
                </a:moveTo>
                <a:lnTo>
                  <a:pt x="86310" y="0"/>
                </a:lnTo>
                <a:lnTo>
                  <a:pt x="86310" y="21600"/>
                </a:lnTo>
                <a:lnTo>
                  <a:pt x="0" y="21600"/>
                </a:lnTo>
                <a:close/>
              </a:path>
              <a:path fill="lightenLess" w="86310" h="21600">
                <a:moveTo>
                  <a:pt x="0" y="0"/>
                </a:moveTo>
                <a:lnTo>
                  <a:pt x="86310" y="0"/>
                </a:lnTo>
                <a:lnTo>
                  <a:pt x="84910" y="1400"/>
                </a:lnTo>
                <a:lnTo>
                  <a:pt x="1400" y="1400"/>
                </a:lnTo>
                <a:close/>
              </a:path>
              <a:path fill="darken" w="86310" h="21600">
                <a:moveTo>
                  <a:pt x="86310" y="0"/>
                </a:moveTo>
                <a:lnTo>
                  <a:pt x="86310" y="21600"/>
                </a:lnTo>
                <a:lnTo>
                  <a:pt x="84910" y="20200"/>
                </a:lnTo>
                <a:lnTo>
                  <a:pt x="84910" y="1400"/>
                </a:lnTo>
                <a:close/>
              </a:path>
              <a:path fill="darkenLess" w="86310" h="21600">
                <a:moveTo>
                  <a:pt x="86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10" y="20200"/>
                </a:lnTo>
                <a:close/>
              </a:path>
              <a:path fill="lighten" w="86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10" h="21600">
                <a:moveTo>
                  <a:pt x="36149" y="10800"/>
                </a:moveTo>
                <a:lnTo>
                  <a:pt x="50162" y="3794"/>
                </a:lnTo>
                <a:lnTo>
                  <a:pt x="5016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500"/>
                            </p:stCondLst>
                            <p:childTnLst>
                              <p:par>
                                <p:cTn id="31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500"/>
                            </p:stCondLst>
                            <p:childTnLst>
                              <p:par>
                                <p:cTn id="36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000"/>
                            </p:stCondLst>
                            <p:childTnLst>
                              <p:par>
                                <p:cTn id="41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9000"/>
                            </p:stCondLst>
                            <p:childTnLst>
                              <p:par>
                                <p:cTn id="46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500"/>
                            </p:stCondLst>
                            <p:childTnLst>
                              <p:par>
                                <p:cTn id="51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500"/>
                            </p:stCondLst>
                            <p:childTnLst>
                              <p:par>
                                <p:cTn id="56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图片 1" descr=""/>
          <p:cNvPicPr/>
          <p:nvPr/>
        </p:nvPicPr>
        <p:blipFill>
          <a:blip r:embed="rId1"/>
          <a:stretch/>
        </p:blipFill>
        <p:spPr>
          <a:xfrm>
            <a:off x="95400" y="1401840"/>
            <a:ext cx="8007120" cy="528624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3"/>
          <p:cNvSpPr/>
          <p:nvPr/>
        </p:nvSpPr>
        <p:spPr>
          <a:xfrm>
            <a:off x="8101080" y="1341360"/>
            <a:ext cx="10429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打印导出表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8209080" y="3141720"/>
            <a:ext cx="93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7"/>
          <p:cNvSpPr/>
          <p:nvPr/>
        </p:nvSpPr>
        <p:spPr>
          <a:xfrm>
            <a:off x="2263680" y="193680"/>
            <a:ext cx="1906560" cy="642600"/>
          </a:xfrm>
          <a:prstGeom prst="wedgeRectCallout">
            <a:avLst>
              <a:gd name="adj1" fmla="val -88870"/>
              <a:gd name="adj2" fmla="val 172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打印”按钮，打印绿色框里显示的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8"/>
          <p:cNvSpPr/>
          <p:nvPr/>
        </p:nvSpPr>
        <p:spPr>
          <a:xfrm>
            <a:off x="95400" y="277560"/>
            <a:ext cx="1952640" cy="642600"/>
          </a:xfrm>
          <a:prstGeom prst="wedgeRectCallout">
            <a:avLst>
              <a:gd name="adj1" fmla="val -8398"/>
              <a:gd name="adj2" fmla="val 17312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”附加“按钮，进入“打印导出表格”的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9"/>
          <p:cNvSpPr/>
          <p:nvPr/>
        </p:nvSpPr>
        <p:spPr>
          <a:xfrm>
            <a:off x="7302600" y="195120"/>
            <a:ext cx="1800000" cy="642600"/>
          </a:xfrm>
          <a:prstGeom prst="wedgeRectCallout">
            <a:avLst>
              <a:gd name="adj1" fmla="val -20527"/>
              <a:gd name="adj2" fmla="val 19199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查看”按钮，在下面绿色框里显示表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1"/>
          <p:cNvSpPr/>
          <p:nvPr/>
        </p:nvSpPr>
        <p:spPr>
          <a:xfrm>
            <a:off x="5958000" y="3552840"/>
            <a:ext cx="2271600" cy="642600"/>
          </a:xfrm>
          <a:prstGeom prst="wedgeRectCallout">
            <a:avLst>
              <a:gd name="adj1" fmla="val 36305"/>
              <a:gd name="adj2" fmla="val -2246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或者按“导出”按钮，把表格导出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2"/>
          <p:cNvSpPr/>
          <p:nvPr/>
        </p:nvSpPr>
        <p:spPr>
          <a:xfrm>
            <a:off x="5810400" y="470520"/>
            <a:ext cx="1433520" cy="368640"/>
          </a:xfrm>
          <a:prstGeom prst="wedgeRectCallout">
            <a:avLst>
              <a:gd name="adj1" fmla="val 42865"/>
              <a:gd name="adj2" fmla="val 3748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用自带的打印功能打印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3"/>
          <p:cNvSpPr/>
          <p:nvPr/>
        </p:nvSpPr>
        <p:spPr>
          <a:xfrm>
            <a:off x="4329000" y="195120"/>
            <a:ext cx="1351080" cy="642600"/>
          </a:xfrm>
          <a:prstGeom prst="wedgeRectCallout">
            <a:avLst>
              <a:gd name="adj1" fmla="val 153912"/>
              <a:gd name="adj2" fmla="val 3136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或者选择“导出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5"/>
          <p:cNvSpPr/>
          <p:nvPr/>
        </p:nvSpPr>
        <p:spPr>
          <a:xfrm>
            <a:off x="8172360" y="4584960"/>
            <a:ext cx="824040" cy="423000"/>
          </a:xfrm>
          <a:custGeom>
            <a:avLst/>
            <a:gdLst>
              <a:gd name="textAreaLeft" fmla="*/ 27360 w 824040"/>
              <a:gd name="textAreaRight" fmla="*/ 796680 w 8240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2061" h="21600">
                <a:moveTo>
                  <a:pt x="0" y="0"/>
                </a:moveTo>
                <a:lnTo>
                  <a:pt x="42061" y="0"/>
                </a:lnTo>
                <a:lnTo>
                  <a:pt x="42061" y="21600"/>
                </a:lnTo>
                <a:lnTo>
                  <a:pt x="0" y="21600"/>
                </a:lnTo>
                <a:close/>
              </a:path>
              <a:path fill="lightenLess" w="42061" h="21600">
                <a:moveTo>
                  <a:pt x="0" y="0"/>
                </a:moveTo>
                <a:lnTo>
                  <a:pt x="42061" y="0"/>
                </a:lnTo>
                <a:lnTo>
                  <a:pt x="40661" y="1400"/>
                </a:lnTo>
                <a:lnTo>
                  <a:pt x="1400" y="1400"/>
                </a:lnTo>
                <a:close/>
              </a:path>
              <a:path fill="darken" w="42061" h="21600">
                <a:moveTo>
                  <a:pt x="42061" y="0"/>
                </a:moveTo>
                <a:lnTo>
                  <a:pt x="42061" y="21600"/>
                </a:lnTo>
                <a:lnTo>
                  <a:pt x="40661" y="20200"/>
                </a:lnTo>
                <a:lnTo>
                  <a:pt x="40661" y="1400"/>
                </a:lnTo>
                <a:close/>
              </a:path>
              <a:path fill="darkenLess" w="42061" h="21600">
                <a:moveTo>
                  <a:pt x="420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661" y="20200"/>
                </a:lnTo>
                <a:close/>
              </a:path>
              <a:path fill="lighten" w="420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061" h="21600">
                <a:moveTo>
                  <a:pt x="14024" y="10800"/>
                </a:moveTo>
                <a:lnTo>
                  <a:pt x="28037" y="3794"/>
                </a:lnTo>
                <a:lnTo>
                  <a:pt x="2803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排课调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20"/>
          <p:cNvSpPr/>
          <p:nvPr/>
        </p:nvSpPr>
        <p:spPr>
          <a:xfrm>
            <a:off x="3967200" y="2278080"/>
            <a:ext cx="1785960" cy="642600"/>
          </a:xfrm>
          <a:prstGeom prst="wedgeRectCallout">
            <a:avLst>
              <a:gd name="adj1" fmla="val -202879"/>
              <a:gd name="adj2" fmla="val -703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单击“项目种类”框右边的下拉箭头，选择项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21"/>
          <p:cNvSpPr/>
          <p:nvPr/>
        </p:nvSpPr>
        <p:spPr>
          <a:xfrm>
            <a:off x="5958000" y="4629960"/>
            <a:ext cx="2232000" cy="642600"/>
          </a:xfrm>
          <a:prstGeom prst="wedgeRectCallout">
            <a:avLst>
              <a:gd name="adj1" fmla="val -282925"/>
              <a:gd name="adj2" fmla="val -352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单击“课表种类”框右边的下拉箭头，选择课表种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26">
            <a:hlinkClick r:id="" action="ppaction://hlinkshowjump?jump=nextslide"/>
          </p:cNvPr>
          <p:cNvSpPr/>
          <p:nvPr/>
        </p:nvSpPr>
        <p:spPr>
          <a:xfrm>
            <a:off x="8174160" y="5738400"/>
            <a:ext cx="788760" cy="423000"/>
          </a:xfrm>
          <a:custGeom>
            <a:avLst/>
            <a:gdLst>
              <a:gd name="textAreaLeft" fmla="*/ 27360 w 788760"/>
              <a:gd name="textAreaRight" fmla="*/ 761400 w 7887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0261" h="21600">
                <a:moveTo>
                  <a:pt x="0" y="0"/>
                </a:moveTo>
                <a:lnTo>
                  <a:pt x="40261" y="0"/>
                </a:lnTo>
                <a:lnTo>
                  <a:pt x="40261" y="21600"/>
                </a:lnTo>
                <a:lnTo>
                  <a:pt x="0" y="21600"/>
                </a:lnTo>
                <a:close/>
              </a:path>
              <a:path fill="lightenLess" w="40261" h="21600">
                <a:moveTo>
                  <a:pt x="0" y="0"/>
                </a:moveTo>
                <a:lnTo>
                  <a:pt x="40261" y="0"/>
                </a:lnTo>
                <a:lnTo>
                  <a:pt x="38861" y="1400"/>
                </a:lnTo>
                <a:lnTo>
                  <a:pt x="1400" y="1400"/>
                </a:lnTo>
                <a:close/>
              </a:path>
              <a:path fill="darken" w="40261" h="21600">
                <a:moveTo>
                  <a:pt x="40261" y="0"/>
                </a:moveTo>
                <a:lnTo>
                  <a:pt x="40261" y="21600"/>
                </a:lnTo>
                <a:lnTo>
                  <a:pt x="38861" y="20200"/>
                </a:lnTo>
                <a:lnTo>
                  <a:pt x="38861" y="1400"/>
                </a:lnTo>
                <a:close/>
              </a:path>
              <a:path fill="darkenLess" w="40261" h="21600">
                <a:moveTo>
                  <a:pt x="402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861" y="20200"/>
                </a:lnTo>
                <a:close/>
              </a:path>
              <a:path fill="lighten" w="402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261" h="21600">
                <a:moveTo>
                  <a:pt x="13124" y="3794"/>
                </a:moveTo>
                <a:lnTo>
                  <a:pt x="27137" y="10800"/>
                </a:lnTo>
                <a:lnTo>
                  <a:pt x="1312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27">
            <a:hlinkClick r:id="" action="ppaction://hlinkshowjump?jump=previousslide"/>
          </p:cNvPr>
          <p:cNvSpPr/>
          <p:nvPr/>
        </p:nvSpPr>
        <p:spPr>
          <a:xfrm>
            <a:off x="8172360" y="5229360"/>
            <a:ext cx="792360" cy="433080"/>
          </a:xfrm>
          <a:custGeom>
            <a:avLst/>
            <a:gdLst>
              <a:gd name="textAreaLeft" fmla="*/ 28080 w 792360"/>
              <a:gd name="textAreaRight" fmla="*/ 764280 w 79236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9504" h="21600">
                <a:moveTo>
                  <a:pt x="0" y="0"/>
                </a:moveTo>
                <a:lnTo>
                  <a:pt x="39504" y="0"/>
                </a:lnTo>
                <a:lnTo>
                  <a:pt x="39504" y="21600"/>
                </a:lnTo>
                <a:lnTo>
                  <a:pt x="0" y="21600"/>
                </a:lnTo>
                <a:close/>
              </a:path>
              <a:path fill="lightenLess" w="39504" h="21600">
                <a:moveTo>
                  <a:pt x="0" y="0"/>
                </a:moveTo>
                <a:lnTo>
                  <a:pt x="39504" y="0"/>
                </a:lnTo>
                <a:lnTo>
                  <a:pt x="38104" y="1400"/>
                </a:lnTo>
                <a:lnTo>
                  <a:pt x="1400" y="1400"/>
                </a:lnTo>
                <a:close/>
              </a:path>
              <a:path fill="darken" w="39504" h="21600">
                <a:moveTo>
                  <a:pt x="39504" y="0"/>
                </a:moveTo>
                <a:lnTo>
                  <a:pt x="39504" y="21600"/>
                </a:lnTo>
                <a:lnTo>
                  <a:pt x="38104" y="20200"/>
                </a:lnTo>
                <a:lnTo>
                  <a:pt x="38104" y="1400"/>
                </a:lnTo>
                <a:close/>
              </a:path>
              <a:path fill="darkenLess" w="39504" h="21600">
                <a:moveTo>
                  <a:pt x="39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04" y="20200"/>
                </a:lnTo>
                <a:close/>
              </a:path>
              <a:path fill="lighten" w="39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04" h="21600">
                <a:moveTo>
                  <a:pt x="12746" y="10800"/>
                </a:moveTo>
                <a:lnTo>
                  <a:pt x="26759" y="3794"/>
                </a:lnTo>
                <a:lnTo>
                  <a:pt x="2675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3000"/>
                            </p:stCondLst>
                            <p:childTnLst>
                              <p:par>
                                <p:cTn id="63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6000"/>
                            </p:stCondLst>
                            <p:childTnLst>
                              <p:par>
                                <p:cTn id="64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3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3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9000"/>
                            </p:stCondLst>
                            <p:childTnLst>
                              <p:par>
                                <p:cTn id="64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5000"/>
                            </p:stCondLst>
                            <p:childTnLst>
                              <p:par>
                                <p:cTn id="655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3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3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0000"/>
                            </p:stCondLst>
                            <p:childTnLst>
                              <p:par>
                                <p:cTn id="660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5000"/>
                            </p:stCondLst>
                            <p:childTnLst>
                              <p:par>
                                <p:cTn id="665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图片 1" descr=""/>
          <p:cNvPicPr/>
          <p:nvPr/>
        </p:nvPicPr>
        <p:blipFill>
          <a:blip r:embed="rId1"/>
          <a:stretch/>
        </p:blipFill>
        <p:spPr>
          <a:xfrm>
            <a:off x="117360" y="1424160"/>
            <a:ext cx="7858080" cy="527652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8028000" y="1557360"/>
            <a:ext cx="1116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打印导出表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6"/>
          <p:cNvSpPr/>
          <p:nvPr/>
        </p:nvSpPr>
        <p:spPr>
          <a:xfrm>
            <a:off x="1619280" y="393840"/>
            <a:ext cx="2089080" cy="642600"/>
          </a:xfrm>
          <a:prstGeom prst="wedgeRectCallout">
            <a:avLst>
              <a:gd name="adj1" fmla="val -60800"/>
              <a:gd name="adj2" fmla="val 1522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”格式“按钮，进入“打印导出表格”的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8172360" y="3357720"/>
            <a:ext cx="8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附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3"/>
          <p:cNvSpPr/>
          <p:nvPr/>
        </p:nvSpPr>
        <p:spPr>
          <a:xfrm>
            <a:off x="8101080" y="4584960"/>
            <a:ext cx="857160" cy="423000"/>
          </a:xfrm>
          <a:custGeom>
            <a:avLst/>
            <a:gdLst>
              <a:gd name="textAreaLeft" fmla="*/ 27360 w 857160"/>
              <a:gd name="textAreaRight" fmla="*/ 829800 w 8571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3751" h="21600">
                <a:moveTo>
                  <a:pt x="0" y="0"/>
                </a:moveTo>
                <a:lnTo>
                  <a:pt x="43751" y="0"/>
                </a:lnTo>
                <a:lnTo>
                  <a:pt x="43751" y="21600"/>
                </a:lnTo>
                <a:lnTo>
                  <a:pt x="0" y="21600"/>
                </a:lnTo>
                <a:close/>
              </a:path>
              <a:path fill="lightenLess" w="43751" h="21600">
                <a:moveTo>
                  <a:pt x="0" y="0"/>
                </a:moveTo>
                <a:lnTo>
                  <a:pt x="43751" y="0"/>
                </a:lnTo>
                <a:lnTo>
                  <a:pt x="42351" y="1400"/>
                </a:lnTo>
                <a:lnTo>
                  <a:pt x="1400" y="1400"/>
                </a:lnTo>
                <a:close/>
              </a:path>
              <a:path fill="darken" w="43751" h="21600">
                <a:moveTo>
                  <a:pt x="43751" y="0"/>
                </a:moveTo>
                <a:lnTo>
                  <a:pt x="43751" y="21600"/>
                </a:lnTo>
                <a:lnTo>
                  <a:pt x="42351" y="20200"/>
                </a:lnTo>
                <a:lnTo>
                  <a:pt x="42351" y="1400"/>
                </a:lnTo>
                <a:close/>
              </a:path>
              <a:path fill="darkenLess" w="43751" h="21600">
                <a:moveTo>
                  <a:pt x="437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351" y="20200"/>
                </a:lnTo>
                <a:close/>
              </a:path>
              <a:path fill="lighten" w="437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751" h="21600">
                <a:moveTo>
                  <a:pt x="14869" y="10800"/>
                </a:moveTo>
                <a:lnTo>
                  <a:pt x="28882" y="3794"/>
                </a:lnTo>
                <a:lnTo>
                  <a:pt x="2888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排课调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25">
            <a:hlinkClick r:id="" action="ppaction://hlinkshowjump?jump=nextslide"/>
          </p:cNvPr>
          <p:cNvSpPr/>
          <p:nvPr/>
        </p:nvSpPr>
        <p:spPr>
          <a:xfrm>
            <a:off x="8101080" y="6013080"/>
            <a:ext cx="836640" cy="423000"/>
          </a:xfrm>
          <a:custGeom>
            <a:avLst/>
            <a:gdLst>
              <a:gd name="textAreaLeft" fmla="*/ 27360 w 836640"/>
              <a:gd name="textAreaRight" fmla="*/ 809280 w 8366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2704" h="21600">
                <a:moveTo>
                  <a:pt x="0" y="0"/>
                </a:moveTo>
                <a:lnTo>
                  <a:pt x="42704" y="0"/>
                </a:lnTo>
                <a:lnTo>
                  <a:pt x="42704" y="21600"/>
                </a:lnTo>
                <a:lnTo>
                  <a:pt x="0" y="21600"/>
                </a:lnTo>
                <a:close/>
              </a:path>
              <a:path fill="lightenLess" w="42704" h="21600">
                <a:moveTo>
                  <a:pt x="0" y="0"/>
                </a:moveTo>
                <a:lnTo>
                  <a:pt x="42704" y="0"/>
                </a:lnTo>
                <a:lnTo>
                  <a:pt x="41304" y="1400"/>
                </a:lnTo>
                <a:lnTo>
                  <a:pt x="1400" y="1400"/>
                </a:lnTo>
                <a:close/>
              </a:path>
              <a:path fill="darken" w="42704" h="21600">
                <a:moveTo>
                  <a:pt x="42704" y="0"/>
                </a:moveTo>
                <a:lnTo>
                  <a:pt x="42704" y="21600"/>
                </a:lnTo>
                <a:lnTo>
                  <a:pt x="41304" y="20200"/>
                </a:lnTo>
                <a:lnTo>
                  <a:pt x="41304" y="1400"/>
                </a:lnTo>
                <a:close/>
              </a:path>
              <a:path fill="darkenLess" w="42704" h="21600">
                <a:moveTo>
                  <a:pt x="42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304" y="20200"/>
                </a:lnTo>
                <a:close/>
              </a:path>
              <a:path fill="lighten" w="42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704" h="21600">
                <a:moveTo>
                  <a:pt x="14346" y="3794"/>
                </a:moveTo>
                <a:lnTo>
                  <a:pt x="28359" y="10800"/>
                </a:lnTo>
                <a:lnTo>
                  <a:pt x="1434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26">
            <a:hlinkClick r:id="" action="ppaction://hlinkshowjump?jump=previousslide"/>
          </p:cNvPr>
          <p:cNvSpPr/>
          <p:nvPr/>
        </p:nvSpPr>
        <p:spPr>
          <a:xfrm>
            <a:off x="8101080" y="5373720"/>
            <a:ext cx="863640" cy="43488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4880"/>
              <a:gd name="textAreaBottom" fmla="*/ 406800 h 434880"/>
            </a:gdLst>
            <a:ahLst/>
            <a:rect l="textAreaLeft" t="textAreaTop" r="textAreaRight" b="textAreaBottom"/>
            <a:pathLst>
              <a:path w="42878" h="21600">
                <a:moveTo>
                  <a:pt x="0" y="0"/>
                </a:moveTo>
                <a:lnTo>
                  <a:pt x="42878" y="0"/>
                </a:lnTo>
                <a:lnTo>
                  <a:pt x="42878" y="21600"/>
                </a:lnTo>
                <a:lnTo>
                  <a:pt x="0" y="21600"/>
                </a:lnTo>
                <a:close/>
              </a:path>
              <a:path fill="lightenLess" w="42878" h="21600">
                <a:moveTo>
                  <a:pt x="0" y="0"/>
                </a:moveTo>
                <a:lnTo>
                  <a:pt x="42878" y="0"/>
                </a:lnTo>
                <a:lnTo>
                  <a:pt x="41478" y="1400"/>
                </a:lnTo>
                <a:lnTo>
                  <a:pt x="1400" y="1400"/>
                </a:lnTo>
                <a:close/>
              </a:path>
              <a:path fill="darken" w="42878" h="21600">
                <a:moveTo>
                  <a:pt x="42878" y="0"/>
                </a:moveTo>
                <a:lnTo>
                  <a:pt x="42878" y="21600"/>
                </a:lnTo>
                <a:lnTo>
                  <a:pt x="41478" y="20200"/>
                </a:lnTo>
                <a:lnTo>
                  <a:pt x="41478" y="1400"/>
                </a:lnTo>
                <a:close/>
              </a:path>
              <a:path fill="darkenLess" w="42878" h="21600">
                <a:moveTo>
                  <a:pt x="428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478" y="20200"/>
                </a:lnTo>
                <a:close/>
              </a:path>
              <a:path fill="lighten" w="428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878" h="21600">
                <a:moveTo>
                  <a:pt x="14433" y="10800"/>
                </a:moveTo>
                <a:lnTo>
                  <a:pt x="28446" y="3794"/>
                </a:lnTo>
                <a:lnTo>
                  <a:pt x="2844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图片 2" descr=""/>
          <p:cNvPicPr/>
          <p:nvPr/>
        </p:nvPicPr>
        <p:blipFill>
          <a:blip r:embed="rId1"/>
          <a:stretch/>
        </p:blipFill>
        <p:spPr>
          <a:xfrm>
            <a:off x="179280" y="1400040"/>
            <a:ext cx="6715080" cy="143208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3"/>
          <p:cNvSpPr/>
          <p:nvPr/>
        </p:nvSpPr>
        <p:spPr>
          <a:xfrm>
            <a:off x="7451640" y="4365720"/>
            <a:ext cx="16923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打印导出表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7451640" y="5194440"/>
            <a:ext cx="14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格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9"/>
          <p:cNvSpPr/>
          <p:nvPr/>
        </p:nvSpPr>
        <p:spPr>
          <a:xfrm>
            <a:off x="7093080" y="5724000"/>
            <a:ext cx="792000" cy="737640"/>
          </a:xfrm>
          <a:custGeom>
            <a:avLst/>
            <a:gdLst>
              <a:gd name="textAreaLeft" fmla="*/ 47520 w 792000"/>
              <a:gd name="textAreaRight" fmla="*/ 744480 w 792000"/>
              <a:gd name="textAreaTop" fmla="*/ 47520 h 737640"/>
              <a:gd name="textAreaBottom" fmla="*/ 690120 h 737640"/>
            </a:gdLst>
            <a:ahLst/>
            <a:rect l="textAreaLeft" t="textAreaTop" r="textAreaRight" b="textAreaBottom"/>
            <a:pathLst>
              <a:path w="23191" h="21600">
                <a:moveTo>
                  <a:pt x="0" y="0"/>
                </a:moveTo>
                <a:lnTo>
                  <a:pt x="23191" y="0"/>
                </a:lnTo>
                <a:lnTo>
                  <a:pt x="23191" y="21600"/>
                </a:lnTo>
                <a:lnTo>
                  <a:pt x="0" y="21600"/>
                </a:lnTo>
                <a:close/>
              </a:path>
              <a:path fill="lightenLess" w="23191" h="21600">
                <a:moveTo>
                  <a:pt x="0" y="0"/>
                </a:moveTo>
                <a:lnTo>
                  <a:pt x="23191" y="0"/>
                </a:lnTo>
                <a:lnTo>
                  <a:pt x="21791" y="1400"/>
                </a:lnTo>
                <a:lnTo>
                  <a:pt x="1400" y="1400"/>
                </a:lnTo>
                <a:close/>
              </a:path>
              <a:path fill="darken" w="23191" h="21600">
                <a:moveTo>
                  <a:pt x="23191" y="0"/>
                </a:moveTo>
                <a:lnTo>
                  <a:pt x="23191" y="21600"/>
                </a:lnTo>
                <a:lnTo>
                  <a:pt x="21791" y="20200"/>
                </a:lnTo>
                <a:lnTo>
                  <a:pt x="21791" y="1400"/>
                </a:lnTo>
                <a:close/>
              </a:path>
              <a:path fill="darkenLess" w="23191" h="21600">
                <a:moveTo>
                  <a:pt x="2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91" y="20200"/>
                </a:lnTo>
                <a:close/>
              </a:path>
              <a:path fill="lighten" w="2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91" h="21600">
                <a:moveTo>
                  <a:pt x="4589" y="10800"/>
                </a:moveTo>
                <a:lnTo>
                  <a:pt x="18602" y="3794"/>
                </a:lnTo>
                <a:lnTo>
                  <a:pt x="1860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排课调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21"/>
          <p:cNvSpPr/>
          <p:nvPr/>
        </p:nvSpPr>
        <p:spPr>
          <a:xfrm>
            <a:off x="179280" y="257040"/>
            <a:ext cx="2052720" cy="642600"/>
          </a:xfrm>
          <a:prstGeom prst="wedgeRectCallout">
            <a:avLst>
              <a:gd name="adj1" fmla="val 14699"/>
              <a:gd name="adj2" fmla="val 1581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”页面“按钮，进入“打印导出表格”的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33" descr=""/>
          <p:cNvPicPr/>
          <p:nvPr/>
        </p:nvPicPr>
        <p:blipFill>
          <a:blip r:embed="rId2"/>
          <a:stretch/>
        </p:blipFill>
        <p:spPr>
          <a:xfrm>
            <a:off x="179280" y="2852640"/>
            <a:ext cx="6715080" cy="4276800"/>
          </a:xfrm>
          <a:prstGeom prst="rect">
            <a:avLst/>
          </a:prstGeom>
          <a:ln w="0">
            <a:noFill/>
          </a:ln>
        </p:spPr>
      </p:pic>
      <p:sp>
        <p:nvSpPr>
          <p:cNvPr id="293" name="AutoShape 35"/>
          <p:cNvSpPr/>
          <p:nvPr/>
        </p:nvSpPr>
        <p:spPr>
          <a:xfrm>
            <a:off x="7020000" y="3520800"/>
            <a:ext cx="1439640" cy="368640"/>
          </a:xfrm>
          <a:prstGeom prst="wedgeRectCallout">
            <a:avLst>
              <a:gd name="adj1" fmla="val -124296"/>
              <a:gd name="adj2" fmla="val 6131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导出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36">
            <a:hlinkClick r:id="" action="ppaction://hlinkshowjump?jump=nextslide"/>
          </p:cNvPr>
          <p:cNvSpPr/>
          <p:nvPr/>
        </p:nvSpPr>
        <p:spPr>
          <a:xfrm>
            <a:off x="8459640" y="5873400"/>
            <a:ext cx="541440" cy="423000"/>
          </a:xfrm>
          <a:custGeom>
            <a:avLst/>
            <a:gdLst>
              <a:gd name="textAreaLeft" fmla="*/ 27360 w 541440"/>
              <a:gd name="textAreaRight" fmla="*/ 514080 w 54144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27643" h="21600">
                <a:moveTo>
                  <a:pt x="0" y="0"/>
                </a:moveTo>
                <a:lnTo>
                  <a:pt x="27643" y="0"/>
                </a:lnTo>
                <a:lnTo>
                  <a:pt x="27643" y="21600"/>
                </a:lnTo>
                <a:lnTo>
                  <a:pt x="0" y="21600"/>
                </a:lnTo>
                <a:close/>
              </a:path>
              <a:path fill="lightenLess" w="27643" h="21600">
                <a:moveTo>
                  <a:pt x="0" y="0"/>
                </a:moveTo>
                <a:lnTo>
                  <a:pt x="27643" y="0"/>
                </a:lnTo>
                <a:lnTo>
                  <a:pt x="26243" y="1400"/>
                </a:lnTo>
                <a:lnTo>
                  <a:pt x="1400" y="1400"/>
                </a:lnTo>
                <a:close/>
              </a:path>
              <a:path fill="darken" w="27643" h="21600">
                <a:moveTo>
                  <a:pt x="27643" y="0"/>
                </a:moveTo>
                <a:lnTo>
                  <a:pt x="27643" y="21600"/>
                </a:lnTo>
                <a:lnTo>
                  <a:pt x="26243" y="20200"/>
                </a:lnTo>
                <a:lnTo>
                  <a:pt x="26243" y="1400"/>
                </a:lnTo>
                <a:close/>
              </a:path>
              <a:path fill="darkenLess" w="27643" h="21600">
                <a:moveTo>
                  <a:pt x="27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43" y="20200"/>
                </a:lnTo>
                <a:close/>
              </a:path>
              <a:path fill="lighten" w="27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43" h="21600">
                <a:moveTo>
                  <a:pt x="6815" y="3794"/>
                </a:moveTo>
                <a:lnTo>
                  <a:pt x="20828" y="10800"/>
                </a:lnTo>
                <a:lnTo>
                  <a:pt x="681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37">
            <a:hlinkClick r:id="" action="ppaction://hlinkshowjump?jump=previousslide"/>
          </p:cNvPr>
          <p:cNvSpPr/>
          <p:nvPr/>
        </p:nvSpPr>
        <p:spPr>
          <a:xfrm>
            <a:off x="7885080" y="5734080"/>
            <a:ext cx="574560" cy="720720"/>
          </a:xfrm>
          <a:custGeom>
            <a:avLst/>
            <a:gdLst>
              <a:gd name="textAreaLeft" fmla="*/ 37080 w 574560"/>
              <a:gd name="textAreaRight" fmla="*/ 537480 w 57456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91">
                <a:moveTo>
                  <a:pt x="0" y="0"/>
                </a:moveTo>
                <a:lnTo>
                  <a:pt x="21600" y="0"/>
                </a:lnTo>
                <a:lnTo>
                  <a:pt x="21600" y="27091"/>
                </a:lnTo>
                <a:lnTo>
                  <a:pt x="0" y="27091"/>
                </a:lnTo>
                <a:close/>
              </a:path>
              <a:path fill="lightenLess" w="21600" h="270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91">
                <a:moveTo>
                  <a:pt x="21600" y="0"/>
                </a:moveTo>
                <a:lnTo>
                  <a:pt x="21600" y="27091"/>
                </a:lnTo>
                <a:lnTo>
                  <a:pt x="20200" y="25691"/>
                </a:lnTo>
                <a:lnTo>
                  <a:pt x="20200" y="1400"/>
                </a:lnTo>
                <a:close/>
              </a:path>
              <a:path fill="darkenLess" w="21600" h="27091">
                <a:moveTo>
                  <a:pt x="21600" y="27091"/>
                </a:moveTo>
                <a:lnTo>
                  <a:pt x="0" y="27091"/>
                </a:lnTo>
                <a:lnTo>
                  <a:pt x="1400" y="25691"/>
                </a:lnTo>
                <a:lnTo>
                  <a:pt x="20200" y="25691"/>
                </a:lnTo>
                <a:close/>
              </a:path>
              <a:path fill="lighten" w="21600" h="27091">
                <a:moveTo>
                  <a:pt x="0" y="270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91"/>
                </a:lnTo>
                <a:close/>
              </a:path>
              <a:path fill="darken" w="21600" h="27091">
                <a:moveTo>
                  <a:pt x="3794" y="13546"/>
                </a:moveTo>
                <a:lnTo>
                  <a:pt x="17806" y="6539"/>
                </a:lnTo>
                <a:lnTo>
                  <a:pt x="17806" y="20552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3000"/>
                            </p:stCondLst>
                            <p:childTnLst>
                              <p:par>
                                <p:cTn id="68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3001"/>
                            </p:stCondLst>
                            <p:childTnLst>
                              <p:par>
                                <p:cTn id="689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图片 1" descr=""/>
          <p:cNvPicPr/>
          <p:nvPr/>
        </p:nvPicPr>
        <p:blipFill>
          <a:blip r:embed="rId1"/>
          <a:stretch/>
        </p:blipFill>
        <p:spPr>
          <a:xfrm>
            <a:off x="108000" y="1270080"/>
            <a:ext cx="6337080" cy="138420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3"/>
          <p:cNvSpPr/>
          <p:nvPr/>
        </p:nvSpPr>
        <p:spPr>
          <a:xfrm>
            <a:off x="6732720" y="4365720"/>
            <a:ext cx="215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打印导出表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7093080" y="48690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页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2"/>
          <p:cNvSpPr/>
          <p:nvPr/>
        </p:nvSpPr>
        <p:spPr>
          <a:xfrm>
            <a:off x="652320" y="486360"/>
            <a:ext cx="1225800" cy="368640"/>
          </a:xfrm>
          <a:prstGeom prst="wedgeRectCallout">
            <a:avLst>
              <a:gd name="adj1" fmla="val -38375"/>
              <a:gd name="adj2" fmla="val 3018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正文字号可以控制表格大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3"/>
          <p:cNvSpPr/>
          <p:nvPr/>
        </p:nvSpPr>
        <p:spPr>
          <a:xfrm>
            <a:off x="2752560" y="486360"/>
            <a:ext cx="1451160" cy="368640"/>
          </a:xfrm>
          <a:prstGeom prst="wedgeRectCallout">
            <a:avLst>
              <a:gd name="adj1" fmla="val 60884"/>
              <a:gd name="adj2" fmla="val 31302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每排课表张数和每页课表排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14"/>
          <p:cNvSpPr/>
          <p:nvPr/>
        </p:nvSpPr>
        <p:spPr>
          <a:xfrm>
            <a:off x="7380360" y="5581440"/>
            <a:ext cx="1584360" cy="423000"/>
          </a:xfrm>
          <a:custGeom>
            <a:avLst/>
            <a:gdLst>
              <a:gd name="textAreaLeft" fmla="*/ 27360 w 1584360"/>
              <a:gd name="textAreaRight" fmla="*/ 1557000 w 15843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80853" h="21600">
                <a:moveTo>
                  <a:pt x="0" y="0"/>
                </a:moveTo>
                <a:lnTo>
                  <a:pt x="80853" y="0"/>
                </a:lnTo>
                <a:lnTo>
                  <a:pt x="80853" y="21600"/>
                </a:lnTo>
                <a:lnTo>
                  <a:pt x="0" y="21600"/>
                </a:lnTo>
                <a:close/>
              </a:path>
              <a:path fill="lightenLess" w="80853" h="21600">
                <a:moveTo>
                  <a:pt x="0" y="0"/>
                </a:moveTo>
                <a:lnTo>
                  <a:pt x="80853" y="0"/>
                </a:lnTo>
                <a:lnTo>
                  <a:pt x="79453" y="1400"/>
                </a:lnTo>
                <a:lnTo>
                  <a:pt x="1400" y="1400"/>
                </a:lnTo>
                <a:close/>
              </a:path>
              <a:path fill="darken" w="80853" h="21600">
                <a:moveTo>
                  <a:pt x="80853" y="0"/>
                </a:moveTo>
                <a:lnTo>
                  <a:pt x="80853" y="21600"/>
                </a:lnTo>
                <a:lnTo>
                  <a:pt x="79453" y="20200"/>
                </a:lnTo>
                <a:lnTo>
                  <a:pt x="79453" y="1400"/>
                </a:lnTo>
                <a:close/>
              </a:path>
              <a:path fill="darkenLess" w="80853" h="21600">
                <a:moveTo>
                  <a:pt x="80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453" y="20200"/>
                </a:lnTo>
                <a:close/>
              </a:path>
              <a:path fill="lighten" w="80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853" h="21600">
                <a:moveTo>
                  <a:pt x="33420" y="10800"/>
                </a:moveTo>
                <a:lnTo>
                  <a:pt x="47433" y="3794"/>
                </a:lnTo>
                <a:lnTo>
                  <a:pt x="4743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排课调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25" descr=""/>
          <p:cNvPicPr/>
          <p:nvPr/>
        </p:nvPicPr>
        <p:blipFill>
          <a:blip r:embed="rId2"/>
          <a:stretch/>
        </p:blipFill>
        <p:spPr>
          <a:xfrm>
            <a:off x="179280" y="2781360"/>
            <a:ext cx="6264360" cy="386388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26">
            <a:hlinkClick r:id="" action="ppaction://hlinkshowjump?jump=nextslide"/>
          </p:cNvPr>
          <p:cNvSpPr/>
          <p:nvPr/>
        </p:nvSpPr>
        <p:spPr>
          <a:xfrm>
            <a:off x="8172360" y="6013080"/>
            <a:ext cx="792360" cy="423000"/>
          </a:xfrm>
          <a:custGeom>
            <a:avLst/>
            <a:gdLst>
              <a:gd name="textAreaLeft" fmla="*/ 27360 w 792360"/>
              <a:gd name="textAreaRight" fmla="*/ 765000 w 7923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0445" h="21600">
                <a:moveTo>
                  <a:pt x="0" y="0"/>
                </a:moveTo>
                <a:lnTo>
                  <a:pt x="40445" y="0"/>
                </a:lnTo>
                <a:lnTo>
                  <a:pt x="40445" y="21600"/>
                </a:lnTo>
                <a:lnTo>
                  <a:pt x="0" y="21600"/>
                </a:lnTo>
                <a:close/>
              </a:path>
              <a:path fill="lightenLess" w="40445" h="21600">
                <a:moveTo>
                  <a:pt x="0" y="0"/>
                </a:moveTo>
                <a:lnTo>
                  <a:pt x="40445" y="0"/>
                </a:lnTo>
                <a:lnTo>
                  <a:pt x="39045" y="1400"/>
                </a:lnTo>
                <a:lnTo>
                  <a:pt x="1400" y="1400"/>
                </a:lnTo>
                <a:close/>
              </a:path>
              <a:path fill="darken" w="40445" h="21600">
                <a:moveTo>
                  <a:pt x="40445" y="0"/>
                </a:moveTo>
                <a:lnTo>
                  <a:pt x="40445" y="21600"/>
                </a:lnTo>
                <a:lnTo>
                  <a:pt x="39045" y="20200"/>
                </a:lnTo>
                <a:lnTo>
                  <a:pt x="39045" y="1400"/>
                </a:lnTo>
                <a:close/>
              </a:path>
              <a:path fill="darkenLess" w="40445" h="21600">
                <a:moveTo>
                  <a:pt x="40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45" y="20200"/>
                </a:lnTo>
                <a:close/>
              </a:path>
              <a:path fill="lighten" w="40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45" h="21600">
                <a:moveTo>
                  <a:pt x="13216" y="3794"/>
                </a:moveTo>
                <a:lnTo>
                  <a:pt x="27229" y="10800"/>
                </a:lnTo>
                <a:lnTo>
                  <a:pt x="1321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27">
            <a:hlinkClick r:id="" action="ppaction://hlinkshowjump?jump=previousslide"/>
          </p:cNvPr>
          <p:cNvSpPr/>
          <p:nvPr/>
        </p:nvSpPr>
        <p:spPr>
          <a:xfrm>
            <a:off x="7380360" y="6021360"/>
            <a:ext cx="792000" cy="43200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85" h="21600">
                <a:moveTo>
                  <a:pt x="0" y="0"/>
                </a:moveTo>
                <a:lnTo>
                  <a:pt x="39585" y="0"/>
                </a:lnTo>
                <a:lnTo>
                  <a:pt x="39585" y="21600"/>
                </a:lnTo>
                <a:lnTo>
                  <a:pt x="0" y="21600"/>
                </a:lnTo>
                <a:close/>
              </a:path>
              <a:path fill="lightenLess" w="39585" h="21600">
                <a:moveTo>
                  <a:pt x="0" y="0"/>
                </a:moveTo>
                <a:lnTo>
                  <a:pt x="39585" y="0"/>
                </a:lnTo>
                <a:lnTo>
                  <a:pt x="38185" y="1400"/>
                </a:lnTo>
                <a:lnTo>
                  <a:pt x="1400" y="1400"/>
                </a:lnTo>
                <a:close/>
              </a:path>
              <a:path fill="darken" w="39585" h="21600">
                <a:moveTo>
                  <a:pt x="39585" y="0"/>
                </a:moveTo>
                <a:lnTo>
                  <a:pt x="39585" y="21600"/>
                </a:lnTo>
                <a:lnTo>
                  <a:pt x="38185" y="20200"/>
                </a:lnTo>
                <a:lnTo>
                  <a:pt x="38185" y="1400"/>
                </a:lnTo>
                <a:close/>
              </a:path>
              <a:path fill="darkenLess" w="39585" h="21600">
                <a:moveTo>
                  <a:pt x="39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5" y="20200"/>
                </a:lnTo>
                <a:close/>
              </a:path>
              <a:path fill="lighten" w="39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5" h="21600">
                <a:moveTo>
                  <a:pt x="12786" y="10800"/>
                </a:moveTo>
                <a:lnTo>
                  <a:pt x="26799" y="3794"/>
                </a:lnTo>
                <a:lnTo>
                  <a:pt x="2679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0"/>
                            </p:stCondLst>
                            <p:childTnLst>
                              <p:par>
                                <p:cTn id="702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导出的班级课程情况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5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642520" cy="4608360"/>
          </a:xfrm>
          <a:prstGeom prst="rect">
            <a:avLst/>
          </a:prstGeom>
          <a:ln w="0">
            <a:noFill/>
          </a:ln>
        </p:spPr>
      </p:pic>
      <p:sp>
        <p:nvSpPr>
          <p:cNvPr id="307" name="AutoShape 7"/>
          <p:cNvSpPr/>
          <p:nvPr/>
        </p:nvSpPr>
        <p:spPr>
          <a:xfrm>
            <a:off x="3132000" y="6093000"/>
            <a:ext cx="1656000" cy="360360"/>
          </a:xfrm>
          <a:custGeom>
            <a:avLst/>
            <a:gdLst>
              <a:gd name="textAreaLeft" fmla="*/ 23040 w 1656000"/>
              <a:gd name="textAreaRight" fmla="*/ 1632960 w 165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99183" h="21600">
                <a:moveTo>
                  <a:pt x="0" y="0"/>
                </a:moveTo>
                <a:lnTo>
                  <a:pt x="99183" y="0"/>
                </a:lnTo>
                <a:lnTo>
                  <a:pt x="99183" y="21600"/>
                </a:lnTo>
                <a:lnTo>
                  <a:pt x="0" y="21600"/>
                </a:lnTo>
                <a:close/>
              </a:path>
              <a:path fill="lightenLess" w="99183" h="21600">
                <a:moveTo>
                  <a:pt x="0" y="0"/>
                </a:moveTo>
                <a:lnTo>
                  <a:pt x="99183" y="0"/>
                </a:lnTo>
                <a:lnTo>
                  <a:pt x="97783" y="1400"/>
                </a:lnTo>
                <a:lnTo>
                  <a:pt x="1400" y="1400"/>
                </a:lnTo>
                <a:close/>
              </a:path>
              <a:path fill="darken" w="99183" h="21600">
                <a:moveTo>
                  <a:pt x="99183" y="0"/>
                </a:moveTo>
                <a:lnTo>
                  <a:pt x="99183" y="21600"/>
                </a:lnTo>
                <a:lnTo>
                  <a:pt x="97783" y="20200"/>
                </a:lnTo>
                <a:lnTo>
                  <a:pt x="97783" y="1400"/>
                </a:lnTo>
                <a:close/>
              </a:path>
              <a:path fill="darkenLess" w="99183" h="21600">
                <a:moveTo>
                  <a:pt x="99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783" y="20200"/>
                </a:lnTo>
                <a:close/>
              </a:path>
              <a:path fill="lighten" w="99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9183" h="21600">
                <a:moveTo>
                  <a:pt x="42585" y="3794"/>
                </a:moveTo>
                <a:lnTo>
                  <a:pt x="56598" y="10800"/>
                </a:lnTo>
                <a:lnTo>
                  <a:pt x="425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8">
            <a:hlinkClick r:id="" action="ppaction://hlinkshowjump?jump=nextslide"/>
          </p:cNvPr>
          <p:cNvSpPr/>
          <p:nvPr/>
        </p:nvSpPr>
        <p:spPr>
          <a:xfrm>
            <a:off x="7236000" y="6093000"/>
            <a:ext cx="1655640" cy="385560"/>
          </a:xfrm>
          <a:custGeom>
            <a:avLst/>
            <a:gdLst>
              <a:gd name="textAreaLeft" fmla="*/ 24840 w 1655640"/>
              <a:gd name="textAreaRight" fmla="*/ 1630800 w 1655640"/>
              <a:gd name="textAreaTop" fmla="*/ 24840 h 385560"/>
              <a:gd name="textAreaBottom" fmla="*/ 360720 h 385560"/>
            </a:gdLst>
            <a:ahLst/>
            <a:rect l="textAreaLeft" t="textAreaTop" r="textAreaRight" b="textAreaBottom"/>
            <a:pathLst>
              <a:path w="92687" h="21600">
                <a:moveTo>
                  <a:pt x="0" y="0"/>
                </a:moveTo>
                <a:lnTo>
                  <a:pt x="92687" y="0"/>
                </a:lnTo>
                <a:lnTo>
                  <a:pt x="92687" y="21600"/>
                </a:lnTo>
                <a:lnTo>
                  <a:pt x="0" y="21600"/>
                </a:lnTo>
                <a:close/>
              </a:path>
              <a:path fill="lightenLess" w="92687" h="21600">
                <a:moveTo>
                  <a:pt x="0" y="0"/>
                </a:moveTo>
                <a:lnTo>
                  <a:pt x="92687" y="0"/>
                </a:lnTo>
                <a:lnTo>
                  <a:pt x="91287" y="1400"/>
                </a:lnTo>
                <a:lnTo>
                  <a:pt x="1400" y="1400"/>
                </a:lnTo>
                <a:close/>
              </a:path>
              <a:path fill="darken" w="92687" h="21600">
                <a:moveTo>
                  <a:pt x="92687" y="0"/>
                </a:moveTo>
                <a:lnTo>
                  <a:pt x="92687" y="21600"/>
                </a:lnTo>
                <a:lnTo>
                  <a:pt x="91287" y="20200"/>
                </a:lnTo>
                <a:lnTo>
                  <a:pt x="91287" y="1400"/>
                </a:lnTo>
                <a:close/>
              </a:path>
              <a:path fill="darkenLess" w="92687" h="21600">
                <a:moveTo>
                  <a:pt x="92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287" y="20200"/>
                </a:lnTo>
                <a:close/>
              </a:path>
              <a:path fill="lighten" w="92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2687" h="21600">
                <a:moveTo>
                  <a:pt x="39337" y="3794"/>
                </a:moveTo>
                <a:lnTo>
                  <a:pt x="53350" y="10800"/>
                </a:lnTo>
                <a:lnTo>
                  <a:pt x="3933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9">
            <a:hlinkClick r:id="" action="ppaction://hlinkshowjump?jump=previousslide"/>
          </p:cNvPr>
          <p:cNvSpPr/>
          <p:nvPr/>
        </p:nvSpPr>
        <p:spPr>
          <a:xfrm>
            <a:off x="5219640" y="6093000"/>
            <a:ext cx="1657440" cy="360360"/>
          </a:xfrm>
          <a:custGeom>
            <a:avLst/>
            <a:gdLst>
              <a:gd name="textAreaLeft" fmla="*/ 23040 w 1657440"/>
              <a:gd name="textAreaRight" fmla="*/ 1634400 w 16574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99269" h="21600">
                <a:moveTo>
                  <a:pt x="0" y="0"/>
                </a:moveTo>
                <a:lnTo>
                  <a:pt x="99269" y="0"/>
                </a:lnTo>
                <a:lnTo>
                  <a:pt x="99269" y="21600"/>
                </a:lnTo>
                <a:lnTo>
                  <a:pt x="0" y="21600"/>
                </a:lnTo>
                <a:close/>
              </a:path>
              <a:path fill="lightenLess" w="99269" h="21600">
                <a:moveTo>
                  <a:pt x="0" y="0"/>
                </a:moveTo>
                <a:lnTo>
                  <a:pt x="99269" y="0"/>
                </a:lnTo>
                <a:lnTo>
                  <a:pt x="97869" y="1400"/>
                </a:lnTo>
                <a:lnTo>
                  <a:pt x="1400" y="1400"/>
                </a:lnTo>
                <a:close/>
              </a:path>
              <a:path fill="darken" w="99269" h="21600">
                <a:moveTo>
                  <a:pt x="99269" y="0"/>
                </a:moveTo>
                <a:lnTo>
                  <a:pt x="99269" y="21600"/>
                </a:lnTo>
                <a:lnTo>
                  <a:pt x="97869" y="20200"/>
                </a:lnTo>
                <a:lnTo>
                  <a:pt x="97869" y="1400"/>
                </a:lnTo>
                <a:close/>
              </a:path>
              <a:path fill="darkenLess" w="99269" h="21600">
                <a:moveTo>
                  <a:pt x="992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869" y="20200"/>
                </a:lnTo>
                <a:close/>
              </a:path>
              <a:path fill="lighten" w="992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9269" h="21600">
                <a:moveTo>
                  <a:pt x="42628" y="10800"/>
                </a:moveTo>
                <a:lnTo>
                  <a:pt x="56641" y="3794"/>
                </a:lnTo>
                <a:lnTo>
                  <a:pt x="5664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"/>
          <p:cNvPicPr/>
          <p:nvPr/>
        </p:nvPicPr>
        <p:blipFill>
          <a:blip r:embed="rId1"/>
          <a:stretch/>
        </p:blipFill>
        <p:spPr>
          <a:xfrm>
            <a:off x="250920" y="210960"/>
            <a:ext cx="8564400" cy="66470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164000" y="2420640"/>
            <a:ext cx="169236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教师任课情况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5"/>
          <p:cNvSpPr/>
          <p:nvPr/>
        </p:nvSpPr>
        <p:spPr>
          <a:xfrm>
            <a:off x="7164360" y="5229360"/>
            <a:ext cx="1655640" cy="360360"/>
          </a:xfrm>
          <a:custGeom>
            <a:avLst/>
            <a:gdLst>
              <a:gd name="textAreaLeft" fmla="*/ 23040 w 1655640"/>
              <a:gd name="textAreaRight" fmla="*/ 1632600 w 1655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99162" h="21600">
                <a:moveTo>
                  <a:pt x="0" y="0"/>
                </a:moveTo>
                <a:lnTo>
                  <a:pt x="99162" y="0"/>
                </a:lnTo>
                <a:lnTo>
                  <a:pt x="99162" y="21600"/>
                </a:lnTo>
                <a:lnTo>
                  <a:pt x="0" y="21600"/>
                </a:lnTo>
                <a:close/>
              </a:path>
              <a:path fill="lightenLess" w="99162" h="21600">
                <a:moveTo>
                  <a:pt x="0" y="0"/>
                </a:moveTo>
                <a:lnTo>
                  <a:pt x="99162" y="0"/>
                </a:lnTo>
                <a:lnTo>
                  <a:pt x="97762" y="1400"/>
                </a:lnTo>
                <a:lnTo>
                  <a:pt x="1400" y="1400"/>
                </a:lnTo>
                <a:close/>
              </a:path>
              <a:path fill="darken" w="99162" h="21600">
                <a:moveTo>
                  <a:pt x="99162" y="0"/>
                </a:moveTo>
                <a:lnTo>
                  <a:pt x="99162" y="21600"/>
                </a:lnTo>
                <a:lnTo>
                  <a:pt x="97762" y="20200"/>
                </a:lnTo>
                <a:lnTo>
                  <a:pt x="97762" y="1400"/>
                </a:lnTo>
                <a:close/>
              </a:path>
              <a:path fill="darkenLess" w="99162" h="21600">
                <a:moveTo>
                  <a:pt x="99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762" y="20200"/>
                </a:lnTo>
                <a:close/>
              </a:path>
              <a:path fill="lighten" w="99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9162" h="21600">
                <a:moveTo>
                  <a:pt x="42574" y="3794"/>
                </a:moveTo>
                <a:lnTo>
                  <a:pt x="56587" y="10800"/>
                </a:lnTo>
                <a:lnTo>
                  <a:pt x="4257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6"/>
          <p:cNvSpPr/>
          <p:nvPr/>
        </p:nvSpPr>
        <p:spPr>
          <a:xfrm>
            <a:off x="7164360" y="6237360"/>
            <a:ext cx="1655640" cy="385560"/>
          </a:xfrm>
          <a:custGeom>
            <a:avLst/>
            <a:gdLst>
              <a:gd name="textAreaLeft" fmla="*/ 24840 w 1655640"/>
              <a:gd name="textAreaRight" fmla="*/ 1630800 w 1655640"/>
              <a:gd name="textAreaTop" fmla="*/ 24840 h 385560"/>
              <a:gd name="textAreaBottom" fmla="*/ 360720 h 385560"/>
            </a:gdLst>
            <a:ahLst/>
            <a:rect l="textAreaLeft" t="textAreaTop" r="textAreaRight" b="textAreaBottom"/>
            <a:pathLst>
              <a:path w="92687" h="21600">
                <a:moveTo>
                  <a:pt x="0" y="0"/>
                </a:moveTo>
                <a:lnTo>
                  <a:pt x="92687" y="0"/>
                </a:lnTo>
                <a:lnTo>
                  <a:pt x="92687" y="21600"/>
                </a:lnTo>
                <a:lnTo>
                  <a:pt x="0" y="21600"/>
                </a:lnTo>
                <a:close/>
              </a:path>
              <a:path fill="lightenLess" w="92687" h="21600">
                <a:moveTo>
                  <a:pt x="0" y="0"/>
                </a:moveTo>
                <a:lnTo>
                  <a:pt x="92687" y="0"/>
                </a:lnTo>
                <a:lnTo>
                  <a:pt x="91287" y="1400"/>
                </a:lnTo>
                <a:lnTo>
                  <a:pt x="1400" y="1400"/>
                </a:lnTo>
                <a:close/>
              </a:path>
              <a:path fill="darken" w="92687" h="21600">
                <a:moveTo>
                  <a:pt x="92687" y="0"/>
                </a:moveTo>
                <a:lnTo>
                  <a:pt x="92687" y="21600"/>
                </a:lnTo>
                <a:lnTo>
                  <a:pt x="91287" y="20200"/>
                </a:lnTo>
                <a:lnTo>
                  <a:pt x="91287" y="1400"/>
                </a:lnTo>
                <a:close/>
              </a:path>
              <a:path fill="darkenLess" w="92687" h="21600">
                <a:moveTo>
                  <a:pt x="92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287" y="20200"/>
                </a:lnTo>
                <a:close/>
              </a:path>
              <a:path fill="lighten" w="92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2687" h="21600">
                <a:moveTo>
                  <a:pt x="39337" y="3794"/>
                </a:moveTo>
                <a:lnTo>
                  <a:pt x="53350" y="10800"/>
                </a:lnTo>
                <a:lnTo>
                  <a:pt x="3933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7">
            <a:hlinkClick r:id="" action="ppaction://hlinkshowjump?jump=previousslide"/>
          </p:cNvPr>
          <p:cNvSpPr/>
          <p:nvPr/>
        </p:nvSpPr>
        <p:spPr>
          <a:xfrm>
            <a:off x="7164360" y="5734080"/>
            <a:ext cx="1655640" cy="360360"/>
          </a:xfrm>
          <a:custGeom>
            <a:avLst/>
            <a:gdLst>
              <a:gd name="textAreaLeft" fmla="*/ 23040 w 1655640"/>
              <a:gd name="textAreaRight" fmla="*/ 1632600 w 1655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99162" h="21600">
                <a:moveTo>
                  <a:pt x="0" y="0"/>
                </a:moveTo>
                <a:lnTo>
                  <a:pt x="99162" y="0"/>
                </a:lnTo>
                <a:lnTo>
                  <a:pt x="99162" y="21600"/>
                </a:lnTo>
                <a:lnTo>
                  <a:pt x="0" y="21600"/>
                </a:lnTo>
                <a:close/>
              </a:path>
              <a:path fill="lightenLess" w="99162" h="21600">
                <a:moveTo>
                  <a:pt x="0" y="0"/>
                </a:moveTo>
                <a:lnTo>
                  <a:pt x="99162" y="0"/>
                </a:lnTo>
                <a:lnTo>
                  <a:pt x="97762" y="1400"/>
                </a:lnTo>
                <a:lnTo>
                  <a:pt x="1400" y="1400"/>
                </a:lnTo>
                <a:close/>
              </a:path>
              <a:path fill="darken" w="99162" h="21600">
                <a:moveTo>
                  <a:pt x="99162" y="0"/>
                </a:moveTo>
                <a:lnTo>
                  <a:pt x="99162" y="21600"/>
                </a:lnTo>
                <a:lnTo>
                  <a:pt x="97762" y="20200"/>
                </a:lnTo>
                <a:lnTo>
                  <a:pt x="97762" y="1400"/>
                </a:lnTo>
                <a:close/>
              </a:path>
              <a:path fill="darkenLess" w="99162" h="21600">
                <a:moveTo>
                  <a:pt x="99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762" y="20200"/>
                </a:lnTo>
                <a:close/>
              </a:path>
              <a:path fill="lighten" w="99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9162" h="21600">
                <a:moveTo>
                  <a:pt x="42574" y="10800"/>
                </a:moveTo>
                <a:lnTo>
                  <a:pt x="56587" y="3794"/>
                </a:lnTo>
                <a:lnTo>
                  <a:pt x="5658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图片 2" descr=""/>
          <p:cNvPicPr/>
          <p:nvPr/>
        </p:nvPicPr>
        <p:blipFill>
          <a:blip r:embed="rId1"/>
          <a:stretch/>
        </p:blipFill>
        <p:spPr>
          <a:xfrm>
            <a:off x="4427640" y="1077840"/>
            <a:ext cx="4171680" cy="27720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2" descr=""/>
          <p:cNvPicPr/>
          <p:nvPr/>
        </p:nvPicPr>
        <p:blipFill>
          <a:blip r:embed="rId2"/>
          <a:stretch/>
        </p:blipFill>
        <p:spPr>
          <a:xfrm>
            <a:off x="250920" y="1077840"/>
            <a:ext cx="4176720" cy="273996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231444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系统设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3"/>
          <p:cNvSpPr/>
          <p:nvPr/>
        </p:nvSpPr>
        <p:spPr>
          <a:xfrm>
            <a:off x="6084720" y="333360"/>
            <a:ext cx="792360" cy="647640"/>
          </a:xfrm>
          <a:custGeom>
            <a:avLst/>
            <a:gdLst>
              <a:gd name="textAreaLeft" fmla="*/ 41760 w 792360"/>
              <a:gd name="textAreaRight" fmla="*/ 750600 w 79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24" h="21600">
                <a:moveTo>
                  <a:pt x="0" y="0"/>
                </a:moveTo>
                <a:lnTo>
                  <a:pt x="26424" y="0"/>
                </a:lnTo>
                <a:lnTo>
                  <a:pt x="26424" y="21600"/>
                </a:lnTo>
                <a:lnTo>
                  <a:pt x="0" y="21600"/>
                </a:lnTo>
                <a:close/>
              </a:path>
              <a:path fill="lightenLess" w="26424" h="21600">
                <a:moveTo>
                  <a:pt x="0" y="0"/>
                </a:moveTo>
                <a:lnTo>
                  <a:pt x="26424" y="0"/>
                </a:lnTo>
                <a:lnTo>
                  <a:pt x="25024" y="1400"/>
                </a:lnTo>
                <a:lnTo>
                  <a:pt x="1400" y="1400"/>
                </a:lnTo>
                <a:close/>
              </a:path>
              <a:path fill="darken" w="26424" h="21600">
                <a:moveTo>
                  <a:pt x="26424" y="0"/>
                </a:moveTo>
                <a:lnTo>
                  <a:pt x="26424" y="21600"/>
                </a:lnTo>
                <a:lnTo>
                  <a:pt x="25024" y="20200"/>
                </a:lnTo>
                <a:lnTo>
                  <a:pt x="25024" y="1400"/>
                </a:lnTo>
                <a:close/>
              </a:path>
              <a:path fill="darkenLess" w="26424" h="21600">
                <a:moveTo>
                  <a:pt x="2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24" y="20200"/>
                </a:lnTo>
                <a:close/>
              </a:path>
              <a:path fill="lighten" w="2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24" h="21600">
                <a:moveTo>
                  <a:pt x="6206" y="3794"/>
                </a:moveTo>
                <a:lnTo>
                  <a:pt x="20218" y="10800"/>
                </a:lnTo>
                <a:lnTo>
                  <a:pt x="620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5"/>
          <p:cNvSpPr/>
          <p:nvPr/>
        </p:nvSpPr>
        <p:spPr>
          <a:xfrm>
            <a:off x="4211640" y="195120"/>
            <a:ext cx="1657440" cy="642600"/>
          </a:xfrm>
          <a:prstGeom prst="wedgeRectCallout">
            <a:avLst>
              <a:gd name="adj1" fmla="val -45027"/>
              <a:gd name="adj2" fmla="val 3944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改变系统设置后一定要按”确定“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6"/>
          <p:cNvSpPr/>
          <p:nvPr/>
        </p:nvSpPr>
        <p:spPr>
          <a:xfrm>
            <a:off x="250920" y="552960"/>
            <a:ext cx="1152360" cy="368640"/>
          </a:xfrm>
          <a:prstGeom prst="wedgeRectCallout">
            <a:avLst>
              <a:gd name="adj1" fmla="val 38412"/>
              <a:gd name="adj2" fmla="val 1658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选择标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7">
            <a:hlinkClick r:id="" action="ppaction://hlinkshowjump?jump=nextslide"/>
          </p:cNvPr>
          <p:cNvSpPr/>
          <p:nvPr/>
        </p:nvSpPr>
        <p:spPr>
          <a:xfrm>
            <a:off x="7956720" y="33336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3794"/>
                </a:moveTo>
                <a:lnTo>
                  <a:pt x="20212" y="10800"/>
                </a:lnTo>
                <a:lnTo>
                  <a:pt x="620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6">
            <a:hlinkClick r:id="" action="ppaction://hlinkshowjump?jump=previousslide"/>
          </p:cNvPr>
          <p:cNvSpPr/>
          <p:nvPr/>
        </p:nvSpPr>
        <p:spPr>
          <a:xfrm>
            <a:off x="7020000" y="33336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10800"/>
                </a:moveTo>
                <a:lnTo>
                  <a:pt x="20212" y="3794"/>
                </a:lnTo>
                <a:lnTo>
                  <a:pt x="2021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1" descr=""/>
          <p:cNvPicPr/>
          <p:nvPr/>
        </p:nvPicPr>
        <p:blipFill>
          <a:blip r:embed="rId3"/>
          <a:stretch/>
        </p:blipFill>
        <p:spPr>
          <a:xfrm>
            <a:off x="250920" y="3949560"/>
            <a:ext cx="4125960" cy="2773440"/>
          </a:xfrm>
          <a:prstGeom prst="rect">
            <a:avLst/>
          </a:prstGeom>
          <a:ln w="0">
            <a:noFill/>
          </a:ln>
        </p:spPr>
      </p:pic>
      <p:pic>
        <p:nvPicPr>
          <p:cNvPr id="324" name="图片 3" descr=""/>
          <p:cNvPicPr/>
          <p:nvPr/>
        </p:nvPicPr>
        <p:blipFill>
          <a:blip r:embed="rId4"/>
          <a:stretch/>
        </p:blipFill>
        <p:spPr>
          <a:xfrm>
            <a:off x="4427640" y="3938760"/>
            <a:ext cx="4365360" cy="29192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0"/>
                            </p:stCondLst>
                            <p:childTnLst>
                              <p:par>
                                <p:cTn id="718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图片 1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6894720" cy="407988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23036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用户注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3"/>
          <p:cNvSpPr/>
          <p:nvPr/>
        </p:nvSpPr>
        <p:spPr>
          <a:xfrm>
            <a:off x="7182000" y="308520"/>
            <a:ext cx="1711080" cy="397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“输入用户信息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4"/>
          <p:cNvSpPr/>
          <p:nvPr/>
        </p:nvSpPr>
        <p:spPr>
          <a:xfrm>
            <a:off x="7764480" y="973080"/>
            <a:ext cx="360360" cy="200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5"/>
          <p:cNvSpPr/>
          <p:nvPr/>
        </p:nvSpPr>
        <p:spPr>
          <a:xfrm>
            <a:off x="7186680" y="1246680"/>
            <a:ext cx="1711080" cy="397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输入用户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6"/>
          <p:cNvSpPr/>
          <p:nvPr/>
        </p:nvSpPr>
        <p:spPr>
          <a:xfrm>
            <a:off x="7186680" y="2027160"/>
            <a:ext cx="1638360" cy="693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把用户信息复制到电子邮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7"/>
          <p:cNvSpPr/>
          <p:nvPr/>
        </p:nvSpPr>
        <p:spPr>
          <a:xfrm>
            <a:off x="7175520" y="3253320"/>
            <a:ext cx="1765440" cy="693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把电子邮件发给销售部，汇注册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8"/>
          <p:cNvSpPr/>
          <p:nvPr/>
        </p:nvSpPr>
        <p:spPr>
          <a:xfrm>
            <a:off x="7182000" y="4493160"/>
            <a:ext cx="1711080" cy="397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收到注册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9"/>
          <p:cNvSpPr/>
          <p:nvPr/>
        </p:nvSpPr>
        <p:spPr>
          <a:xfrm>
            <a:off x="7764480" y="1763640"/>
            <a:ext cx="360360" cy="200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0"/>
          <p:cNvSpPr/>
          <p:nvPr/>
        </p:nvSpPr>
        <p:spPr>
          <a:xfrm>
            <a:off x="7758000" y="2824200"/>
            <a:ext cx="360360" cy="198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1"/>
          <p:cNvSpPr/>
          <p:nvPr/>
        </p:nvSpPr>
        <p:spPr>
          <a:xfrm>
            <a:off x="7759800" y="4218120"/>
            <a:ext cx="360360" cy="198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2"/>
          <p:cNvSpPr/>
          <p:nvPr/>
        </p:nvSpPr>
        <p:spPr>
          <a:xfrm>
            <a:off x="7182000" y="5273640"/>
            <a:ext cx="1854000" cy="693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输入注册码，按“确定”按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3"/>
          <p:cNvSpPr/>
          <p:nvPr/>
        </p:nvSpPr>
        <p:spPr>
          <a:xfrm>
            <a:off x="7759800" y="5010120"/>
            <a:ext cx="360360" cy="198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4">
            <a:hlinkClick r:id="" action="ppaction://hlinkshowjump?jump=nextslide"/>
          </p:cNvPr>
          <p:cNvSpPr/>
          <p:nvPr/>
        </p:nvSpPr>
        <p:spPr>
          <a:xfrm>
            <a:off x="8388360" y="6165720"/>
            <a:ext cx="503280" cy="576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734">
                <a:moveTo>
                  <a:pt x="0" y="0"/>
                </a:moveTo>
                <a:lnTo>
                  <a:pt x="21600" y="0"/>
                </a:lnTo>
                <a:lnTo>
                  <a:pt x="21600" y="24734"/>
                </a:lnTo>
                <a:lnTo>
                  <a:pt x="0" y="24734"/>
                </a:lnTo>
                <a:close/>
              </a:path>
              <a:path fill="lightenLess" w="21600" h="247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4">
                <a:moveTo>
                  <a:pt x="21600" y="0"/>
                </a:moveTo>
                <a:lnTo>
                  <a:pt x="21600" y="24734"/>
                </a:lnTo>
                <a:lnTo>
                  <a:pt x="20200" y="23334"/>
                </a:lnTo>
                <a:lnTo>
                  <a:pt x="20200" y="1400"/>
                </a:lnTo>
                <a:close/>
              </a:path>
              <a:path fill="darkenLess" w="21600" h="24734">
                <a:moveTo>
                  <a:pt x="21600" y="24734"/>
                </a:moveTo>
                <a:lnTo>
                  <a:pt x="0" y="24734"/>
                </a:lnTo>
                <a:lnTo>
                  <a:pt x="1400" y="23334"/>
                </a:lnTo>
                <a:lnTo>
                  <a:pt x="20200" y="23334"/>
                </a:lnTo>
                <a:close/>
              </a:path>
              <a:path fill="lighten" w="21600" h="24734">
                <a:moveTo>
                  <a:pt x="0" y="247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4"/>
                </a:lnTo>
                <a:close/>
              </a:path>
              <a:path fill="darken" w="21600" h="24734">
                <a:moveTo>
                  <a:pt x="3794" y="5361"/>
                </a:moveTo>
                <a:lnTo>
                  <a:pt x="17806" y="12367"/>
                </a:lnTo>
                <a:lnTo>
                  <a:pt x="3794" y="1937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21"/>
          <p:cNvSpPr/>
          <p:nvPr/>
        </p:nvSpPr>
        <p:spPr>
          <a:xfrm>
            <a:off x="7164360" y="616572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23"/>
          <p:cNvSpPr/>
          <p:nvPr/>
        </p:nvSpPr>
        <p:spPr>
          <a:xfrm>
            <a:off x="4067280" y="365760"/>
            <a:ext cx="2952720" cy="368640"/>
          </a:xfrm>
          <a:prstGeom prst="wedgeRectCallout">
            <a:avLst>
              <a:gd name="adj1" fmla="val -60199"/>
              <a:gd name="adj2" fmla="val 3946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Q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群下载操作录像、幻灯演示、新版本的测试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24"/>
          <p:cNvSpPr/>
          <p:nvPr/>
        </p:nvSpPr>
        <p:spPr>
          <a:xfrm>
            <a:off x="250920" y="192960"/>
            <a:ext cx="1368360" cy="642600"/>
          </a:xfrm>
          <a:prstGeom prst="wedgeRectCallout">
            <a:avLst>
              <a:gd name="adj1" fmla="val 53837"/>
              <a:gd name="adj2" fmla="val 21343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此按钮进入官方博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28">
            <a:hlinkClick r:id="" action="ppaction://hlinkshowjump?jump=previousslide"/>
          </p:cNvPr>
          <p:cNvSpPr/>
          <p:nvPr/>
        </p:nvSpPr>
        <p:spPr>
          <a:xfrm>
            <a:off x="7885080" y="6165720"/>
            <a:ext cx="503280" cy="576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76360"/>
              <a:gd name="textAreaBottom" fmla="*/ 543960 h 576360"/>
            </a:gdLst>
            <a:ahLst/>
            <a:rect l="textAreaLeft" t="textAreaTop" r="textAreaRight" b="textAreaBottom"/>
            <a:pathLst>
              <a:path w="21600" h="24734">
                <a:moveTo>
                  <a:pt x="0" y="0"/>
                </a:moveTo>
                <a:lnTo>
                  <a:pt x="21600" y="0"/>
                </a:lnTo>
                <a:lnTo>
                  <a:pt x="21600" y="24734"/>
                </a:lnTo>
                <a:lnTo>
                  <a:pt x="0" y="24734"/>
                </a:lnTo>
                <a:close/>
              </a:path>
              <a:path fill="lightenLess" w="21600" h="247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4">
                <a:moveTo>
                  <a:pt x="21600" y="0"/>
                </a:moveTo>
                <a:lnTo>
                  <a:pt x="21600" y="24734"/>
                </a:lnTo>
                <a:lnTo>
                  <a:pt x="20200" y="23334"/>
                </a:lnTo>
                <a:lnTo>
                  <a:pt x="20200" y="1400"/>
                </a:lnTo>
                <a:close/>
              </a:path>
              <a:path fill="darkenLess" w="21600" h="24734">
                <a:moveTo>
                  <a:pt x="21600" y="24734"/>
                </a:moveTo>
                <a:lnTo>
                  <a:pt x="0" y="24734"/>
                </a:lnTo>
                <a:lnTo>
                  <a:pt x="1400" y="23334"/>
                </a:lnTo>
                <a:lnTo>
                  <a:pt x="20200" y="23334"/>
                </a:lnTo>
                <a:close/>
              </a:path>
              <a:path fill="lighten" w="21600" h="24734">
                <a:moveTo>
                  <a:pt x="0" y="247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4"/>
                </a:lnTo>
                <a:close/>
              </a:path>
              <a:path fill="darken" w="21600" h="24734">
                <a:moveTo>
                  <a:pt x="3794" y="12367"/>
                </a:moveTo>
                <a:lnTo>
                  <a:pt x="17806" y="5361"/>
                </a:lnTo>
                <a:lnTo>
                  <a:pt x="17806" y="19374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0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5000"/>
                            </p:stCondLst>
                            <p:childTnLst>
                              <p:par>
                                <p:cTn id="731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8000"/>
                            </p:stCondLst>
                            <p:childTnLst>
                              <p:par>
                                <p:cTn id="736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3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3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3000"/>
                            </p:stCondLst>
                            <p:childTnLst>
                              <p:par>
                                <p:cTn id="741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6000"/>
                            </p:stCondLst>
                            <p:childTnLst>
                              <p:par>
                                <p:cTn id="746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3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3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21000"/>
                            </p:stCondLst>
                            <p:childTnLst>
                              <p:par>
                                <p:cTn id="751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24000"/>
                            </p:stCondLst>
                            <p:childTnLst>
                              <p:par>
                                <p:cTn id="756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3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3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29000"/>
                            </p:stCondLst>
                            <p:childTnLst>
                              <p:par>
                                <p:cTn id="761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32000"/>
                            </p:stCondLst>
                            <p:childTnLst>
                              <p:par>
                                <p:cTn id="766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37000"/>
                            </p:stCondLst>
                            <p:childTnLst>
                              <p:par>
                                <p:cTn id="771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40000"/>
                            </p:stCondLst>
                            <p:childTnLst>
                              <p:par>
                                <p:cTn id="776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3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3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45000"/>
                            </p:stCondLst>
                            <p:childTnLst>
                              <p:par>
                                <p:cTn id="781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00"/>
                            </p:stCondLst>
                            <p:childTnLst>
                              <p:par>
                                <p:cTn id="786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3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3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7380360" y="476280"/>
            <a:ext cx="63000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关于排课高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0"/>
          <p:cNvSpPr/>
          <p:nvPr/>
        </p:nvSpPr>
        <p:spPr>
          <a:xfrm>
            <a:off x="4572000" y="5805360"/>
            <a:ext cx="1152360" cy="432000"/>
          </a:xfrm>
          <a:custGeom>
            <a:avLst/>
            <a:gdLst>
              <a:gd name="textAreaLeft" fmla="*/ 27720 w 1152360"/>
              <a:gd name="textAreaRight" fmla="*/ 1124640 w 1152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7588" h="21600">
                <a:moveTo>
                  <a:pt x="0" y="0"/>
                </a:moveTo>
                <a:lnTo>
                  <a:pt x="57588" y="0"/>
                </a:lnTo>
                <a:lnTo>
                  <a:pt x="57588" y="21600"/>
                </a:lnTo>
                <a:lnTo>
                  <a:pt x="0" y="21600"/>
                </a:lnTo>
                <a:close/>
              </a:path>
              <a:path fill="lightenLess" w="57588" h="21600">
                <a:moveTo>
                  <a:pt x="0" y="0"/>
                </a:moveTo>
                <a:lnTo>
                  <a:pt x="57588" y="0"/>
                </a:lnTo>
                <a:lnTo>
                  <a:pt x="56188" y="1400"/>
                </a:lnTo>
                <a:lnTo>
                  <a:pt x="1400" y="1400"/>
                </a:lnTo>
                <a:close/>
              </a:path>
              <a:path fill="darken" w="57588" h="21600">
                <a:moveTo>
                  <a:pt x="57588" y="0"/>
                </a:moveTo>
                <a:lnTo>
                  <a:pt x="57588" y="21600"/>
                </a:lnTo>
                <a:lnTo>
                  <a:pt x="56188" y="20200"/>
                </a:lnTo>
                <a:lnTo>
                  <a:pt x="56188" y="1400"/>
                </a:lnTo>
                <a:close/>
              </a:path>
              <a:path fill="darkenLess" w="57588" h="21600">
                <a:moveTo>
                  <a:pt x="57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8" y="20200"/>
                </a:lnTo>
                <a:close/>
              </a:path>
              <a:path fill="lighten" w="57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88" h="21600">
                <a:moveTo>
                  <a:pt x="21788" y="10800"/>
                </a:moveTo>
                <a:lnTo>
                  <a:pt x="35800" y="3794"/>
                </a:lnTo>
                <a:lnTo>
                  <a:pt x="3580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1">
            <a:hlinkClick r:id="" action="ppaction://hlinkshowjump?jump=nextslide"/>
          </p:cNvPr>
          <p:cNvSpPr/>
          <p:nvPr/>
        </p:nvSpPr>
        <p:spPr>
          <a:xfrm>
            <a:off x="7524720" y="580536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3794"/>
                </a:moveTo>
                <a:lnTo>
                  <a:pt x="34020" y="10800"/>
                </a:lnTo>
                <a:lnTo>
                  <a:pt x="2000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4">
            <a:hlinkClick r:id="" action="ppaction://hlinkshowjump?jump=previousslide"/>
          </p:cNvPr>
          <p:cNvSpPr/>
          <p:nvPr/>
        </p:nvSpPr>
        <p:spPr>
          <a:xfrm>
            <a:off x="6084720" y="5805360"/>
            <a:ext cx="1079640" cy="433440"/>
          </a:xfrm>
          <a:custGeom>
            <a:avLst/>
            <a:gdLst>
              <a:gd name="textAreaLeft" fmla="*/ 28080 w 1079640"/>
              <a:gd name="textAreaRight" fmla="*/ 1051560 w 107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53776" h="21600">
                <a:moveTo>
                  <a:pt x="0" y="0"/>
                </a:moveTo>
                <a:lnTo>
                  <a:pt x="53776" y="0"/>
                </a:lnTo>
                <a:lnTo>
                  <a:pt x="53776" y="21600"/>
                </a:lnTo>
                <a:lnTo>
                  <a:pt x="0" y="21600"/>
                </a:lnTo>
                <a:close/>
              </a:path>
              <a:path fill="lightenLess" w="53776" h="21600">
                <a:moveTo>
                  <a:pt x="0" y="0"/>
                </a:moveTo>
                <a:lnTo>
                  <a:pt x="53776" y="0"/>
                </a:lnTo>
                <a:lnTo>
                  <a:pt x="52376" y="1400"/>
                </a:lnTo>
                <a:lnTo>
                  <a:pt x="1400" y="1400"/>
                </a:lnTo>
                <a:close/>
              </a:path>
              <a:path fill="darken" w="53776" h="21600">
                <a:moveTo>
                  <a:pt x="53776" y="0"/>
                </a:moveTo>
                <a:lnTo>
                  <a:pt x="53776" y="21600"/>
                </a:lnTo>
                <a:lnTo>
                  <a:pt x="52376" y="20200"/>
                </a:lnTo>
                <a:lnTo>
                  <a:pt x="52376" y="1400"/>
                </a:lnTo>
                <a:close/>
              </a:path>
              <a:path fill="darkenLess" w="53776" h="21600">
                <a:moveTo>
                  <a:pt x="53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376" y="20200"/>
                </a:lnTo>
                <a:close/>
              </a:path>
              <a:path fill="lighten" w="53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776" h="21600">
                <a:moveTo>
                  <a:pt x="19881" y="10800"/>
                </a:moveTo>
                <a:lnTo>
                  <a:pt x="33894" y="3794"/>
                </a:lnTo>
                <a:lnTo>
                  <a:pt x="3389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1" descr=""/>
          <p:cNvPicPr/>
          <p:nvPr/>
        </p:nvPicPr>
        <p:blipFill>
          <a:blip r:embed="rId1"/>
          <a:stretch/>
        </p:blipFill>
        <p:spPr>
          <a:xfrm>
            <a:off x="181080" y="476280"/>
            <a:ext cx="6788160" cy="45640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276360" y="3213000"/>
            <a:ext cx="316836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再         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4">
            <a:hlinkClick r:id="" action="ppaction://hlinkshowjump?jump=firstslide"/>
          </p:cNvPr>
          <p:cNvSpPr/>
          <p:nvPr/>
        </p:nvSpPr>
        <p:spPr>
          <a:xfrm>
            <a:off x="2627280" y="5639760"/>
            <a:ext cx="1311480" cy="737640"/>
          </a:xfrm>
          <a:custGeom>
            <a:avLst/>
            <a:gdLst>
              <a:gd name="textAreaLeft" fmla="*/ 47520 w 1311480"/>
              <a:gd name="textAreaRight" fmla="*/ 1263960 w 1311480"/>
              <a:gd name="textAreaTop" fmla="*/ 47520 h 737640"/>
              <a:gd name="textAreaBottom" fmla="*/ 690120 h 73764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95" h="21600">
                <a:moveTo>
                  <a:pt x="12191" y="10800"/>
                </a:moveTo>
                <a:lnTo>
                  <a:pt x="26204" y="3794"/>
                </a:lnTo>
                <a:lnTo>
                  <a:pt x="2620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重新放映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5">
            <a:hlinkClick r:id="" action="ppaction://hlinkshowjump?jump=endshow"/>
          </p:cNvPr>
          <p:cNvSpPr/>
          <p:nvPr/>
        </p:nvSpPr>
        <p:spPr>
          <a:xfrm>
            <a:off x="7667640" y="5805360"/>
            <a:ext cx="1289160" cy="432000"/>
          </a:xfrm>
          <a:custGeom>
            <a:avLst/>
            <a:gdLst>
              <a:gd name="textAreaLeft" fmla="*/ 27720 w 1289160"/>
              <a:gd name="textAreaRight" fmla="*/ 1261440 w 12891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64422" h="21600">
                <a:moveTo>
                  <a:pt x="0" y="0"/>
                </a:moveTo>
                <a:lnTo>
                  <a:pt x="64422" y="0"/>
                </a:lnTo>
                <a:lnTo>
                  <a:pt x="64422" y="21600"/>
                </a:lnTo>
                <a:lnTo>
                  <a:pt x="0" y="21600"/>
                </a:lnTo>
                <a:close/>
              </a:path>
              <a:path fill="lightenLess" w="64422" h="21600">
                <a:moveTo>
                  <a:pt x="0" y="0"/>
                </a:moveTo>
                <a:lnTo>
                  <a:pt x="64422" y="0"/>
                </a:lnTo>
                <a:lnTo>
                  <a:pt x="63022" y="1400"/>
                </a:lnTo>
                <a:lnTo>
                  <a:pt x="1400" y="1400"/>
                </a:lnTo>
                <a:close/>
              </a:path>
              <a:path fill="darken" w="64422" h="21600">
                <a:moveTo>
                  <a:pt x="64422" y="0"/>
                </a:moveTo>
                <a:lnTo>
                  <a:pt x="64422" y="21600"/>
                </a:lnTo>
                <a:lnTo>
                  <a:pt x="63022" y="20200"/>
                </a:lnTo>
                <a:lnTo>
                  <a:pt x="63022" y="1400"/>
                </a:lnTo>
                <a:close/>
              </a:path>
              <a:path fill="darkenLess" w="64422" h="21600">
                <a:moveTo>
                  <a:pt x="64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022" y="20200"/>
                </a:lnTo>
                <a:close/>
              </a:path>
              <a:path fill="lighten" w="64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422" h="21600">
                <a:moveTo>
                  <a:pt x="25205" y="3794"/>
                </a:moveTo>
                <a:lnTo>
                  <a:pt x="39218" y="10800"/>
                </a:lnTo>
                <a:lnTo>
                  <a:pt x="2520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6"/>
          <p:cNvSpPr/>
          <p:nvPr/>
        </p:nvSpPr>
        <p:spPr>
          <a:xfrm>
            <a:off x="4427640" y="5805360"/>
            <a:ext cx="1152360" cy="432000"/>
          </a:xfrm>
          <a:custGeom>
            <a:avLst/>
            <a:gdLst>
              <a:gd name="textAreaLeft" fmla="*/ 27720 w 1152360"/>
              <a:gd name="textAreaRight" fmla="*/ 1124640 w 1152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7588" h="21600">
                <a:moveTo>
                  <a:pt x="0" y="0"/>
                </a:moveTo>
                <a:lnTo>
                  <a:pt x="57588" y="0"/>
                </a:lnTo>
                <a:lnTo>
                  <a:pt x="57588" y="21600"/>
                </a:lnTo>
                <a:lnTo>
                  <a:pt x="0" y="21600"/>
                </a:lnTo>
                <a:close/>
              </a:path>
              <a:path fill="lightenLess" w="57588" h="21600">
                <a:moveTo>
                  <a:pt x="0" y="0"/>
                </a:moveTo>
                <a:lnTo>
                  <a:pt x="57588" y="0"/>
                </a:lnTo>
                <a:lnTo>
                  <a:pt x="56188" y="1400"/>
                </a:lnTo>
                <a:lnTo>
                  <a:pt x="1400" y="1400"/>
                </a:lnTo>
                <a:close/>
              </a:path>
              <a:path fill="darken" w="57588" h="21600">
                <a:moveTo>
                  <a:pt x="57588" y="0"/>
                </a:moveTo>
                <a:lnTo>
                  <a:pt x="57588" y="21600"/>
                </a:lnTo>
                <a:lnTo>
                  <a:pt x="56188" y="20200"/>
                </a:lnTo>
                <a:lnTo>
                  <a:pt x="56188" y="1400"/>
                </a:lnTo>
                <a:close/>
              </a:path>
              <a:path fill="darkenLess" w="57588" h="21600">
                <a:moveTo>
                  <a:pt x="57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8" y="20200"/>
                </a:lnTo>
                <a:close/>
              </a:path>
              <a:path fill="lighten" w="57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88" h="21600">
                <a:moveTo>
                  <a:pt x="21788" y="10800"/>
                </a:moveTo>
                <a:lnTo>
                  <a:pt x="35800" y="3794"/>
                </a:lnTo>
                <a:lnTo>
                  <a:pt x="3580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1992240" y="1547640"/>
            <a:ext cx="51721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高级用户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请看“基本使用方法（高级用户）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8">
            <a:hlinkClick r:id="" action="ppaction://hlinkshowjump?jump=previousslide"/>
          </p:cNvPr>
          <p:cNvSpPr/>
          <p:nvPr/>
        </p:nvSpPr>
        <p:spPr>
          <a:xfrm>
            <a:off x="6012000" y="5805360"/>
            <a:ext cx="1152360" cy="432000"/>
          </a:xfrm>
          <a:custGeom>
            <a:avLst/>
            <a:gdLst>
              <a:gd name="textAreaLeft" fmla="*/ 27720 w 1152360"/>
              <a:gd name="textAreaRight" fmla="*/ 1124640 w 1152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7588" h="21600">
                <a:moveTo>
                  <a:pt x="0" y="0"/>
                </a:moveTo>
                <a:lnTo>
                  <a:pt x="57588" y="0"/>
                </a:lnTo>
                <a:lnTo>
                  <a:pt x="57588" y="21600"/>
                </a:lnTo>
                <a:lnTo>
                  <a:pt x="0" y="21600"/>
                </a:lnTo>
                <a:close/>
              </a:path>
              <a:path fill="lightenLess" w="57588" h="21600">
                <a:moveTo>
                  <a:pt x="0" y="0"/>
                </a:moveTo>
                <a:lnTo>
                  <a:pt x="57588" y="0"/>
                </a:lnTo>
                <a:lnTo>
                  <a:pt x="56188" y="1400"/>
                </a:lnTo>
                <a:lnTo>
                  <a:pt x="1400" y="1400"/>
                </a:lnTo>
                <a:close/>
              </a:path>
              <a:path fill="darken" w="57588" h="21600">
                <a:moveTo>
                  <a:pt x="57588" y="0"/>
                </a:moveTo>
                <a:lnTo>
                  <a:pt x="57588" y="21600"/>
                </a:lnTo>
                <a:lnTo>
                  <a:pt x="56188" y="20200"/>
                </a:lnTo>
                <a:lnTo>
                  <a:pt x="56188" y="1400"/>
                </a:lnTo>
                <a:close/>
              </a:path>
              <a:path fill="darkenLess" w="57588" h="21600">
                <a:moveTo>
                  <a:pt x="57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8" y="20200"/>
                </a:lnTo>
                <a:close/>
              </a:path>
              <a:path fill="lighten" w="57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88" h="21600">
                <a:moveTo>
                  <a:pt x="21788" y="10800"/>
                </a:moveTo>
                <a:lnTo>
                  <a:pt x="35800" y="3794"/>
                </a:lnTo>
                <a:lnTo>
                  <a:pt x="3580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2" descr=""/>
          <p:cNvPicPr/>
          <p:nvPr/>
        </p:nvPicPr>
        <p:blipFill>
          <a:blip r:embed="rId1"/>
          <a:stretch/>
        </p:blipFill>
        <p:spPr>
          <a:xfrm>
            <a:off x="163440" y="1197000"/>
            <a:ext cx="3040200" cy="4878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79280" y="259920"/>
            <a:ext cx="56451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欢迎使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排课高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3">
            <a:hlinkClick r:id="" action="ppaction://hlinkshowjump?jump=nextslide"/>
          </p:cNvPr>
          <p:cNvSpPr/>
          <p:nvPr/>
        </p:nvSpPr>
        <p:spPr>
          <a:xfrm>
            <a:off x="7740720" y="6021360"/>
            <a:ext cx="1079280" cy="432000"/>
          </a:xfrm>
          <a:custGeom>
            <a:avLst/>
            <a:gdLst>
              <a:gd name="textAreaLeft" fmla="*/ 27720 w 1079280"/>
              <a:gd name="textAreaRight" fmla="*/ 1051560 w 107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3937" h="21600">
                <a:moveTo>
                  <a:pt x="0" y="0"/>
                </a:moveTo>
                <a:lnTo>
                  <a:pt x="53937" y="0"/>
                </a:lnTo>
                <a:lnTo>
                  <a:pt x="53937" y="21600"/>
                </a:lnTo>
                <a:lnTo>
                  <a:pt x="0" y="21600"/>
                </a:lnTo>
                <a:close/>
              </a:path>
              <a:path fill="lightenLess" w="53937" h="21600">
                <a:moveTo>
                  <a:pt x="0" y="0"/>
                </a:moveTo>
                <a:lnTo>
                  <a:pt x="53937" y="0"/>
                </a:lnTo>
                <a:lnTo>
                  <a:pt x="52537" y="1400"/>
                </a:lnTo>
                <a:lnTo>
                  <a:pt x="1400" y="1400"/>
                </a:lnTo>
                <a:close/>
              </a:path>
              <a:path fill="darken" w="53937" h="21600">
                <a:moveTo>
                  <a:pt x="53937" y="0"/>
                </a:moveTo>
                <a:lnTo>
                  <a:pt x="53937" y="21600"/>
                </a:lnTo>
                <a:lnTo>
                  <a:pt x="52537" y="20200"/>
                </a:lnTo>
                <a:lnTo>
                  <a:pt x="52537" y="1400"/>
                </a:lnTo>
                <a:close/>
              </a:path>
              <a:path fill="darkenLess" w="53937" h="21600">
                <a:moveTo>
                  <a:pt x="5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7" y="20200"/>
                </a:lnTo>
                <a:close/>
              </a:path>
              <a:path fill="lighten" w="5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7" h="21600">
                <a:moveTo>
                  <a:pt x="19962" y="3794"/>
                </a:moveTo>
                <a:lnTo>
                  <a:pt x="33975" y="10800"/>
                </a:lnTo>
                <a:lnTo>
                  <a:pt x="1996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17"/>
          <p:cNvSpPr/>
          <p:nvPr/>
        </p:nvSpPr>
        <p:spPr>
          <a:xfrm>
            <a:off x="4140360" y="3213000"/>
            <a:ext cx="21564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18"/>
          <p:cNvSpPr/>
          <p:nvPr/>
        </p:nvSpPr>
        <p:spPr>
          <a:xfrm>
            <a:off x="5867280" y="3213000"/>
            <a:ext cx="414360" cy="523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9"/>
          <p:cNvSpPr/>
          <p:nvPr/>
        </p:nvSpPr>
        <p:spPr>
          <a:xfrm>
            <a:off x="5003640" y="3213000"/>
            <a:ext cx="21600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22"/>
          <p:cNvSpPr/>
          <p:nvPr/>
        </p:nvSpPr>
        <p:spPr>
          <a:xfrm>
            <a:off x="5292720" y="2276640"/>
            <a:ext cx="431640" cy="2565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默认初级界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23"/>
          <p:cNvSpPr/>
          <p:nvPr/>
        </p:nvSpPr>
        <p:spPr>
          <a:xfrm>
            <a:off x="4427640" y="2019240"/>
            <a:ext cx="431640" cy="28227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输入学校简称再回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24"/>
          <p:cNvSpPr/>
          <p:nvPr/>
        </p:nvSpPr>
        <p:spPr>
          <a:xfrm>
            <a:off x="3564000" y="2021040"/>
            <a:ext cx="422280" cy="28209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输入学校全称再回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23"/>
          <p:cNvGrpSpPr/>
          <p:nvPr/>
        </p:nvGrpSpPr>
        <p:grpSpPr>
          <a:xfrm>
            <a:off x="6300720" y="907920"/>
            <a:ext cx="2662200" cy="4741920"/>
            <a:chOff x="6300720" y="907920"/>
            <a:chExt cx="2662200" cy="4741920"/>
          </a:xfrm>
        </p:grpSpPr>
        <p:grpSp>
          <p:nvGrpSpPr>
            <p:cNvPr id="69" name="组合 22"/>
            <p:cNvGrpSpPr/>
            <p:nvPr/>
          </p:nvGrpSpPr>
          <p:grpSpPr>
            <a:xfrm>
              <a:off x="6372000" y="907920"/>
              <a:ext cx="2590920" cy="4741920"/>
              <a:chOff x="6372000" y="907920"/>
              <a:chExt cx="2590920" cy="4741920"/>
            </a:xfrm>
          </p:grpSpPr>
          <p:sp>
            <p:nvSpPr>
              <p:cNvPr id="70" name="AutoShape 128"/>
              <p:cNvSpPr/>
              <p:nvPr/>
            </p:nvSpPr>
            <p:spPr>
              <a:xfrm>
                <a:off x="6372000" y="1698120"/>
                <a:ext cx="2590920" cy="97848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按“帮助”按钮，看“用户手册”，可以掌握高级使用方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AutoShape 127"/>
              <p:cNvSpPr/>
              <p:nvPr/>
            </p:nvSpPr>
            <p:spPr>
              <a:xfrm>
                <a:off x="6372000" y="907920"/>
                <a:ext cx="2369160" cy="62748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按“下步”按钮，进入主菜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AutoShape 129"/>
              <p:cNvSpPr/>
              <p:nvPr/>
            </p:nvSpPr>
            <p:spPr>
              <a:xfrm>
                <a:off x="6372000" y="2847960"/>
                <a:ext cx="2305440" cy="63828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按“注册”按钮，用户注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AutoShape 130"/>
              <p:cNvSpPr/>
              <p:nvPr/>
            </p:nvSpPr>
            <p:spPr>
              <a:xfrm>
                <a:off x="6372000" y="5002200"/>
                <a:ext cx="2382840" cy="64764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按“退出”按钮，退出系统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AutoShape 131"/>
              <p:cNvSpPr/>
              <p:nvPr/>
            </p:nvSpPr>
            <p:spPr>
              <a:xfrm>
                <a:off x="6372000" y="3638520"/>
                <a:ext cx="2367720" cy="1221120"/>
              </a:xfrm>
              <a:prstGeom prst="flowChartAlternate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按“撤销”按钮，删除学校全称、学校简称和注册（修改校名时可用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AutoShape 132"/>
            <p:cNvSpPr/>
            <p:nvPr/>
          </p:nvSpPr>
          <p:spPr>
            <a:xfrm>
              <a:off x="6300720" y="1399320"/>
              <a:ext cx="71280" cy="4033800"/>
            </a:xfrm>
            <a:custGeom>
              <a:avLst/>
              <a:gdLst>
                <a:gd name="textAreaLeft" fmla="*/ 20880 w 71280"/>
                <a:gd name="textAreaRight" fmla="*/ 71640 w 71280"/>
                <a:gd name="textAreaTop" fmla="*/ 170640 h 4033800"/>
                <a:gd name="textAreaBottom" fmla="*/ 3863160 h 403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16"/>
                    <a:pt x="0" y="1831"/>
                  </a:cubicBezTo>
                  <a:lnTo>
                    <a:pt x="0" y="19769"/>
                  </a:lnTo>
                  <a:cubicBezTo>
                    <a:pt x="0" y="20685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AutoShape 135"/>
          <p:cNvSpPr/>
          <p:nvPr/>
        </p:nvSpPr>
        <p:spPr>
          <a:xfrm>
            <a:off x="3492360" y="907920"/>
            <a:ext cx="2735280" cy="10098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建议初次使用的用户选择“初级界面”以减少困难，以后可以随时改为“高级界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37"/>
          <p:cNvSpPr/>
          <p:nvPr/>
        </p:nvSpPr>
        <p:spPr>
          <a:xfrm>
            <a:off x="3259080" y="6026040"/>
            <a:ext cx="3157560" cy="368640"/>
          </a:xfrm>
          <a:prstGeom prst="wedgeRectCallout">
            <a:avLst>
              <a:gd name="adj1" fmla="val -69171"/>
              <a:gd name="adj2" fmla="val -2297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Q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群里下载排课高手新版本，解压后得到安装包、用户手册、幻灯演示、操作录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38">
            <a:hlinkClick r:id="" action="ppaction://hlinkshowjump?jump=previousslide"/>
          </p:cNvPr>
          <p:cNvSpPr/>
          <p:nvPr/>
        </p:nvSpPr>
        <p:spPr>
          <a:xfrm>
            <a:off x="6516720" y="602136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10800"/>
                </a:moveTo>
                <a:lnTo>
                  <a:pt x="34020" y="3794"/>
                </a:lnTo>
                <a:lnTo>
                  <a:pt x="3402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36"/>
          <p:cNvSpPr/>
          <p:nvPr/>
        </p:nvSpPr>
        <p:spPr>
          <a:xfrm>
            <a:off x="3419640" y="5014080"/>
            <a:ext cx="1368360" cy="642600"/>
          </a:xfrm>
          <a:prstGeom prst="wedgeRectCallout">
            <a:avLst>
              <a:gd name="adj1" fmla="val -132847"/>
              <a:gd name="adj2" fmla="val -5117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按此按钮进入官方博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000"/>
                            </p:stCondLst>
                            <p:childTnLst>
                              <p:par>
                                <p:cTn id="8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3000"/>
                            </p:stCondLst>
                            <p:childTnLst>
                              <p:par>
                                <p:cTn id="94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6000"/>
                            </p:stCondLst>
                            <p:childTnLst>
                              <p:par>
                                <p:cTn id="99" dur="indefinite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3000"/>
                            </p:stCondLst>
                            <p:childTnLst>
                              <p:par>
                                <p:cTn id="10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" descr=""/>
          <p:cNvPicPr/>
          <p:nvPr/>
        </p:nvPicPr>
        <p:blipFill>
          <a:blip r:embed="rId1"/>
          <a:stretch/>
        </p:blipFill>
        <p:spPr>
          <a:xfrm>
            <a:off x="1069920" y="1800360"/>
            <a:ext cx="8507520" cy="52336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8000" y="1989000"/>
            <a:ext cx="720720" cy="19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主菜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"/>
          <p:cNvSpPr/>
          <p:nvPr/>
        </p:nvSpPr>
        <p:spPr>
          <a:xfrm>
            <a:off x="108000" y="5589720"/>
            <a:ext cx="711000" cy="1089000"/>
          </a:xfrm>
          <a:custGeom>
            <a:avLst/>
            <a:gdLst>
              <a:gd name="textAreaLeft" fmla="*/ 46080 w 711000"/>
              <a:gd name="textAreaRight" fmla="*/ 664920 w 711000"/>
              <a:gd name="textAreaTop" fmla="*/ 46080 h 1089000"/>
              <a:gd name="textAreaBottom" fmla="*/ 1042920 h 1089000"/>
            </a:gdLst>
            <a:ahLst/>
            <a:rect l="textAreaLeft" t="textAreaTop" r="textAreaRight" b="textAreaBottom"/>
            <a:pathLst>
              <a:path w="21600" h="33078">
                <a:moveTo>
                  <a:pt x="0" y="0"/>
                </a:moveTo>
                <a:lnTo>
                  <a:pt x="21600" y="0"/>
                </a:lnTo>
                <a:lnTo>
                  <a:pt x="21600" y="33078"/>
                </a:lnTo>
                <a:lnTo>
                  <a:pt x="0" y="33078"/>
                </a:lnTo>
                <a:close/>
              </a:path>
              <a:path fill="lightenLess" w="21600" h="330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078">
                <a:moveTo>
                  <a:pt x="21600" y="0"/>
                </a:moveTo>
                <a:lnTo>
                  <a:pt x="21600" y="33078"/>
                </a:lnTo>
                <a:lnTo>
                  <a:pt x="20200" y="31678"/>
                </a:lnTo>
                <a:lnTo>
                  <a:pt x="20200" y="1400"/>
                </a:lnTo>
                <a:close/>
              </a:path>
              <a:path fill="darkenLess" w="21600" h="33078">
                <a:moveTo>
                  <a:pt x="21600" y="33078"/>
                </a:moveTo>
                <a:lnTo>
                  <a:pt x="0" y="33078"/>
                </a:lnTo>
                <a:lnTo>
                  <a:pt x="1400" y="31678"/>
                </a:lnTo>
                <a:lnTo>
                  <a:pt x="20200" y="31678"/>
                </a:lnTo>
                <a:close/>
              </a:path>
              <a:path fill="lighten" w="21600" h="33078">
                <a:moveTo>
                  <a:pt x="0" y="33078"/>
                </a:moveTo>
                <a:lnTo>
                  <a:pt x="0" y="0"/>
                </a:lnTo>
                <a:lnTo>
                  <a:pt x="1400" y="1400"/>
                </a:lnTo>
                <a:lnTo>
                  <a:pt x="1400" y="31678"/>
                </a:lnTo>
                <a:close/>
              </a:path>
              <a:path fill="darken" w="21600" h="33078">
                <a:moveTo>
                  <a:pt x="3794" y="9532"/>
                </a:moveTo>
                <a:lnTo>
                  <a:pt x="17806" y="16539"/>
                </a:lnTo>
                <a:lnTo>
                  <a:pt x="3794" y="23545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1"/>
          <p:cNvSpPr/>
          <p:nvPr/>
        </p:nvSpPr>
        <p:spPr>
          <a:xfrm>
            <a:off x="0" y="285840"/>
            <a:ext cx="1333440" cy="1638360"/>
          </a:xfrm>
          <a:prstGeom prst="wedgeRoundRectCallout">
            <a:avLst>
              <a:gd name="adj1" fmla="val 53333"/>
              <a:gd name="adj2" fmla="val 9170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按“新建”按钮右边的下拉箭头，选择新建文件的方式，新建一个排课文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2"/>
          <p:cNvSpPr/>
          <p:nvPr/>
        </p:nvSpPr>
        <p:spPr>
          <a:xfrm>
            <a:off x="1279440" y="450720"/>
            <a:ext cx="1158840" cy="1416240"/>
          </a:xfrm>
          <a:prstGeom prst="wedgeRoundRectCallout">
            <a:avLst>
              <a:gd name="adj1" fmla="val -11416"/>
              <a:gd name="adj2" fmla="val 10206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按“打开”按钮，打开一个已有的排课文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3"/>
          <p:cNvSpPr/>
          <p:nvPr/>
        </p:nvSpPr>
        <p:spPr>
          <a:xfrm>
            <a:off x="7845480" y="243000"/>
            <a:ext cx="954000" cy="1557360"/>
          </a:xfrm>
          <a:prstGeom prst="wedgeRoundRectCallout">
            <a:avLst>
              <a:gd name="adj1" fmla="val -450199"/>
              <a:gd name="adj2" fmla="val 9839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按“设置”按钮，修改系统设置（可选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8">
            <a:hlinkClick r:id="" action="ppaction://hlinkshowjump?jump=previousslide"/>
          </p:cNvPr>
          <p:cNvSpPr/>
          <p:nvPr/>
        </p:nvSpPr>
        <p:spPr>
          <a:xfrm>
            <a:off x="108000" y="4221000"/>
            <a:ext cx="720720" cy="1152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1152720"/>
              <a:gd name="textAreaBottom" fmla="*/ 1106280 h 1152720"/>
            </a:gdLst>
            <a:ahLst/>
            <a:rect l="textAreaLeft" t="textAreaTop" r="textAreaRight" b="textAreaBottom"/>
            <a:pathLst>
              <a:path w="21600" h="34541">
                <a:moveTo>
                  <a:pt x="0" y="0"/>
                </a:moveTo>
                <a:lnTo>
                  <a:pt x="21600" y="0"/>
                </a:lnTo>
                <a:lnTo>
                  <a:pt x="21600" y="34541"/>
                </a:lnTo>
                <a:lnTo>
                  <a:pt x="0" y="34541"/>
                </a:lnTo>
                <a:close/>
              </a:path>
              <a:path fill="lightenLess" w="21600" h="345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41">
                <a:moveTo>
                  <a:pt x="21600" y="0"/>
                </a:moveTo>
                <a:lnTo>
                  <a:pt x="21600" y="34541"/>
                </a:lnTo>
                <a:lnTo>
                  <a:pt x="20200" y="33141"/>
                </a:lnTo>
                <a:lnTo>
                  <a:pt x="20200" y="1400"/>
                </a:lnTo>
                <a:close/>
              </a:path>
              <a:path fill="darkenLess" w="21600" h="34541">
                <a:moveTo>
                  <a:pt x="21600" y="34541"/>
                </a:moveTo>
                <a:lnTo>
                  <a:pt x="0" y="34541"/>
                </a:lnTo>
                <a:lnTo>
                  <a:pt x="1400" y="33141"/>
                </a:lnTo>
                <a:lnTo>
                  <a:pt x="20200" y="33141"/>
                </a:lnTo>
                <a:close/>
              </a:path>
              <a:path fill="lighten" w="21600" h="34541">
                <a:moveTo>
                  <a:pt x="0" y="34541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41"/>
                </a:lnTo>
                <a:close/>
              </a:path>
              <a:path fill="darken" w="21600" h="34541">
                <a:moveTo>
                  <a:pt x="3794" y="17270"/>
                </a:moveTo>
                <a:lnTo>
                  <a:pt x="17806" y="10264"/>
                </a:lnTo>
                <a:lnTo>
                  <a:pt x="17806" y="242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4" descr=""/>
          <p:cNvPicPr/>
          <p:nvPr/>
        </p:nvPicPr>
        <p:blipFill>
          <a:blip r:embed="rId1"/>
          <a:stretch/>
        </p:blipFill>
        <p:spPr>
          <a:xfrm>
            <a:off x="130320" y="1736640"/>
            <a:ext cx="7105680" cy="36784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1656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自动新建排课文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2">
            <a:hlinkClick r:id="" action="ppaction://hlinkshowjump?jump=nextslide"/>
          </p:cNvPr>
          <p:cNvSpPr/>
          <p:nvPr/>
        </p:nvSpPr>
        <p:spPr>
          <a:xfrm>
            <a:off x="3203640" y="6021360"/>
            <a:ext cx="1727280" cy="43200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86310" h="21600">
                <a:moveTo>
                  <a:pt x="0" y="0"/>
                </a:moveTo>
                <a:lnTo>
                  <a:pt x="86310" y="0"/>
                </a:lnTo>
                <a:lnTo>
                  <a:pt x="86310" y="21600"/>
                </a:lnTo>
                <a:lnTo>
                  <a:pt x="0" y="21600"/>
                </a:lnTo>
                <a:close/>
              </a:path>
              <a:path fill="lightenLess" w="86310" h="21600">
                <a:moveTo>
                  <a:pt x="0" y="0"/>
                </a:moveTo>
                <a:lnTo>
                  <a:pt x="86310" y="0"/>
                </a:lnTo>
                <a:lnTo>
                  <a:pt x="84910" y="1400"/>
                </a:lnTo>
                <a:lnTo>
                  <a:pt x="1400" y="1400"/>
                </a:lnTo>
                <a:close/>
              </a:path>
              <a:path fill="darken" w="86310" h="21600">
                <a:moveTo>
                  <a:pt x="86310" y="0"/>
                </a:moveTo>
                <a:lnTo>
                  <a:pt x="86310" y="21600"/>
                </a:lnTo>
                <a:lnTo>
                  <a:pt x="84910" y="20200"/>
                </a:lnTo>
                <a:lnTo>
                  <a:pt x="84910" y="1400"/>
                </a:lnTo>
                <a:close/>
              </a:path>
              <a:path fill="darkenLess" w="86310" h="21600">
                <a:moveTo>
                  <a:pt x="86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10" y="20200"/>
                </a:lnTo>
                <a:close/>
              </a:path>
              <a:path fill="lighten" w="86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10" h="21600">
                <a:moveTo>
                  <a:pt x="36149" y="3794"/>
                </a:moveTo>
                <a:lnTo>
                  <a:pt x="50162" y="10800"/>
                </a:lnTo>
                <a:lnTo>
                  <a:pt x="36149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6">
            <a:hlinkClick r:id="" action="ppaction://hlinkshowjump?jump=previousslide"/>
          </p:cNvPr>
          <p:cNvSpPr/>
          <p:nvPr/>
        </p:nvSpPr>
        <p:spPr>
          <a:xfrm>
            <a:off x="826920" y="6021360"/>
            <a:ext cx="1800360" cy="43200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89961" h="21600">
                <a:moveTo>
                  <a:pt x="0" y="0"/>
                </a:moveTo>
                <a:lnTo>
                  <a:pt x="89961" y="0"/>
                </a:lnTo>
                <a:lnTo>
                  <a:pt x="89961" y="21600"/>
                </a:lnTo>
                <a:lnTo>
                  <a:pt x="0" y="21600"/>
                </a:lnTo>
                <a:close/>
              </a:path>
              <a:path fill="lightenLess" w="89961" h="21600">
                <a:moveTo>
                  <a:pt x="0" y="0"/>
                </a:moveTo>
                <a:lnTo>
                  <a:pt x="89961" y="0"/>
                </a:lnTo>
                <a:lnTo>
                  <a:pt x="88561" y="1400"/>
                </a:lnTo>
                <a:lnTo>
                  <a:pt x="1400" y="1400"/>
                </a:lnTo>
                <a:close/>
              </a:path>
              <a:path fill="darken" w="89961" h="21600">
                <a:moveTo>
                  <a:pt x="89961" y="0"/>
                </a:moveTo>
                <a:lnTo>
                  <a:pt x="89961" y="21600"/>
                </a:lnTo>
                <a:lnTo>
                  <a:pt x="88561" y="20200"/>
                </a:lnTo>
                <a:lnTo>
                  <a:pt x="88561" y="1400"/>
                </a:lnTo>
                <a:close/>
              </a:path>
              <a:path fill="darkenLess" w="89961" h="21600">
                <a:moveTo>
                  <a:pt x="8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61" y="20200"/>
                </a:lnTo>
                <a:close/>
              </a:path>
              <a:path fill="lighten" w="8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9961" h="21600">
                <a:moveTo>
                  <a:pt x="37974" y="10800"/>
                </a:moveTo>
                <a:lnTo>
                  <a:pt x="51987" y="3794"/>
                </a:lnTo>
                <a:lnTo>
                  <a:pt x="51987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0">
            <a:hlinkClick r:id="" action="ppaction://hlinkshowjump?jump=nextslide"/>
          </p:cNvPr>
          <p:cNvSpPr/>
          <p:nvPr/>
        </p:nvSpPr>
        <p:spPr>
          <a:xfrm>
            <a:off x="3203640" y="6093000"/>
            <a:ext cx="1727280" cy="43164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6382" h="21600">
                <a:moveTo>
                  <a:pt x="0" y="0"/>
                </a:moveTo>
                <a:lnTo>
                  <a:pt x="86382" y="0"/>
                </a:lnTo>
                <a:lnTo>
                  <a:pt x="86382" y="21600"/>
                </a:lnTo>
                <a:lnTo>
                  <a:pt x="0" y="21600"/>
                </a:lnTo>
                <a:close/>
              </a:path>
              <a:path fill="lightenLess" w="86382" h="21600">
                <a:moveTo>
                  <a:pt x="0" y="0"/>
                </a:moveTo>
                <a:lnTo>
                  <a:pt x="86382" y="0"/>
                </a:lnTo>
                <a:lnTo>
                  <a:pt x="84982" y="1400"/>
                </a:lnTo>
                <a:lnTo>
                  <a:pt x="1400" y="1400"/>
                </a:lnTo>
                <a:close/>
              </a:path>
              <a:path fill="darken" w="86382" h="21600">
                <a:moveTo>
                  <a:pt x="86382" y="0"/>
                </a:moveTo>
                <a:lnTo>
                  <a:pt x="86382" y="21600"/>
                </a:lnTo>
                <a:lnTo>
                  <a:pt x="84982" y="20200"/>
                </a:lnTo>
                <a:lnTo>
                  <a:pt x="84982" y="1400"/>
                </a:lnTo>
                <a:close/>
              </a:path>
              <a:path fill="darkenLess" w="86382" h="21600">
                <a:moveTo>
                  <a:pt x="86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2" y="20200"/>
                </a:lnTo>
                <a:close/>
              </a:path>
              <a:path fill="lighten" w="86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82" h="21600">
                <a:moveTo>
                  <a:pt x="36185" y="3794"/>
                </a:moveTo>
                <a:lnTo>
                  <a:pt x="50197" y="10800"/>
                </a:lnTo>
                <a:lnTo>
                  <a:pt x="361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1">
            <a:hlinkClick r:id="" action="ppaction://hlinkshowjump?jump=previousslide"/>
          </p:cNvPr>
          <p:cNvSpPr/>
          <p:nvPr/>
        </p:nvSpPr>
        <p:spPr>
          <a:xfrm>
            <a:off x="82692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10800"/>
                </a:moveTo>
                <a:lnTo>
                  <a:pt x="52024" y="3794"/>
                </a:lnTo>
                <a:lnTo>
                  <a:pt x="5202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3"/>
          <p:cNvSpPr/>
          <p:nvPr/>
        </p:nvSpPr>
        <p:spPr>
          <a:xfrm>
            <a:off x="108000" y="1197000"/>
            <a:ext cx="2016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自动在默认的文件夹里新建默认名称的排课文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5"/>
          <p:cNvSpPr/>
          <p:nvPr/>
        </p:nvSpPr>
        <p:spPr>
          <a:xfrm>
            <a:off x="3059280" y="476280"/>
            <a:ext cx="2449440" cy="936720"/>
          </a:xfrm>
          <a:prstGeom prst="rightArrowCallout">
            <a:avLst>
              <a:gd name="adj1" fmla="val 25002"/>
              <a:gd name="adj2" fmla="val 12500"/>
              <a:gd name="adj3" fmla="val 43243"/>
              <a:gd name="adj4" fmla="val 6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6"/>
          <p:cNvSpPr/>
          <p:nvPr/>
        </p:nvSpPr>
        <p:spPr>
          <a:xfrm>
            <a:off x="2556000" y="260280"/>
            <a:ext cx="2447640" cy="1152720"/>
          </a:xfrm>
          <a:prstGeom prst="wedgeRect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7"/>
          <p:cNvSpPr/>
          <p:nvPr/>
        </p:nvSpPr>
        <p:spPr>
          <a:xfrm>
            <a:off x="2556000" y="404640"/>
            <a:ext cx="2087280" cy="1079640"/>
          </a:xfrm>
          <a:prstGeom prst="wedgeRectCallout">
            <a:avLst>
              <a:gd name="adj1" fmla="val -18745"/>
              <a:gd name="adj2" fmla="val 1632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3348000" y="260280"/>
            <a:ext cx="2232000" cy="1224000"/>
          </a:xfrm>
          <a:prstGeom prst="wedgeRoundRectCallout">
            <a:avLst>
              <a:gd name="adj1" fmla="val -8787"/>
              <a:gd name="adj2" fmla="val 15972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按“下步”按钮，在默认的文件夹里新建一个排课文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2"/>
          <p:cNvSpPr/>
          <p:nvPr/>
        </p:nvSpPr>
        <p:spPr>
          <a:xfrm>
            <a:off x="6156360" y="549360"/>
            <a:ext cx="2232000" cy="863640"/>
          </a:xfrm>
          <a:prstGeom prst="wedgeRoundRectCallout">
            <a:avLst>
              <a:gd name="adj1" fmla="val -110069"/>
              <a:gd name="adj2" fmla="val 29834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此框里输入新建的排课文件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2" descr=""/>
          <p:cNvPicPr/>
          <p:nvPr/>
        </p:nvPicPr>
        <p:blipFill>
          <a:blip r:embed="rId1"/>
          <a:stretch/>
        </p:blipFill>
        <p:spPr>
          <a:xfrm>
            <a:off x="3686040" y="333360"/>
            <a:ext cx="5241960" cy="548316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28">
            <a:hlinkClick r:id="" action="ppaction://hlinkshowjump?jump=nextslide"/>
          </p:cNvPr>
          <p:cNvSpPr/>
          <p:nvPr/>
        </p:nvSpPr>
        <p:spPr>
          <a:xfrm>
            <a:off x="2627280" y="595008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3794"/>
                </a:moveTo>
                <a:lnTo>
                  <a:pt x="28568" y="10800"/>
                </a:lnTo>
                <a:lnTo>
                  <a:pt x="1455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9"/>
          <p:cNvSpPr/>
          <p:nvPr/>
        </p:nvSpPr>
        <p:spPr>
          <a:xfrm>
            <a:off x="395280" y="595008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14555" y="10800"/>
                </a:moveTo>
                <a:lnTo>
                  <a:pt x="28568" y="3794"/>
                </a:lnTo>
                <a:lnTo>
                  <a:pt x="2856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0"/>
          <p:cNvSpPr/>
          <p:nvPr/>
        </p:nvSpPr>
        <p:spPr>
          <a:xfrm>
            <a:off x="395280" y="5002560"/>
            <a:ext cx="2951280" cy="368640"/>
          </a:xfrm>
          <a:prstGeom prst="wedgeRectCallout">
            <a:avLst>
              <a:gd name="adj1" fmla="val 131750"/>
              <a:gd name="adj2" fmla="val -3527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此框右击，选择“粘贴”，剪贴板中数据进此框，按提示操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1"/>
          <p:cNvSpPr/>
          <p:nvPr/>
        </p:nvSpPr>
        <p:spPr>
          <a:xfrm>
            <a:off x="395280" y="3641400"/>
            <a:ext cx="3024360" cy="368640"/>
          </a:xfrm>
          <a:prstGeom prst="wedgeRectCallout">
            <a:avLst>
              <a:gd name="adj1" fmla="val 62865"/>
              <a:gd name="adj2" fmla="val -4796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“输入姓名方式”为“从剪贴板粘贴姓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2"/>
          <p:cNvSpPr/>
          <p:nvPr/>
        </p:nvSpPr>
        <p:spPr>
          <a:xfrm>
            <a:off x="395280" y="1829160"/>
            <a:ext cx="3097080" cy="916920"/>
          </a:xfrm>
          <a:prstGeom prst="wedgeRectCallout">
            <a:avLst>
              <a:gd name="adj1" fmla="val -49143"/>
              <a:gd name="adj2" fmla="val 2801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ce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or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记事本等文件中选中全校教师姓名（要求每行一人，不含代码和简称），右击，选择“复制”，教师姓名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indow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剪贴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3"/>
          <p:cNvSpPr/>
          <p:nvPr/>
        </p:nvSpPr>
        <p:spPr>
          <a:xfrm>
            <a:off x="179280" y="333360"/>
            <a:ext cx="3600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编辑教师姓名</a:t>
            </a:r>
            <a:br>
              <a:rPr sz="32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从剪贴板粘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5">
            <a:hlinkClick r:id="" action="ppaction://hlinkshowjump?jump=previousslide"/>
          </p:cNvPr>
          <p:cNvSpPr/>
          <p:nvPr/>
        </p:nvSpPr>
        <p:spPr>
          <a:xfrm>
            <a:off x="1547640" y="5950080"/>
            <a:ext cx="938520" cy="503280"/>
          </a:xfrm>
          <a:custGeom>
            <a:avLst/>
            <a:gdLst>
              <a:gd name="textAreaLeft" fmla="*/ 32400 w 938520"/>
              <a:gd name="textAreaRight" fmla="*/ 906120 w 9385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0266" h="21600">
                <a:moveTo>
                  <a:pt x="0" y="0"/>
                </a:moveTo>
                <a:lnTo>
                  <a:pt x="40266" y="0"/>
                </a:lnTo>
                <a:lnTo>
                  <a:pt x="40266" y="21600"/>
                </a:lnTo>
                <a:lnTo>
                  <a:pt x="0" y="21600"/>
                </a:lnTo>
                <a:close/>
              </a:path>
              <a:path fill="lightenLess" w="40266" h="21600">
                <a:moveTo>
                  <a:pt x="0" y="0"/>
                </a:moveTo>
                <a:lnTo>
                  <a:pt x="40266" y="0"/>
                </a:lnTo>
                <a:lnTo>
                  <a:pt x="38866" y="1400"/>
                </a:lnTo>
                <a:lnTo>
                  <a:pt x="1400" y="1400"/>
                </a:lnTo>
                <a:close/>
              </a:path>
              <a:path fill="darken" w="40266" h="21600">
                <a:moveTo>
                  <a:pt x="40266" y="0"/>
                </a:moveTo>
                <a:lnTo>
                  <a:pt x="40266" y="21600"/>
                </a:lnTo>
                <a:lnTo>
                  <a:pt x="38866" y="20200"/>
                </a:lnTo>
                <a:lnTo>
                  <a:pt x="38866" y="1400"/>
                </a:lnTo>
                <a:close/>
              </a:path>
              <a:path fill="darkenLess" w="40266" h="21600">
                <a:moveTo>
                  <a:pt x="4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866" y="20200"/>
                </a:lnTo>
                <a:close/>
              </a:path>
              <a:path fill="lighten" w="4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266" h="21600">
                <a:moveTo>
                  <a:pt x="13127" y="10800"/>
                </a:moveTo>
                <a:lnTo>
                  <a:pt x="27140" y="3794"/>
                </a:lnTo>
                <a:lnTo>
                  <a:pt x="2714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0"/>
                            </p:stCondLst>
                            <p:childTnLst>
                              <p:par>
                                <p:cTn id="15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4" descr=""/>
          <p:cNvPicPr/>
          <p:nvPr/>
        </p:nvPicPr>
        <p:blipFill>
          <a:blip r:embed="rId1"/>
          <a:stretch/>
        </p:blipFill>
        <p:spPr>
          <a:xfrm>
            <a:off x="1979640" y="1252440"/>
            <a:ext cx="7043760" cy="52531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8000" y="333000"/>
            <a:ext cx="27352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辑全校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232000" y="773280"/>
            <a:ext cx="23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 学校和班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8"/>
          <p:cNvSpPr/>
          <p:nvPr/>
        </p:nvSpPr>
        <p:spPr>
          <a:xfrm>
            <a:off x="60480" y="5866200"/>
            <a:ext cx="3752640" cy="368640"/>
          </a:xfrm>
          <a:prstGeom prst="wedgeRectCallout">
            <a:avLst>
              <a:gd name="adj1" fmla="val 64425"/>
              <a:gd name="adj2" fmla="val -41214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修改级名和班数（可以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输入新值后回车），修改后一定要按“确定”按钮，级名和班名进右边大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3"/>
          <p:cNvSpPr/>
          <p:nvPr/>
        </p:nvSpPr>
        <p:spPr>
          <a:xfrm>
            <a:off x="4564080" y="277560"/>
            <a:ext cx="2663640" cy="642600"/>
          </a:xfrm>
          <a:prstGeom prst="wedgeRectCallout">
            <a:avLst>
              <a:gd name="adj1" fmla="val -91078"/>
              <a:gd name="adj2" fmla="val 2210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本页编辑完毕后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程及指定位置尽量不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标签，进入“编辑全校条件”的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4">
            <a:hlinkClick r:id="" action="ppaction://hlinkshowjump?jump=nextslide"/>
          </p:cNvPr>
          <p:cNvSpPr/>
          <p:nvPr/>
        </p:nvSpPr>
        <p:spPr>
          <a:xfrm>
            <a:off x="8101080" y="6229080"/>
            <a:ext cx="934920" cy="423000"/>
          </a:xfrm>
          <a:custGeom>
            <a:avLst/>
            <a:gdLst>
              <a:gd name="textAreaLeft" fmla="*/ 27360 w 934920"/>
              <a:gd name="textAreaRight" fmla="*/ 907560 w 93492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7718" h="21600">
                <a:moveTo>
                  <a:pt x="0" y="0"/>
                </a:moveTo>
                <a:lnTo>
                  <a:pt x="47718" y="0"/>
                </a:lnTo>
                <a:lnTo>
                  <a:pt x="47718" y="21600"/>
                </a:lnTo>
                <a:lnTo>
                  <a:pt x="0" y="21600"/>
                </a:lnTo>
                <a:close/>
              </a:path>
              <a:path fill="lightenLess" w="47718" h="21600">
                <a:moveTo>
                  <a:pt x="0" y="0"/>
                </a:moveTo>
                <a:lnTo>
                  <a:pt x="47718" y="0"/>
                </a:lnTo>
                <a:lnTo>
                  <a:pt x="46318" y="1400"/>
                </a:lnTo>
                <a:lnTo>
                  <a:pt x="1400" y="1400"/>
                </a:lnTo>
                <a:close/>
              </a:path>
              <a:path fill="darken" w="47718" h="21600">
                <a:moveTo>
                  <a:pt x="47718" y="0"/>
                </a:moveTo>
                <a:lnTo>
                  <a:pt x="47718" y="21600"/>
                </a:lnTo>
                <a:lnTo>
                  <a:pt x="46318" y="20200"/>
                </a:lnTo>
                <a:lnTo>
                  <a:pt x="46318" y="1400"/>
                </a:lnTo>
                <a:close/>
              </a:path>
              <a:path fill="darkenLess" w="47718" h="21600">
                <a:moveTo>
                  <a:pt x="4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318" y="20200"/>
                </a:lnTo>
                <a:close/>
              </a:path>
              <a:path fill="lighten" w="4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718" h="21600">
                <a:moveTo>
                  <a:pt x="16853" y="3794"/>
                </a:moveTo>
                <a:lnTo>
                  <a:pt x="30866" y="10800"/>
                </a:lnTo>
                <a:lnTo>
                  <a:pt x="1685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7" descr=""/>
          <p:cNvPicPr/>
          <p:nvPr/>
        </p:nvPicPr>
        <p:blipFill>
          <a:blip r:embed="rId2"/>
          <a:stretch/>
        </p:blipFill>
        <p:spPr>
          <a:xfrm>
            <a:off x="0" y="1916280"/>
            <a:ext cx="1846440" cy="97452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5"/>
          <p:cNvSpPr/>
          <p:nvPr/>
        </p:nvSpPr>
        <p:spPr>
          <a:xfrm>
            <a:off x="179280" y="749160"/>
            <a:ext cx="1584360" cy="368640"/>
          </a:xfrm>
          <a:prstGeom prst="wedgeRectCallout">
            <a:avLst>
              <a:gd name="adj1" fmla="val 159699"/>
              <a:gd name="adj2" fmla="val 6315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单击下拉箭头，出现日历，选择开学日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0"/>
          <p:cNvSpPr/>
          <p:nvPr/>
        </p:nvSpPr>
        <p:spPr>
          <a:xfrm>
            <a:off x="7321680" y="492480"/>
            <a:ext cx="1714320" cy="368640"/>
          </a:xfrm>
          <a:prstGeom prst="wedgeRectCallout">
            <a:avLst>
              <a:gd name="adj1" fmla="val -47041"/>
              <a:gd name="adj2" fmla="val 7009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选中上表某班级的班主任位置，再在教师框选中某教师，该教师成为班主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8"/>
          <p:cNvSpPr/>
          <p:nvPr/>
        </p:nvSpPr>
        <p:spPr>
          <a:xfrm>
            <a:off x="5940360" y="2487240"/>
            <a:ext cx="2289240" cy="368640"/>
          </a:xfrm>
          <a:prstGeom prst="wedgeRectCallout">
            <a:avLst>
              <a:gd name="adj1" fmla="val -1717"/>
              <a:gd name="adj2" fmla="val 13858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直接在表格中修改班名（最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字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1"/>
          <p:cNvSpPr/>
          <p:nvPr/>
        </p:nvSpPr>
        <p:spPr>
          <a:xfrm>
            <a:off x="8101080" y="5084640"/>
            <a:ext cx="936720" cy="433440"/>
          </a:xfrm>
          <a:custGeom>
            <a:avLst/>
            <a:gdLst>
              <a:gd name="textAreaLeft" fmla="*/ 28080 w 936720"/>
              <a:gd name="textAreaRight" fmla="*/ 908640 w 936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6660" h="21600">
                <a:moveTo>
                  <a:pt x="0" y="0"/>
                </a:moveTo>
                <a:lnTo>
                  <a:pt x="46660" y="0"/>
                </a:lnTo>
                <a:lnTo>
                  <a:pt x="46660" y="21600"/>
                </a:lnTo>
                <a:lnTo>
                  <a:pt x="0" y="21600"/>
                </a:lnTo>
                <a:close/>
              </a:path>
              <a:path fill="lightenLess" w="46660" h="21600">
                <a:moveTo>
                  <a:pt x="0" y="0"/>
                </a:moveTo>
                <a:lnTo>
                  <a:pt x="46660" y="0"/>
                </a:lnTo>
                <a:lnTo>
                  <a:pt x="45260" y="1400"/>
                </a:lnTo>
                <a:lnTo>
                  <a:pt x="1400" y="1400"/>
                </a:lnTo>
                <a:close/>
              </a:path>
              <a:path fill="darken" w="46660" h="21600">
                <a:moveTo>
                  <a:pt x="46660" y="0"/>
                </a:moveTo>
                <a:lnTo>
                  <a:pt x="46660" y="21600"/>
                </a:lnTo>
                <a:lnTo>
                  <a:pt x="45260" y="20200"/>
                </a:lnTo>
                <a:lnTo>
                  <a:pt x="45260" y="1400"/>
                </a:lnTo>
                <a:close/>
              </a:path>
              <a:path fill="darkenLess" w="46660" h="21600">
                <a:moveTo>
                  <a:pt x="46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60" y="20200"/>
                </a:lnTo>
                <a:close/>
              </a:path>
              <a:path fill="lighten" w="46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660" h="21600">
                <a:moveTo>
                  <a:pt x="16323" y="10800"/>
                </a:moveTo>
                <a:lnTo>
                  <a:pt x="30336" y="3794"/>
                </a:lnTo>
                <a:lnTo>
                  <a:pt x="30336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3">
            <a:hlinkClick r:id="" action="ppaction://hlinkshowjump?jump=previousslide"/>
          </p:cNvPr>
          <p:cNvSpPr/>
          <p:nvPr/>
        </p:nvSpPr>
        <p:spPr>
          <a:xfrm>
            <a:off x="8101080" y="5734080"/>
            <a:ext cx="936720" cy="360360"/>
          </a:xfrm>
          <a:custGeom>
            <a:avLst/>
            <a:gdLst>
              <a:gd name="textAreaLeft" fmla="*/ 23040 w 936720"/>
              <a:gd name="textAreaRight" fmla="*/ 913680 w 936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6113" h="21600">
                <a:moveTo>
                  <a:pt x="0" y="0"/>
                </a:moveTo>
                <a:lnTo>
                  <a:pt x="56113" y="0"/>
                </a:lnTo>
                <a:lnTo>
                  <a:pt x="56113" y="21600"/>
                </a:lnTo>
                <a:lnTo>
                  <a:pt x="0" y="21600"/>
                </a:lnTo>
                <a:close/>
              </a:path>
              <a:path fill="lightenLess" w="56113" h="21600">
                <a:moveTo>
                  <a:pt x="0" y="0"/>
                </a:moveTo>
                <a:lnTo>
                  <a:pt x="56113" y="0"/>
                </a:lnTo>
                <a:lnTo>
                  <a:pt x="54713" y="1400"/>
                </a:lnTo>
                <a:lnTo>
                  <a:pt x="1400" y="1400"/>
                </a:lnTo>
                <a:close/>
              </a:path>
              <a:path fill="darken" w="56113" h="21600">
                <a:moveTo>
                  <a:pt x="56113" y="0"/>
                </a:moveTo>
                <a:lnTo>
                  <a:pt x="56113" y="21600"/>
                </a:lnTo>
                <a:lnTo>
                  <a:pt x="54713" y="20200"/>
                </a:lnTo>
                <a:lnTo>
                  <a:pt x="54713" y="1400"/>
                </a:lnTo>
                <a:close/>
              </a:path>
              <a:path fill="darkenLess" w="56113" h="21600">
                <a:moveTo>
                  <a:pt x="561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3" y="20200"/>
                </a:lnTo>
                <a:close/>
              </a:path>
              <a:path fill="lighten" w="561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13" h="21600">
                <a:moveTo>
                  <a:pt x="21050" y="10800"/>
                </a:moveTo>
                <a:lnTo>
                  <a:pt x="35063" y="3794"/>
                </a:lnTo>
                <a:lnTo>
                  <a:pt x="3506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8101080" y="3983760"/>
            <a:ext cx="936720" cy="915840"/>
          </a:xfrm>
          <a:prstGeom prst="wedgeRectCallout">
            <a:avLst>
              <a:gd name="adj1" fmla="val -53995"/>
              <a:gd name="adj2" fmla="val 185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全部班级输入完毕后一定要按“确定”按钮。完成本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60480" y="3063600"/>
            <a:ext cx="1403280" cy="368640"/>
          </a:xfrm>
          <a:prstGeom prst="wedgeRectCallout">
            <a:avLst>
              <a:gd name="adj1" fmla="val 151175"/>
              <a:gd name="adj2" fmla="val 1915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学校类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60480" y="4200120"/>
            <a:ext cx="1403280" cy="368640"/>
          </a:xfrm>
          <a:prstGeom prst="wedgeRectCallout">
            <a:avLst>
              <a:gd name="adj1" fmla="val 161180"/>
              <a:gd name="adj2" fmla="val -3585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选择结束日期和每天节数、上午节数、下午节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dur="indefinite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8000"/>
                            </p:stCondLst>
                            <p:childTnLst>
                              <p:par>
                                <p:cTn id="179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3001"/>
                            </p:stCondLst>
                            <p:childTnLst>
                              <p:par>
                                <p:cTn id="184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8001"/>
                            </p:stCondLst>
                            <p:childTnLst>
                              <p:par>
                                <p:cTn id="189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3001"/>
                            </p:stCondLst>
                            <p:childTnLst>
                              <p:par>
                                <p:cTn id="194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6001"/>
                            </p:stCondLst>
                            <p:childTnLst>
                              <p:par>
                                <p:cTn id="199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1001"/>
                            </p:stCondLst>
                            <p:childTnLst>
                              <p:par>
                                <p:cTn id="204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6001"/>
                            </p:stCondLst>
                            <p:childTnLst>
                              <p:par>
                                <p:cTn id="209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4" descr=""/>
          <p:cNvPicPr/>
          <p:nvPr/>
        </p:nvPicPr>
        <p:blipFill>
          <a:blip r:embed="rId1"/>
          <a:stretch/>
        </p:blipFill>
        <p:spPr>
          <a:xfrm>
            <a:off x="109440" y="1612800"/>
            <a:ext cx="7847280" cy="51148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"/>
          <p:cNvSpPr/>
          <p:nvPr/>
        </p:nvSpPr>
        <p:spPr>
          <a:xfrm>
            <a:off x="5796000" y="189000"/>
            <a:ext cx="16556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编辑全校排课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956720" y="189000"/>
            <a:ext cx="104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 课程及指定位置尽量不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2">
            <a:hlinkClick r:id="" action="ppaction://hlinkshowjump?jump=nextslide"/>
          </p:cNvPr>
          <p:cNvSpPr/>
          <p:nvPr/>
        </p:nvSpPr>
        <p:spPr>
          <a:xfrm>
            <a:off x="8112240" y="6229080"/>
            <a:ext cx="923760" cy="423000"/>
          </a:xfrm>
          <a:custGeom>
            <a:avLst/>
            <a:gdLst>
              <a:gd name="textAreaLeft" fmla="*/ 27360 w 923760"/>
              <a:gd name="textAreaRight" fmla="*/ 896400 w 92376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47149" h="21600">
                <a:moveTo>
                  <a:pt x="0" y="0"/>
                </a:moveTo>
                <a:lnTo>
                  <a:pt x="47149" y="0"/>
                </a:lnTo>
                <a:lnTo>
                  <a:pt x="47149" y="21600"/>
                </a:lnTo>
                <a:lnTo>
                  <a:pt x="0" y="21600"/>
                </a:lnTo>
                <a:close/>
              </a:path>
              <a:path fill="lightenLess" w="47149" h="21600">
                <a:moveTo>
                  <a:pt x="0" y="0"/>
                </a:moveTo>
                <a:lnTo>
                  <a:pt x="47149" y="0"/>
                </a:lnTo>
                <a:lnTo>
                  <a:pt x="45749" y="1400"/>
                </a:lnTo>
                <a:lnTo>
                  <a:pt x="1400" y="1400"/>
                </a:lnTo>
                <a:close/>
              </a:path>
              <a:path fill="darken" w="47149" h="21600">
                <a:moveTo>
                  <a:pt x="47149" y="0"/>
                </a:moveTo>
                <a:lnTo>
                  <a:pt x="47149" y="21600"/>
                </a:lnTo>
                <a:lnTo>
                  <a:pt x="45749" y="20200"/>
                </a:lnTo>
                <a:lnTo>
                  <a:pt x="45749" y="1400"/>
                </a:lnTo>
                <a:close/>
              </a:path>
              <a:path fill="darkenLess" w="47149" h="21600">
                <a:moveTo>
                  <a:pt x="47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749" y="20200"/>
                </a:lnTo>
                <a:close/>
              </a:path>
              <a:path fill="lighten" w="47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149" h="21600">
                <a:moveTo>
                  <a:pt x="16568" y="3794"/>
                </a:moveTo>
                <a:lnTo>
                  <a:pt x="30581" y="10800"/>
                </a:lnTo>
                <a:lnTo>
                  <a:pt x="1656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4"/>
          <p:cNvSpPr/>
          <p:nvPr/>
        </p:nvSpPr>
        <p:spPr>
          <a:xfrm>
            <a:off x="2416320" y="586440"/>
            <a:ext cx="2592360" cy="580680"/>
          </a:xfrm>
          <a:prstGeom prst="wedgeRectCallout">
            <a:avLst>
              <a:gd name="adj1" fmla="val -40254"/>
              <a:gd name="adj2" fmla="val 25501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、本页编辑完毕按”课程特殊要求“标签，进入“编辑全校条件”第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5"/>
          <p:cNvSpPr/>
          <p:nvPr/>
        </p:nvSpPr>
        <p:spPr>
          <a:xfrm>
            <a:off x="8101080" y="5084640"/>
            <a:ext cx="934920" cy="452520"/>
          </a:xfrm>
          <a:custGeom>
            <a:avLst/>
            <a:gdLst>
              <a:gd name="textAreaLeft" fmla="*/ 29160 w 934920"/>
              <a:gd name="textAreaRight" fmla="*/ 905760 w 934920"/>
              <a:gd name="textAreaTop" fmla="*/ 29160 h 452520"/>
              <a:gd name="textAreaBottom" fmla="*/ 423360 h 452520"/>
            </a:gdLst>
            <a:ahLst/>
            <a:rect l="textAreaLeft" t="textAreaTop" r="textAreaRight" b="textAreaBottom"/>
            <a:pathLst>
              <a:path w="44608" h="21600">
                <a:moveTo>
                  <a:pt x="0" y="0"/>
                </a:moveTo>
                <a:lnTo>
                  <a:pt x="44608" y="0"/>
                </a:lnTo>
                <a:lnTo>
                  <a:pt x="44608" y="21600"/>
                </a:lnTo>
                <a:lnTo>
                  <a:pt x="0" y="21600"/>
                </a:lnTo>
                <a:close/>
              </a:path>
              <a:path fill="lightenLess" w="44608" h="21600">
                <a:moveTo>
                  <a:pt x="0" y="0"/>
                </a:moveTo>
                <a:lnTo>
                  <a:pt x="44608" y="0"/>
                </a:lnTo>
                <a:lnTo>
                  <a:pt x="43208" y="1400"/>
                </a:lnTo>
                <a:lnTo>
                  <a:pt x="1400" y="1400"/>
                </a:lnTo>
                <a:close/>
              </a:path>
              <a:path fill="darken" w="44608" h="21600">
                <a:moveTo>
                  <a:pt x="44608" y="0"/>
                </a:moveTo>
                <a:lnTo>
                  <a:pt x="44608" y="21600"/>
                </a:lnTo>
                <a:lnTo>
                  <a:pt x="43208" y="20200"/>
                </a:lnTo>
                <a:lnTo>
                  <a:pt x="43208" y="1400"/>
                </a:lnTo>
                <a:close/>
              </a:path>
              <a:path fill="darkenLess" w="44608" h="21600">
                <a:moveTo>
                  <a:pt x="44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208" y="20200"/>
                </a:lnTo>
                <a:close/>
              </a:path>
              <a:path fill="lighten" w="44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608" h="21600">
                <a:moveTo>
                  <a:pt x="15297" y="10800"/>
                </a:moveTo>
                <a:lnTo>
                  <a:pt x="29310" y="3794"/>
                </a:lnTo>
                <a:lnTo>
                  <a:pt x="2931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6"/>
          <p:cNvSpPr/>
          <p:nvPr/>
        </p:nvSpPr>
        <p:spPr>
          <a:xfrm>
            <a:off x="5003640" y="5787720"/>
            <a:ext cx="1729080" cy="612000"/>
          </a:xfrm>
          <a:prstGeom prst="wedgeRectCallout">
            <a:avLst>
              <a:gd name="adj1" fmla="val -154638"/>
              <a:gd name="adj2" fmla="val -795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、单击，出现“△”表示该课程本节尽量不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4"/>
          <p:cNvSpPr/>
          <p:nvPr/>
        </p:nvSpPr>
        <p:spPr>
          <a:xfrm>
            <a:off x="184320" y="1244880"/>
            <a:ext cx="2232000" cy="337680"/>
          </a:xfrm>
          <a:prstGeom prst="wedgeRectCallout">
            <a:avLst>
              <a:gd name="adj1" fmla="val -39601"/>
              <a:gd name="adj2" fmla="val 7030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、先选择输入课程名的方式为从剪贴板粘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8">
            <a:hlinkClick r:id="" action="ppaction://hlinkshowjump?jump=previousslide"/>
          </p:cNvPr>
          <p:cNvSpPr/>
          <p:nvPr/>
        </p:nvSpPr>
        <p:spPr>
          <a:xfrm>
            <a:off x="8101080" y="5734080"/>
            <a:ext cx="934920" cy="358920"/>
          </a:xfrm>
          <a:custGeom>
            <a:avLst/>
            <a:gdLst>
              <a:gd name="textAreaLeft" fmla="*/ 23040 w 934920"/>
              <a:gd name="textAreaRight" fmla="*/ 911880 w 9349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6229" h="21600">
                <a:moveTo>
                  <a:pt x="0" y="0"/>
                </a:moveTo>
                <a:lnTo>
                  <a:pt x="56229" y="0"/>
                </a:lnTo>
                <a:lnTo>
                  <a:pt x="56229" y="21600"/>
                </a:lnTo>
                <a:lnTo>
                  <a:pt x="0" y="21600"/>
                </a:lnTo>
                <a:close/>
              </a:path>
              <a:path fill="lightenLess" w="56229" h="21600">
                <a:moveTo>
                  <a:pt x="0" y="0"/>
                </a:moveTo>
                <a:lnTo>
                  <a:pt x="56229" y="0"/>
                </a:lnTo>
                <a:lnTo>
                  <a:pt x="54829" y="1400"/>
                </a:lnTo>
                <a:lnTo>
                  <a:pt x="1400" y="1400"/>
                </a:lnTo>
                <a:close/>
              </a:path>
              <a:path fill="darken" w="56229" h="21600">
                <a:moveTo>
                  <a:pt x="56229" y="0"/>
                </a:moveTo>
                <a:lnTo>
                  <a:pt x="56229" y="21600"/>
                </a:lnTo>
                <a:lnTo>
                  <a:pt x="54829" y="20200"/>
                </a:lnTo>
                <a:lnTo>
                  <a:pt x="54829" y="1400"/>
                </a:lnTo>
                <a:close/>
              </a:path>
              <a:path fill="darkenLess" w="56229" h="21600">
                <a:moveTo>
                  <a:pt x="562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829" y="20200"/>
                </a:lnTo>
                <a:close/>
              </a:path>
              <a:path fill="lighten" w="562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229" h="21600">
                <a:moveTo>
                  <a:pt x="21108" y="10800"/>
                </a:moveTo>
                <a:lnTo>
                  <a:pt x="35121" y="3794"/>
                </a:lnTo>
                <a:lnTo>
                  <a:pt x="35121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4"/>
          <p:cNvSpPr/>
          <p:nvPr/>
        </p:nvSpPr>
        <p:spPr>
          <a:xfrm>
            <a:off x="8201160" y="3068640"/>
            <a:ext cx="733320" cy="580680"/>
          </a:xfrm>
          <a:prstGeom prst="wedgeRectCallout">
            <a:avLst>
              <a:gd name="adj1" fmla="val -167467"/>
              <a:gd name="adj2" fmla="val -13017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、右击后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粘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，剪贴板中的课程名进入绿色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27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2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1" descr=""/>
          <p:cNvPicPr/>
          <p:nvPr/>
        </p:nvPicPr>
        <p:blipFill>
          <a:blip r:embed="rId1"/>
          <a:stretch/>
        </p:blipFill>
        <p:spPr>
          <a:xfrm>
            <a:off x="77760" y="1206360"/>
            <a:ext cx="7507440" cy="55627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5724360" y="115920"/>
            <a:ext cx="2025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编辑        全校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885080" y="115920"/>
            <a:ext cx="100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  课程特殊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809640" y="4242960"/>
            <a:ext cx="720720" cy="368640"/>
          </a:xfrm>
          <a:prstGeom prst="wedgeRectCallout">
            <a:avLst>
              <a:gd name="adj1" fmla="val 178805"/>
              <a:gd name="adj2" fmla="val -2422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安排语文课做作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169920" y="348840"/>
            <a:ext cx="2736720" cy="368640"/>
          </a:xfrm>
          <a:prstGeom prst="wedgeRectCallout">
            <a:avLst>
              <a:gd name="adj1" fmla="val 15472"/>
              <a:gd name="adj2" fmla="val 5178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在左边表格中选择课程，在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值”框中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值，按“添加”按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7885080" y="2672280"/>
            <a:ext cx="1116000" cy="368640"/>
          </a:xfrm>
          <a:prstGeom prst="wedgeRectCallout">
            <a:avLst>
              <a:gd name="adj1" fmla="val -128745"/>
              <a:gd name="adj2" fmla="val 316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安排物理、化学等需要实验器材的课程，慎重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7740720" y="4764600"/>
            <a:ext cx="1297080" cy="368640"/>
          </a:xfrm>
          <a:prstGeom prst="wedgeRectCallout">
            <a:avLst>
              <a:gd name="adj1" fmla="val -111708"/>
              <a:gd name="adj2" fmla="val -1308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安排需要实验室、音乐室或运动场地的课程，慎重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8388360" y="6229080"/>
            <a:ext cx="671400" cy="423000"/>
          </a:xfrm>
          <a:custGeom>
            <a:avLst/>
            <a:gdLst>
              <a:gd name="textAreaLeft" fmla="*/ 27360 w 671400"/>
              <a:gd name="textAreaRight" fmla="*/ 644040 w 67140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34273" h="21600">
                <a:moveTo>
                  <a:pt x="0" y="0"/>
                </a:moveTo>
                <a:lnTo>
                  <a:pt x="34273" y="0"/>
                </a:lnTo>
                <a:lnTo>
                  <a:pt x="34273" y="21600"/>
                </a:lnTo>
                <a:lnTo>
                  <a:pt x="0" y="21600"/>
                </a:lnTo>
                <a:close/>
              </a:path>
              <a:path fill="lightenLess" w="34273" h="21600">
                <a:moveTo>
                  <a:pt x="0" y="0"/>
                </a:moveTo>
                <a:lnTo>
                  <a:pt x="34273" y="0"/>
                </a:lnTo>
                <a:lnTo>
                  <a:pt x="32873" y="1400"/>
                </a:lnTo>
                <a:lnTo>
                  <a:pt x="1400" y="1400"/>
                </a:lnTo>
                <a:close/>
              </a:path>
              <a:path fill="darken" w="34273" h="21600">
                <a:moveTo>
                  <a:pt x="34273" y="0"/>
                </a:moveTo>
                <a:lnTo>
                  <a:pt x="34273" y="21600"/>
                </a:lnTo>
                <a:lnTo>
                  <a:pt x="32873" y="20200"/>
                </a:lnTo>
                <a:lnTo>
                  <a:pt x="32873" y="1400"/>
                </a:lnTo>
                <a:close/>
              </a:path>
              <a:path fill="darkenLess" w="34273" h="21600">
                <a:moveTo>
                  <a:pt x="342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73" y="20200"/>
                </a:lnTo>
                <a:close/>
              </a:path>
              <a:path fill="lighten" w="342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73" h="21600">
                <a:moveTo>
                  <a:pt x="10130" y="3794"/>
                </a:moveTo>
                <a:lnTo>
                  <a:pt x="24143" y="10800"/>
                </a:lnTo>
                <a:lnTo>
                  <a:pt x="10130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3059280" y="328680"/>
            <a:ext cx="2665080" cy="580680"/>
          </a:xfrm>
          <a:prstGeom prst="wedgeRectCallout">
            <a:avLst>
              <a:gd name="adj1" fmla="val -13995"/>
              <a:gd name="adj2" fmla="val 2401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、本页编辑完毕按”专用教室和作息时间“标签，进入“编辑全校条件”第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页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6875640" y="6237360"/>
            <a:ext cx="774360" cy="452520"/>
          </a:xfrm>
          <a:custGeom>
            <a:avLst/>
            <a:gdLst>
              <a:gd name="textAreaLeft" fmla="*/ 29160 w 774360"/>
              <a:gd name="textAreaRight" fmla="*/ 745200 w 774360"/>
              <a:gd name="textAreaTop" fmla="*/ 29160 h 452520"/>
              <a:gd name="textAreaBottom" fmla="*/ 423360 h 452520"/>
            </a:gdLst>
            <a:ahLst/>
            <a:rect l="textAreaLeft" t="textAreaTop" r="textAreaRight" b="textAreaBottom"/>
            <a:pathLst>
              <a:path w="36950" h="21600">
                <a:moveTo>
                  <a:pt x="0" y="0"/>
                </a:moveTo>
                <a:lnTo>
                  <a:pt x="36950" y="0"/>
                </a:lnTo>
                <a:lnTo>
                  <a:pt x="36950" y="21600"/>
                </a:lnTo>
                <a:lnTo>
                  <a:pt x="0" y="21600"/>
                </a:lnTo>
                <a:close/>
              </a:path>
              <a:path fill="lightenLess" w="36950" h="21600">
                <a:moveTo>
                  <a:pt x="0" y="0"/>
                </a:moveTo>
                <a:lnTo>
                  <a:pt x="36950" y="0"/>
                </a:lnTo>
                <a:lnTo>
                  <a:pt x="35550" y="1400"/>
                </a:lnTo>
                <a:lnTo>
                  <a:pt x="1400" y="1400"/>
                </a:lnTo>
                <a:close/>
              </a:path>
              <a:path fill="darken" w="36950" h="21600">
                <a:moveTo>
                  <a:pt x="36950" y="0"/>
                </a:moveTo>
                <a:lnTo>
                  <a:pt x="36950" y="21600"/>
                </a:lnTo>
                <a:lnTo>
                  <a:pt x="35550" y="20200"/>
                </a:lnTo>
                <a:lnTo>
                  <a:pt x="35550" y="1400"/>
                </a:lnTo>
                <a:close/>
              </a:path>
              <a:path fill="darkenLess" w="36950" h="21600">
                <a:moveTo>
                  <a:pt x="369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50" y="20200"/>
                </a:lnTo>
                <a:close/>
              </a:path>
              <a:path fill="lighten" w="369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50" h="21600">
                <a:moveTo>
                  <a:pt x="11469" y="10800"/>
                </a:moveTo>
                <a:lnTo>
                  <a:pt x="25482" y="3794"/>
                </a:lnTo>
                <a:lnTo>
                  <a:pt x="25482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21"/>
          <p:cNvSpPr/>
          <p:nvPr/>
        </p:nvSpPr>
        <p:spPr>
          <a:xfrm>
            <a:off x="2270160" y="4880520"/>
            <a:ext cx="1295280" cy="368640"/>
          </a:xfrm>
          <a:prstGeom prst="wedgeRectCallout">
            <a:avLst>
              <a:gd name="adj1" fmla="val 12541"/>
              <a:gd name="adj2" fmla="val -1562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如果要求不连排，在此设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23">
            <a:hlinkClick r:id="" action="ppaction://hlinkshowjump?jump=previousslide"/>
          </p:cNvPr>
          <p:cNvSpPr/>
          <p:nvPr/>
        </p:nvSpPr>
        <p:spPr>
          <a:xfrm>
            <a:off x="774072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10800"/>
                </a:moveTo>
                <a:lnTo>
                  <a:pt x="21424" y="3794"/>
                </a:lnTo>
                <a:lnTo>
                  <a:pt x="21424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0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5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0"/>
                            </p:stCondLst>
                            <p:childTnLst>
                              <p:par>
                                <p:cTn id="260" dur="indefinite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5000"/>
                            </p:stCondLst>
                            <p:childTnLst>
                              <p:par>
                                <p:cTn id="265" dur="indefinite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09:06:35Z</dcterms:created>
  <dc:creator>zhhy</dc:creator>
  <dc:description/>
  <dc:language>en-US</dc:language>
  <cp:lastModifiedBy>排课高手软件作者张鸿毅</cp:lastModifiedBy>
  <dcterms:modified xsi:type="dcterms:W3CDTF">2022-08-20T05:48:38Z</dcterms:modified>
  <cp:revision>444</cp:revision>
  <dc:subject/>
  <dc:title>使用说明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18BEC30B5D549C196028DB526768419</vt:lpwstr>
  </property>
  <property fmtid="{D5CDD505-2E9C-101B-9397-08002B2CF9AE}" pid="3" name="KSOProductBuildVer">
    <vt:lpwstr>2052-11.1.0.12349</vt:lpwstr>
  </property>
</Properties>
</file>