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8A2-9897-4610-968B-4E93F6EA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788-7A27-4A73-90D7-2F89577D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3C8-6C24-4219-A756-72281382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E39-D497-447B-8AE4-985D4A90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A4F-94CB-4BD4-9C62-22F0201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7FD-0A2C-473B-92A6-EC5FFFC2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63E-1C9C-4648-BE42-BDE3751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079-3169-41E4-A016-622897C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551-AD53-475C-BB07-DD2B31A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7CC-77AF-489E-8EE8-20CD4C3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2EE-ECF2-4675-AC57-3E3710D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6B4-66B0-4A54-BB9C-07F3DDE7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6B08-3D01-4EF8-81BF-0423C28E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348000" y="925560"/>
            <a:ext cx="1502244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79280" y="3068640"/>
            <a:ext cx="8928000" cy="576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17080" y="3218760"/>
            <a:ext cx="252360" cy="3690000"/>
            <a:chOff x="8317080" y="3218760"/>
            <a:chExt cx="252360" cy="3690000"/>
          </a:xfrm>
        </p:grpSpPr>
        <p:sp>
          <p:nvSpPr>
            <p:cNvPr id="45" name=""/>
            <p:cNvSpPr/>
            <p:nvPr/>
          </p:nvSpPr>
          <p:spPr>
            <a:xfrm rot="16215000">
              <a:off x="8220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17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8101080" y="3218760"/>
            <a:ext cx="252360" cy="3690000"/>
            <a:chOff x="8101080" y="3218760"/>
            <a:chExt cx="252360" cy="3690000"/>
          </a:xfrm>
        </p:grpSpPr>
        <p:sp>
          <p:nvSpPr>
            <p:cNvPr id="48" name=""/>
            <p:cNvSpPr/>
            <p:nvPr/>
          </p:nvSpPr>
          <p:spPr>
            <a:xfrm rot="16215000">
              <a:off x="8004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01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885080" y="3218760"/>
            <a:ext cx="252360" cy="3690000"/>
            <a:chOff x="7885080" y="3218760"/>
            <a:chExt cx="252360" cy="3690000"/>
          </a:xfrm>
        </p:grpSpPr>
        <p:sp>
          <p:nvSpPr>
            <p:cNvPr id="51" name=""/>
            <p:cNvSpPr/>
            <p:nvPr/>
          </p:nvSpPr>
          <p:spPr>
            <a:xfrm rot="16215000">
              <a:off x="7788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85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667640" y="3218760"/>
            <a:ext cx="252360" cy="3690000"/>
            <a:chOff x="7667640" y="3218760"/>
            <a:chExt cx="252360" cy="3690000"/>
          </a:xfrm>
        </p:grpSpPr>
        <p:sp>
          <p:nvSpPr>
            <p:cNvPr id="54" name=""/>
            <p:cNvSpPr/>
            <p:nvPr/>
          </p:nvSpPr>
          <p:spPr>
            <a:xfrm rot="16215000">
              <a:off x="7571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67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451640" y="3218760"/>
            <a:ext cx="252360" cy="3690000"/>
            <a:chOff x="7451640" y="3218760"/>
            <a:chExt cx="252360" cy="3690000"/>
          </a:xfrm>
        </p:grpSpPr>
        <p:sp>
          <p:nvSpPr>
            <p:cNvPr id="57" name=""/>
            <p:cNvSpPr/>
            <p:nvPr/>
          </p:nvSpPr>
          <p:spPr>
            <a:xfrm rot="16215000">
              <a:off x="7355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51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236000" y="3218760"/>
            <a:ext cx="252360" cy="3690000"/>
            <a:chOff x="7236000" y="3218760"/>
            <a:chExt cx="252360" cy="3690000"/>
          </a:xfrm>
        </p:grpSpPr>
        <p:sp>
          <p:nvSpPr>
            <p:cNvPr id="60" name=""/>
            <p:cNvSpPr/>
            <p:nvPr/>
          </p:nvSpPr>
          <p:spPr>
            <a:xfrm rot="16215000">
              <a:off x="7139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6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020000" y="3218760"/>
            <a:ext cx="252360" cy="3690000"/>
            <a:chOff x="7020000" y="3218760"/>
            <a:chExt cx="252360" cy="3690000"/>
          </a:xfrm>
        </p:grpSpPr>
        <p:sp>
          <p:nvSpPr>
            <p:cNvPr id="63" name=""/>
            <p:cNvSpPr/>
            <p:nvPr/>
          </p:nvSpPr>
          <p:spPr>
            <a:xfrm rot="16215000">
              <a:off x="6923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20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804000" y="3218760"/>
            <a:ext cx="252360" cy="3690000"/>
            <a:chOff x="6804000" y="3218760"/>
            <a:chExt cx="252360" cy="3690000"/>
          </a:xfrm>
        </p:grpSpPr>
        <p:sp>
          <p:nvSpPr>
            <p:cNvPr id="66" name=""/>
            <p:cNvSpPr/>
            <p:nvPr/>
          </p:nvSpPr>
          <p:spPr>
            <a:xfrm rot="16215000">
              <a:off x="6707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4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588000" y="3218760"/>
            <a:ext cx="252360" cy="3690000"/>
            <a:chOff x="6588000" y="3218760"/>
            <a:chExt cx="252360" cy="3690000"/>
          </a:xfrm>
        </p:grpSpPr>
        <p:sp>
          <p:nvSpPr>
            <p:cNvPr id="69" name=""/>
            <p:cNvSpPr/>
            <p:nvPr/>
          </p:nvSpPr>
          <p:spPr>
            <a:xfrm rot="16215000">
              <a:off x="6491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8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350040" y="3218760"/>
            <a:ext cx="252360" cy="3690000"/>
            <a:chOff x="6350040" y="3218760"/>
            <a:chExt cx="252360" cy="3690000"/>
          </a:xfrm>
        </p:grpSpPr>
        <p:sp>
          <p:nvSpPr>
            <p:cNvPr id="72" name=""/>
            <p:cNvSpPr/>
            <p:nvPr/>
          </p:nvSpPr>
          <p:spPr>
            <a:xfrm rot="16215000">
              <a:off x="62539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00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097680" y="3218760"/>
            <a:ext cx="252360" cy="3690000"/>
            <a:chOff x="6097680" y="3218760"/>
            <a:chExt cx="252360" cy="3690000"/>
          </a:xfrm>
        </p:grpSpPr>
        <p:sp>
          <p:nvSpPr>
            <p:cNvPr id="75" name=""/>
            <p:cNvSpPr/>
            <p:nvPr/>
          </p:nvSpPr>
          <p:spPr>
            <a:xfrm rot="16215000">
              <a:off x="60015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76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845320" y="3218760"/>
            <a:ext cx="252360" cy="3690000"/>
            <a:chOff x="5845320" y="3218760"/>
            <a:chExt cx="252360" cy="3690000"/>
          </a:xfrm>
        </p:grpSpPr>
        <p:sp>
          <p:nvSpPr>
            <p:cNvPr id="78" name=""/>
            <p:cNvSpPr/>
            <p:nvPr/>
          </p:nvSpPr>
          <p:spPr>
            <a:xfrm rot="16215000">
              <a:off x="57492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453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603760" y="3218760"/>
            <a:ext cx="252360" cy="3690000"/>
            <a:chOff x="5603760" y="3218760"/>
            <a:chExt cx="252360" cy="3690000"/>
          </a:xfrm>
        </p:grpSpPr>
        <p:sp>
          <p:nvSpPr>
            <p:cNvPr id="81" name=""/>
            <p:cNvSpPr/>
            <p:nvPr/>
          </p:nvSpPr>
          <p:spPr>
            <a:xfrm rot="16215000">
              <a:off x="55076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037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354640" y="3218760"/>
            <a:ext cx="252360" cy="3690000"/>
            <a:chOff x="5354640" y="3218760"/>
            <a:chExt cx="252360" cy="3690000"/>
          </a:xfrm>
        </p:grpSpPr>
        <p:sp>
          <p:nvSpPr>
            <p:cNvPr id="84" name=""/>
            <p:cNvSpPr/>
            <p:nvPr/>
          </p:nvSpPr>
          <p:spPr>
            <a:xfrm rot="16215000">
              <a:off x="5258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54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21360" y="3218760"/>
            <a:ext cx="252360" cy="3690000"/>
            <a:chOff x="5121360" y="3218760"/>
            <a:chExt cx="252360" cy="3690000"/>
          </a:xfrm>
        </p:grpSpPr>
        <p:sp>
          <p:nvSpPr>
            <p:cNvPr id="87" name=""/>
            <p:cNvSpPr/>
            <p:nvPr/>
          </p:nvSpPr>
          <p:spPr>
            <a:xfrm rot="16215000">
              <a:off x="50252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13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67200" y="3218760"/>
            <a:ext cx="252360" cy="3690000"/>
            <a:chOff x="4867200" y="3218760"/>
            <a:chExt cx="252360" cy="3690000"/>
          </a:xfrm>
        </p:grpSpPr>
        <p:sp>
          <p:nvSpPr>
            <p:cNvPr id="90" name=""/>
            <p:cNvSpPr/>
            <p:nvPr/>
          </p:nvSpPr>
          <p:spPr>
            <a:xfrm rot="16215000">
              <a:off x="47710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672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18080" y="3218760"/>
            <a:ext cx="252360" cy="3690000"/>
            <a:chOff x="4618080" y="3218760"/>
            <a:chExt cx="252360" cy="3690000"/>
          </a:xfrm>
        </p:grpSpPr>
        <p:sp>
          <p:nvSpPr>
            <p:cNvPr id="93" name=""/>
            <p:cNvSpPr/>
            <p:nvPr/>
          </p:nvSpPr>
          <p:spPr>
            <a:xfrm rot="16215000">
              <a:off x="4521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8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365720" y="3218760"/>
            <a:ext cx="252360" cy="3690000"/>
            <a:chOff x="4365720" y="3218760"/>
            <a:chExt cx="252360" cy="3690000"/>
          </a:xfrm>
        </p:grpSpPr>
        <p:sp>
          <p:nvSpPr>
            <p:cNvPr id="96" name=""/>
            <p:cNvSpPr/>
            <p:nvPr/>
          </p:nvSpPr>
          <p:spPr>
            <a:xfrm rot="16215000">
              <a:off x="42696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57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113360" y="3218760"/>
            <a:ext cx="252360" cy="3690000"/>
            <a:chOff x="4113360" y="3218760"/>
            <a:chExt cx="252360" cy="3690000"/>
          </a:xfrm>
        </p:grpSpPr>
        <p:sp>
          <p:nvSpPr>
            <p:cNvPr id="99" name=""/>
            <p:cNvSpPr/>
            <p:nvPr/>
          </p:nvSpPr>
          <p:spPr>
            <a:xfrm rot="16215000">
              <a:off x="40172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33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71800" y="3218760"/>
            <a:ext cx="252360" cy="3690000"/>
            <a:chOff x="3871800" y="3218760"/>
            <a:chExt cx="252360" cy="3690000"/>
          </a:xfrm>
        </p:grpSpPr>
        <p:sp>
          <p:nvSpPr>
            <p:cNvPr id="102" name=""/>
            <p:cNvSpPr/>
            <p:nvPr/>
          </p:nvSpPr>
          <p:spPr>
            <a:xfrm rot="16215000">
              <a:off x="3775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1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622680" y="3218760"/>
            <a:ext cx="252360" cy="3690000"/>
            <a:chOff x="3622680" y="3218760"/>
            <a:chExt cx="252360" cy="3690000"/>
          </a:xfrm>
        </p:grpSpPr>
        <p:sp>
          <p:nvSpPr>
            <p:cNvPr id="105" name=""/>
            <p:cNvSpPr/>
            <p:nvPr/>
          </p:nvSpPr>
          <p:spPr>
            <a:xfrm rot="16215000">
              <a:off x="35265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226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371760" y="3218760"/>
            <a:ext cx="252360" cy="3690000"/>
            <a:chOff x="3371760" y="3218760"/>
            <a:chExt cx="252360" cy="3690000"/>
          </a:xfrm>
        </p:grpSpPr>
        <p:sp>
          <p:nvSpPr>
            <p:cNvPr id="108" name=""/>
            <p:cNvSpPr/>
            <p:nvPr/>
          </p:nvSpPr>
          <p:spPr>
            <a:xfrm rot="16215000">
              <a:off x="32756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717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130560" y="3218760"/>
            <a:ext cx="252360" cy="3690000"/>
            <a:chOff x="3130560" y="3218760"/>
            <a:chExt cx="252360" cy="3690000"/>
          </a:xfrm>
        </p:grpSpPr>
        <p:sp>
          <p:nvSpPr>
            <p:cNvPr id="111" name=""/>
            <p:cNvSpPr/>
            <p:nvPr/>
          </p:nvSpPr>
          <p:spPr>
            <a:xfrm rot="16215000">
              <a:off x="30344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05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881440" y="3218760"/>
            <a:ext cx="252360" cy="3690000"/>
            <a:chOff x="2881440" y="3218760"/>
            <a:chExt cx="252360" cy="3690000"/>
          </a:xfrm>
        </p:grpSpPr>
        <p:sp>
          <p:nvSpPr>
            <p:cNvPr id="114" name=""/>
            <p:cNvSpPr/>
            <p:nvPr/>
          </p:nvSpPr>
          <p:spPr>
            <a:xfrm rot="16215000">
              <a:off x="27853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814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29080" y="3218760"/>
            <a:ext cx="252360" cy="3690000"/>
            <a:chOff x="2629080" y="3218760"/>
            <a:chExt cx="252360" cy="3690000"/>
          </a:xfrm>
        </p:grpSpPr>
        <p:sp>
          <p:nvSpPr>
            <p:cNvPr id="117" name=""/>
            <p:cNvSpPr/>
            <p:nvPr/>
          </p:nvSpPr>
          <p:spPr>
            <a:xfrm rot="16215000">
              <a:off x="2532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29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6360" y="3218760"/>
            <a:ext cx="252360" cy="3690000"/>
            <a:chOff x="2376360" y="3218760"/>
            <a:chExt cx="252360" cy="3690000"/>
          </a:xfrm>
        </p:grpSpPr>
        <p:sp>
          <p:nvSpPr>
            <p:cNvPr id="120" name=""/>
            <p:cNvSpPr/>
            <p:nvPr/>
          </p:nvSpPr>
          <p:spPr>
            <a:xfrm rot="16215000">
              <a:off x="22802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63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5160" y="3218760"/>
            <a:ext cx="252360" cy="3690000"/>
            <a:chOff x="2135160" y="3218760"/>
            <a:chExt cx="252360" cy="3690000"/>
          </a:xfrm>
        </p:grpSpPr>
        <p:sp>
          <p:nvSpPr>
            <p:cNvPr id="123" name=""/>
            <p:cNvSpPr/>
            <p:nvPr/>
          </p:nvSpPr>
          <p:spPr>
            <a:xfrm rot="16215000">
              <a:off x="2039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5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86040" y="3218760"/>
            <a:ext cx="252360" cy="3690000"/>
            <a:chOff x="1886040" y="3218760"/>
            <a:chExt cx="252360" cy="3690000"/>
          </a:xfrm>
        </p:grpSpPr>
        <p:sp>
          <p:nvSpPr>
            <p:cNvPr id="126" name=""/>
            <p:cNvSpPr/>
            <p:nvPr/>
          </p:nvSpPr>
          <p:spPr>
            <a:xfrm rot="16215000">
              <a:off x="17899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60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35120" y="3218760"/>
            <a:ext cx="252360" cy="3690000"/>
            <a:chOff x="1635120" y="3218760"/>
            <a:chExt cx="252360" cy="3690000"/>
          </a:xfrm>
        </p:grpSpPr>
        <p:sp>
          <p:nvSpPr>
            <p:cNvPr id="129" name=""/>
            <p:cNvSpPr/>
            <p:nvPr/>
          </p:nvSpPr>
          <p:spPr>
            <a:xfrm rot="16215000">
              <a:off x="15390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351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92120" y="3218760"/>
            <a:ext cx="252360" cy="3690000"/>
            <a:chOff x="1392120" y="3218760"/>
            <a:chExt cx="252360" cy="3690000"/>
          </a:xfrm>
        </p:grpSpPr>
        <p:sp>
          <p:nvSpPr>
            <p:cNvPr id="132" name=""/>
            <p:cNvSpPr/>
            <p:nvPr/>
          </p:nvSpPr>
          <p:spPr>
            <a:xfrm rot="16215000">
              <a:off x="12960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921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43000" y="3218760"/>
            <a:ext cx="252360" cy="3690000"/>
            <a:chOff x="1143000" y="3218760"/>
            <a:chExt cx="252360" cy="3690000"/>
          </a:xfrm>
        </p:grpSpPr>
        <p:sp>
          <p:nvSpPr>
            <p:cNvPr id="135" name=""/>
            <p:cNvSpPr/>
            <p:nvPr/>
          </p:nvSpPr>
          <p:spPr>
            <a:xfrm rot="16215000">
              <a:off x="1046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90640" y="3218760"/>
            <a:ext cx="252360" cy="3690000"/>
            <a:chOff x="890640" y="3218760"/>
            <a:chExt cx="252360" cy="3690000"/>
          </a:xfrm>
        </p:grpSpPr>
        <p:sp>
          <p:nvSpPr>
            <p:cNvPr id="138" name=""/>
            <p:cNvSpPr/>
            <p:nvPr/>
          </p:nvSpPr>
          <p:spPr>
            <a:xfrm rot="16215000">
              <a:off x="794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0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38280" y="3218760"/>
            <a:ext cx="252360" cy="3690000"/>
            <a:chOff x="638280" y="3218760"/>
            <a:chExt cx="252360" cy="3690000"/>
          </a:xfrm>
        </p:grpSpPr>
        <p:sp>
          <p:nvSpPr>
            <p:cNvPr id="141" name=""/>
            <p:cNvSpPr/>
            <p:nvPr/>
          </p:nvSpPr>
          <p:spPr>
            <a:xfrm rot="16215000">
              <a:off x="5421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82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6720" y="3218760"/>
            <a:ext cx="252360" cy="3690000"/>
            <a:chOff x="396720" y="3218760"/>
            <a:chExt cx="252360" cy="3690000"/>
          </a:xfrm>
        </p:grpSpPr>
        <p:sp>
          <p:nvSpPr>
            <p:cNvPr id="144" name=""/>
            <p:cNvSpPr/>
            <p:nvPr/>
          </p:nvSpPr>
          <p:spPr>
            <a:xfrm rot="16215000">
              <a:off x="3006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7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7600" y="3218760"/>
            <a:ext cx="252360" cy="3690000"/>
            <a:chOff x="147600" y="3218760"/>
            <a:chExt cx="252360" cy="3690000"/>
          </a:xfrm>
        </p:grpSpPr>
        <p:sp>
          <p:nvSpPr>
            <p:cNvPr id="147" name=""/>
            <p:cNvSpPr/>
            <p:nvPr/>
          </p:nvSpPr>
          <p:spPr>
            <a:xfrm rot="16215000">
              <a:off x="514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101520" y="3219120"/>
            <a:ext cx="250920" cy="3689640"/>
            <a:chOff x="-101520" y="3219120"/>
            <a:chExt cx="250920" cy="3689640"/>
          </a:xfrm>
        </p:grpSpPr>
        <p:sp>
          <p:nvSpPr>
            <p:cNvPr id="150" name=""/>
            <p:cNvSpPr/>
            <p:nvPr/>
          </p:nvSpPr>
          <p:spPr>
            <a:xfrm rot="16215000">
              <a:off x="-197640" y="3328560"/>
              <a:ext cx="360360" cy="141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101520" y="3573360"/>
              <a:ext cx="25092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532720" y="3328920"/>
            <a:ext cx="366120" cy="3598560"/>
            <a:chOff x="8532720" y="3328920"/>
            <a:chExt cx="366120" cy="3598560"/>
          </a:xfrm>
        </p:grpSpPr>
        <p:sp>
          <p:nvSpPr>
            <p:cNvPr id="153" name=""/>
            <p:cNvSpPr/>
            <p:nvPr/>
          </p:nvSpPr>
          <p:spPr>
            <a:xfrm rot="5400000">
              <a:off x="8570880" y="3294720"/>
              <a:ext cx="293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32720" y="3567240"/>
              <a:ext cx="361800" cy="33602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632440" y="-183960"/>
            <a:ext cx="252360" cy="3687480"/>
            <a:chOff x="8632440" y="-183960"/>
            <a:chExt cx="252360" cy="3687480"/>
          </a:xfrm>
        </p:grpSpPr>
        <p:sp>
          <p:nvSpPr>
            <p:cNvPr id="156" name=""/>
            <p:cNvSpPr/>
            <p:nvPr/>
          </p:nvSpPr>
          <p:spPr>
            <a:xfrm rot="5415000">
              <a:off x="86209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86324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391240" y="-183960"/>
            <a:ext cx="252360" cy="3687480"/>
            <a:chOff x="8391240" y="-183960"/>
            <a:chExt cx="252360" cy="3687480"/>
          </a:xfrm>
        </p:grpSpPr>
        <p:sp>
          <p:nvSpPr>
            <p:cNvPr id="159" name=""/>
            <p:cNvSpPr/>
            <p:nvPr/>
          </p:nvSpPr>
          <p:spPr>
            <a:xfrm rot="5415000">
              <a:off x="83797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83912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142480" y="-183960"/>
            <a:ext cx="252360" cy="3687480"/>
            <a:chOff x="8142480" y="-183960"/>
            <a:chExt cx="252360" cy="3687480"/>
          </a:xfrm>
        </p:grpSpPr>
        <p:sp>
          <p:nvSpPr>
            <p:cNvPr id="162" name=""/>
            <p:cNvSpPr/>
            <p:nvPr/>
          </p:nvSpPr>
          <p:spPr>
            <a:xfrm rot="5415000">
              <a:off x="81309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81424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889400" y="-183960"/>
            <a:ext cx="252360" cy="3687480"/>
            <a:chOff x="7889400" y="-183960"/>
            <a:chExt cx="252360" cy="3687480"/>
          </a:xfrm>
        </p:grpSpPr>
        <p:sp>
          <p:nvSpPr>
            <p:cNvPr id="165" name=""/>
            <p:cNvSpPr/>
            <p:nvPr/>
          </p:nvSpPr>
          <p:spPr>
            <a:xfrm rot="5415000">
              <a:off x="7877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0800000">
              <a:off x="7889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637040" y="-183960"/>
            <a:ext cx="252360" cy="3687480"/>
            <a:chOff x="7637040" y="-183960"/>
            <a:chExt cx="252360" cy="3687480"/>
          </a:xfrm>
        </p:grpSpPr>
        <p:sp>
          <p:nvSpPr>
            <p:cNvPr id="168" name=""/>
            <p:cNvSpPr/>
            <p:nvPr/>
          </p:nvSpPr>
          <p:spPr>
            <a:xfrm rot="5415000">
              <a:off x="76255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76370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395840" y="-183960"/>
            <a:ext cx="252360" cy="3687480"/>
            <a:chOff x="7395840" y="-183960"/>
            <a:chExt cx="252360" cy="3687480"/>
          </a:xfrm>
        </p:grpSpPr>
        <p:sp>
          <p:nvSpPr>
            <p:cNvPr id="171" name=""/>
            <p:cNvSpPr/>
            <p:nvPr/>
          </p:nvSpPr>
          <p:spPr>
            <a:xfrm rot="5415000">
              <a:off x="7384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7395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146720" y="-183960"/>
            <a:ext cx="252360" cy="3687480"/>
            <a:chOff x="7146720" y="-183960"/>
            <a:chExt cx="252360" cy="3687480"/>
          </a:xfrm>
        </p:grpSpPr>
        <p:sp>
          <p:nvSpPr>
            <p:cNvPr id="174" name=""/>
            <p:cNvSpPr/>
            <p:nvPr/>
          </p:nvSpPr>
          <p:spPr>
            <a:xfrm rot="5415000">
              <a:off x="71352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71467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95800" y="-183960"/>
            <a:ext cx="252360" cy="3687480"/>
            <a:chOff x="6895800" y="-183960"/>
            <a:chExt cx="252360" cy="3687480"/>
          </a:xfrm>
        </p:grpSpPr>
        <p:sp>
          <p:nvSpPr>
            <p:cNvPr id="177" name=""/>
            <p:cNvSpPr/>
            <p:nvPr/>
          </p:nvSpPr>
          <p:spPr>
            <a:xfrm rot="5415000">
              <a:off x="6884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6895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641640" y="-183960"/>
            <a:ext cx="252360" cy="3687480"/>
            <a:chOff x="6641640" y="-183960"/>
            <a:chExt cx="252360" cy="3687480"/>
          </a:xfrm>
        </p:grpSpPr>
        <p:sp>
          <p:nvSpPr>
            <p:cNvPr id="180" name=""/>
            <p:cNvSpPr/>
            <p:nvPr/>
          </p:nvSpPr>
          <p:spPr>
            <a:xfrm rot="5415000">
              <a:off x="66301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66416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392520" y="-183960"/>
            <a:ext cx="252360" cy="3687480"/>
            <a:chOff x="6392520" y="-183960"/>
            <a:chExt cx="252360" cy="3687480"/>
          </a:xfrm>
        </p:grpSpPr>
        <p:sp>
          <p:nvSpPr>
            <p:cNvPr id="183" name=""/>
            <p:cNvSpPr/>
            <p:nvPr/>
          </p:nvSpPr>
          <p:spPr>
            <a:xfrm rot="5415000">
              <a:off x="63810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63925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40160" y="-183960"/>
            <a:ext cx="252360" cy="3687480"/>
            <a:chOff x="6140160" y="-183960"/>
            <a:chExt cx="252360" cy="3687480"/>
          </a:xfrm>
        </p:grpSpPr>
        <p:sp>
          <p:nvSpPr>
            <p:cNvPr id="186" name=""/>
            <p:cNvSpPr/>
            <p:nvPr/>
          </p:nvSpPr>
          <p:spPr>
            <a:xfrm rot="5415000">
              <a:off x="61286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61401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887800" y="-183960"/>
            <a:ext cx="252360" cy="3687480"/>
            <a:chOff x="5887800" y="-183960"/>
            <a:chExt cx="252360" cy="3687480"/>
          </a:xfrm>
        </p:grpSpPr>
        <p:sp>
          <p:nvSpPr>
            <p:cNvPr id="189" name=""/>
            <p:cNvSpPr/>
            <p:nvPr/>
          </p:nvSpPr>
          <p:spPr>
            <a:xfrm rot="5415000">
              <a:off x="5876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5887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46960" y="-183960"/>
            <a:ext cx="252360" cy="3687480"/>
            <a:chOff x="5646960" y="-183960"/>
            <a:chExt cx="252360" cy="3687480"/>
          </a:xfrm>
        </p:grpSpPr>
        <p:sp>
          <p:nvSpPr>
            <p:cNvPr id="192" name=""/>
            <p:cNvSpPr/>
            <p:nvPr/>
          </p:nvSpPr>
          <p:spPr>
            <a:xfrm rot="5415000">
              <a:off x="56354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56469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97120" y="-183960"/>
            <a:ext cx="252360" cy="3687480"/>
            <a:chOff x="5397120" y="-183960"/>
            <a:chExt cx="252360" cy="3687480"/>
          </a:xfrm>
        </p:grpSpPr>
        <p:sp>
          <p:nvSpPr>
            <p:cNvPr id="195" name=""/>
            <p:cNvSpPr/>
            <p:nvPr/>
          </p:nvSpPr>
          <p:spPr>
            <a:xfrm rot="5415000">
              <a:off x="53856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53971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63840" y="-183960"/>
            <a:ext cx="252360" cy="3687480"/>
            <a:chOff x="5163840" y="-183960"/>
            <a:chExt cx="252360" cy="3687480"/>
          </a:xfrm>
        </p:grpSpPr>
        <p:sp>
          <p:nvSpPr>
            <p:cNvPr id="198" name=""/>
            <p:cNvSpPr/>
            <p:nvPr/>
          </p:nvSpPr>
          <p:spPr>
            <a:xfrm rot="5415000">
              <a:off x="5152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0800000">
              <a:off x="5163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909680" y="-183960"/>
            <a:ext cx="252360" cy="3687480"/>
            <a:chOff x="4909680" y="-183960"/>
            <a:chExt cx="252360" cy="3687480"/>
          </a:xfrm>
        </p:grpSpPr>
        <p:sp>
          <p:nvSpPr>
            <p:cNvPr id="201" name=""/>
            <p:cNvSpPr/>
            <p:nvPr/>
          </p:nvSpPr>
          <p:spPr>
            <a:xfrm rot="5415000">
              <a:off x="48981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49096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60560" y="-183960"/>
            <a:ext cx="252360" cy="3687480"/>
            <a:chOff x="4660560" y="-183960"/>
            <a:chExt cx="252360" cy="3687480"/>
          </a:xfrm>
        </p:grpSpPr>
        <p:sp>
          <p:nvSpPr>
            <p:cNvPr id="204" name=""/>
            <p:cNvSpPr/>
            <p:nvPr/>
          </p:nvSpPr>
          <p:spPr>
            <a:xfrm rot="5415000">
              <a:off x="4649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00000">
              <a:off x="4660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408200" y="-183960"/>
            <a:ext cx="252360" cy="3687480"/>
            <a:chOff x="4408200" y="-183960"/>
            <a:chExt cx="252360" cy="3687480"/>
          </a:xfrm>
        </p:grpSpPr>
        <p:sp>
          <p:nvSpPr>
            <p:cNvPr id="207" name=""/>
            <p:cNvSpPr/>
            <p:nvPr/>
          </p:nvSpPr>
          <p:spPr>
            <a:xfrm rot="5415000">
              <a:off x="43966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44082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155840" y="-183960"/>
            <a:ext cx="252360" cy="3687480"/>
            <a:chOff x="4155840" y="-183960"/>
            <a:chExt cx="252360" cy="3687480"/>
          </a:xfrm>
        </p:grpSpPr>
        <p:sp>
          <p:nvSpPr>
            <p:cNvPr id="210" name=""/>
            <p:cNvSpPr/>
            <p:nvPr/>
          </p:nvSpPr>
          <p:spPr>
            <a:xfrm rot="5415000">
              <a:off x="4144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4155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15000" y="-183960"/>
            <a:ext cx="252360" cy="3687480"/>
            <a:chOff x="3915000" y="-183960"/>
            <a:chExt cx="252360" cy="3687480"/>
          </a:xfrm>
        </p:grpSpPr>
        <p:sp>
          <p:nvSpPr>
            <p:cNvPr id="213" name=""/>
            <p:cNvSpPr/>
            <p:nvPr/>
          </p:nvSpPr>
          <p:spPr>
            <a:xfrm rot="5415000">
              <a:off x="3903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3915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65160" y="-183960"/>
            <a:ext cx="252360" cy="3687480"/>
            <a:chOff x="3665160" y="-183960"/>
            <a:chExt cx="252360" cy="3687480"/>
          </a:xfrm>
        </p:grpSpPr>
        <p:sp>
          <p:nvSpPr>
            <p:cNvPr id="216" name=""/>
            <p:cNvSpPr/>
            <p:nvPr/>
          </p:nvSpPr>
          <p:spPr>
            <a:xfrm rot="5415000">
              <a:off x="36536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0800000">
              <a:off x="36651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414240" y="-183960"/>
            <a:ext cx="252360" cy="3687480"/>
            <a:chOff x="3414240" y="-183960"/>
            <a:chExt cx="252360" cy="3687480"/>
          </a:xfrm>
        </p:grpSpPr>
        <p:sp>
          <p:nvSpPr>
            <p:cNvPr id="219" name=""/>
            <p:cNvSpPr/>
            <p:nvPr/>
          </p:nvSpPr>
          <p:spPr>
            <a:xfrm rot="5415000">
              <a:off x="34027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34142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73040" y="-183960"/>
            <a:ext cx="252360" cy="3687480"/>
            <a:chOff x="3173040" y="-183960"/>
            <a:chExt cx="252360" cy="3687480"/>
          </a:xfrm>
        </p:grpSpPr>
        <p:sp>
          <p:nvSpPr>
            <p:cNvPr id="222" name=""/>
            <p:cNvSpPr/>
            <p:nvPr/>
          </p:nvSpPr>
          <p:spPr>
            <a:xfrm rot="5415000">
              <a:off x="31615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00000">
              <a:off x="31730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23920" y="-183960"/>
            <a:ext cx="252360" cy="3687480"/>
            <a:chOff x="2923920" y="-183960"/>
            <a:chExt cx="252360" cy="3687480"/>
          </a:xfrm>
        </p:grpSpPr>
        <p:sp>
          <p:nvSpPr>
            <p:cNvPr id="225" name=""/>
            <p:cNvSpPr/>
            <p:nvPr/>
          </p:nvSpPr>
          <p:spPr>
            <a:xfrm rot="5415000">
              <a:off x="2912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2923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71560" y="-183960"/>
            <a:ext cx="252360" cy="3687480"/>
            <a:chOff x="2671560" y="-183960"/>
            <a:chExt cx="252360" cy="3687480"/>
          </a:xfrm>
        </p:grpSpPr>
        <p:sp>
          <p:nvSpPr>
            <p:cNvPr id="228" name=""/>
            <p:cNvSpPr/>
            <p:nvPr/>
          </p:nvSpPr>
          <p:spPr>
            <a:xfrm rot="5415000">
              <a:off x="2660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00000">
              <a:off x="2671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19560" y="-183960"/>
            <a:ext cx="252360" cy="3687480"/>
            <a:chOff x="2419560" y="-183960"/>
            <a:chExt cx="252360" cy="3687480"/>
          </a:xfrm>
        </p:grpSpPr>
        <p:sp>
          <p:nvSpPr>
            <p:cNvPr id="231" name=""/>
            <p:cNvSpPr/>
            <p:nvPr/>
          </p:nvSpPr>
          <p:spPr>
            <a:xfrm rot="5415000">
              <a:off x="2408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800000">
              <a:off x="2419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77640" y="-183960"/>
            <a:ext cx="252360" cy="3687480"/>
            <a:chOff x="2177640" y="-183960"/>
            <a:chExt cx="252360" cy="3687480"/>
          </a:xfrm>
        </p:grpSpPr>
        <p:sp>
          <p:nvSpPr>
            <p:cNvPr id="234" name=""/>
            <p:cNvSpPr/>
            <p:nvPr/>
          </p:nvSpPr>
          <p:spPr>
            <a:xfrm rot="5415000">
              <a:off x="21661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800000">
              <a:off x="21776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928520" y="-183960"/>
            <a:ext cx="252360" cy="3687480"/>
            <a:chOff x="1928520" y="-183960"/>
            <a:chExt cx="252360" cy="3687480"/>
          </a:xfrm>
        </p:grpSpPr>
        <p:sp>
          <p:nvSpPr>
            <p:cNvPr id="237" name=""/>
            <p:cNvSpPr/>
            <p:nvPr/>
          </p:nvSpPr>
          <p:spPr>
            <a:xfrm rot="5415000">
              <a:off x="19170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19285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677600" y="-183960"/>
            <a:ext cx="252360" cy="3687480"/>
            <a:chOff x="1677600" y="-183960"/>
            <a:chExt cx="252360" cy="3687480"/>
          </a:xfrm>
        </p:grpSpPr>
        <p:sp>
          <p:nvSpPr>
            <p:cNvPr id="240" name=""/>
            <p:cNvSpPr/>
            <p:nvPr/>
          </p:nvSpPr>
          <p:spPr>
            <a:xfrm rot="5415000">
              <a:off x="16660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0800000">
              <a:off x="16776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435320" y="-183960"/>
            <a:ext cx="252360" cy="3687480"/>
            <a:chOff x="1435320" y="-183960"/>
            <a:chExt cx="252360" cy="3687480"/>
          </a:xfrm>
        </p:grpSpPr>
        <p:sp>
          <p:nvSpPr>
            <p:cNvPr id="243" name=""/>
            <p:cNvSpPr/>
            <p:nvPr/>
          </p:nvSpPr>
          <p:spPr>
            <a:xfrm rot="5415000">
              <a:off x="1423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000">
              <a:off x="1435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5480" y="-183960"/>
            <a:ext cx="252360" cy="3687480"/>
            <a:chOff x="1185480" y="-183960"/>
            <a:chExt cx="252360" cy="3687480"/>
          </a:xfrm>
        </p:grpSpPr>
        <p:sp>
          <p:nvSpPr>
            <p:cNvPr id="246" name=""/>
            <p:cNvSpPr/>
            <p:nvPr/>
          </p:nvSpPr>
          <p:spPr>
            <a:xfrm rot="5415000">
              <a:off x="11739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11854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33120" y="-183960"/>
            <a:ext cx="252360" cy="3687480"/>
            <a:chOff x="933120" y="-183960"/>
            <a:chExt cx="252360" cy="3687480"/>
          </a:xfrm>
        </p:grpSpPr>
        <p:sp>
          <p:nvSpPr>
            <p:cNvPr id="249" name=""/>
            <p:cNvSpPr/>
            <p:nvPr/>
          </p:nvSpPr>
          <p:spPr>
            <a:xfrm rot="5415000">
              <a:off x="9216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0800000">
              <a:off x="9331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80760" y="-183960"/>
            <a:ext cx="252360" cy="3687480"/>
            <a:chOff x="680760" y="-183960"/>
            <a:chExt cx="252360" cy="3687480"/>
          </a:xfrm>
        </p:grpSpPr>
        <p:sp>
          <p:nvSpPr>
            <p:cNvPr id="252" name=""/>
            <p:cNvSpPr/>
            <p:nvPr/>
          </p:nvSpPr>
          <p:spPr>
            <a:xfrm rot="5415000">
              <a:off x="6692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6807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39920" y="-183960"/>
            <a:ext cx="252360" cy="3687480"/>
            <a:chOff x="439920" y="-183960"/>
            <a:chExt cx="252360" cy="3687480"/>
          </a:xfrm>
        </p:grpSpPr>
        <p:sp>
          <p:nvSpPr>
            <p:cNvPr id="255" name=""/>
            <p:cNvSpPr/>
            <p:nvPr/>
          </p:nvSpPr>
          <p:spPr>
            <a:xfrm rot="5415000">
              <a:off x="428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000">
              <a:off x="439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90080" y="-183960"/>
            <a:ext cx="252360" cy="3687480"/>
            <a:chOff x="190080" y="-183960"/>
            <a:chExt cx="252360" cy="3687480"/>
          </a:xfrm>
        </p:grpSpPr>
        <p:sp>
          <p:nvSpPr>
            <p:cNvPr id="258" name=""/>
            <p:cNvSpPr/>
            <p:nvPr/>
          </p:nvSpPr>
          <p:spPr>
            <a:xfrm rot="5415000">
              <a:off x="1785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0800000">
              <a:off x="1900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-59040" y="-183960"/>
            <a:ext cx="250920" cy="3687840"/>
            <a:chOff x="-59040" y="-183960"/>
            <a:chExt cx="250920" cy="3687840"/>
          </a:xfrm>
        </p:grpSpPr>
        <p:sp>
          <p:nvSpPr>
            <p:cNvPr id="261" name=""/>
            <p:cNvSpPr/>
            <p:nvPr/>
          </p:nvSpPr>
          <p:spPr>
            <a:xfrm rot="5415000">
              <a:off x="-71640" y="3252600"/>
              <a:ext cx="360000" cy="141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-58680" y="-183960"/>
              <a:ext cx="2509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849160" y="-198000"/>
            <a:ext cx="366120" cy="3596760"/>
            <a:chOff x="8849160" y="-198000"/>
            <a:chExt cx="366120" cy="3596760"/>
          </a:xfrm>
        </p:grpSpPr>
        <p:sp>
          <p:nvSpPr>
            <p:cNvPr id="264" name=""/>
            <p:cNvSpPr/>
            <p:nvPr/>
          </p:nvSpPr>
          <p:spPr>
            <a:xfrm rot="16200000">
              <a:off x="8883000" y="3071160"/>
              <a:ext cx="29340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8853840" y="-198000"/>
              <a:ext cx="361440" cy="33584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91920" y="2810520"/>
            <a:ext cx="2795400" cy="1056960"/>
            <a:chOff x="6091920" y="2810520"/>
            <a:chExt cx="2795400" cy="1056960"/>
          </a:xfrm>
        </p:grpSpPr>
        <p:grpSp>
          <p:nvGrpSpPr>
            <p:cNvPr id="267" name=""/>
            <p:cNvGrpSpPr/>
            <p:nvPr/>
          </p:nvGrpSpPr>
          <p:grpSpPr>
            <a:xfrm>
              <a:off x="7751160" y="3147840"/>
              <a:ext cx="514440" cy="477000"/>
              <a:chOff x="7751160" y="3147840"/>
              <a:chExt cx="514440" cy="477000"/>
            </a:xfrm>
          </p:grpSpPr>
          <p:sp>
            <p:nvSpPr>
              <p:cNvPr id="268" name=""/>
              <p:cNvSpPr/>
              <p:nvPr/>
            </p:nvSpPr>
            <p:spPr>
              <a:xfrm rot="5317200">
                <a:off x="777564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317200">
                <a:off x="777564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未知"/>
            <p:cNvSpPr/>
            <p:nvPr/>
          </p:nvSpPr>
          <p:spPr>
            <a:xfrm rot="5317200">
              <a:off x="7921080" y="2903040"/>
              <a:ext cx="103644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902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rot="5317200">
              <a:off x="7952400" y="2928600"/>
              <a:ext cx="94428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>
                    <a:alpha val="0"/>
                  </a:srgbClr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81960" y="3112920"/>
              <a:ext cx="820440" cy="506880"/>
              <a:chOff x="7581960" y="3112920"/>
              <a:chExt cx="820440" cy="506880"/>
            </a:xfrm>
          </p:grpSpPr>
          <p:sp>
            <p:nvSpPr>
              <p:cNvPr id="273" name=""/>
              <p:cNvSpPr/>
              <p:nvPr/>
            </p:nvSpPr>
            <p:spPr>
              <a:xfrm rot="21571200">
                <a:off x="7583760" y="3116160"/>
                <a:ext cx="816120" cy="50004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1571200">
                <a:off x="7659000" y="3169080"/>
                <a:ext cx="664200" cy="39312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rot="5317200">
              <a:off x="8307000" y="2966760"/>
              <a:ext cx="182520" cy="771480"/>
            </a:xfrm>
            <a:custGeom>
              <a:avLst/>
              <a:gdLst>
                <a:gd name="textAreaLeft" fmla="*/ 26640 w 182520"/>
                <a:gd name="textAreaRight" fmla="*/ 155880 w 182520"/>
                <a:gd name="textAreaTop" fmla="*/ 26640 h 771480"/>
                <a:gd name="textAreaBottom" fmla="*/ 744840 h 771480"/>
              </a:gdLst>
              <a:ahLst/>
              <a:rect l="textAreaLeft" t="textAreaTop" r="textAreaRight" b="textAreaBottom"/>
              <a:pathLst>
                <a:path w="21600" h="91162">
                  <a:moveTo>
                    <a:pt x="10800" y="0"/>
                  </a:moveTo>
                  <a:arcTo wR="10800" hR="10800" stAng="16200000" swAng="-5400000"/>
                  <a:lnTo>
                    <a:pt x="0" y="80362"/>
                  </a:lnTo>
                  <a:arcTo wR="10800" hR="10800" stAng="10800000" swAng="-5400000"/>
                  <a:lnTo>
                    <a:pt x="10800" y="91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317200">
              <a:off x="8353440" y="2958120"/>
              <a:ext cx="90360" cy="725400"/>
            </a:xfrm>
            <a:custGeom>
              <a:avLst/>
              <a:gdLst>
                <a:gd name="textAreaLeft" fmla="*/ 12960 w 90360"/>
                <a:gd name="textAreaRight" fmla="*/ 77400 w 90360"/>
                <a:gd name="textAreaTop" fmla="*/ 12960 h 725400"/>
                <a:gd name="textAreaBottom" fmla="*/ 712440 h 725400"/>
              </a:gdLst>
              <a:ahLst/>
              <a:rect l="textAreaLeft" t="textAreaTop" r="textAreaRight" b="textAreaBottom"/>
              <a:pathLst>
                <a:path w="21600" h="172800">
                  <a:moveTo>
                    <a:pt x="10800" y="0"/>
                  </a:moveTo>
                  <a:arcTo wR="10800" hR="10800" stAng="16200000" swAng="-5400000"/>
                  <a:lnTo>
                    <a:pt x="0" y="162000"/>
                  </a:lnTo>
                  <a:arcTo wR="10800" hR="10800" stAng="10800000" swAng="-5400000"/>
                  <a:lnTo>
                    <a:pt x="10800" y="1728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1920" y="2946960"/>
              <a:ext cx="1751040" cy="818280"/>
              <a:chOff x="6091920" y="2946960"/>
              <a:chExt cx="1751040" cy="818280"/>
            </a:xfrm>
          </p:grpSpPr>
          <p:sp>
            <p:nvSpPr>
              <p:cNvPr id="278" name="未知"/>
              <p:cNvSpPr/>
              <p:nvPr/>
            </p:nvSpPr>
            <p:spPr>
              <a:xfrm rot="5493600">
                <a:off x="6581520" y="2490840"/>
                <a:ext cx="771480" cy="1730520"/>
              </a:xfrm>
              <a:custGeom>
                <a:avLst/>
                <a:gdLst/>
                <a:ahLst/>
                <a:rect l="l" t="t" r="r" b="b"/>
                <a:pathLst>
                  <a:path w="772" h="1730">
                    <a:moveTo>
                      <a:pt x="228" y="363"/>
                    </a:moveTo>
                    <a:lnTo>
                      <a:pt x="228" y="0"/>
                    </a:lnTo>
                    <a:lnTo>
                      <a:pt x="545" y="0"/>
                    </a:lnTo>
                    <a:lnTo>
                      <a:pt x="545" y="363"/>
                    </a:lnTo>
                    <a:lnTo>
                      <a:pt x="681" y="363"/>
                    </a:lnTo>
                    <a:lnTo>
                      <a:pt x="772" y="1315"/>
                    </a:lnTo>
                    <a:cubicBezTo>
                      <a:pt x="727" y="1542"/>
                      <a:pt x="538" y="1713"/>
                      <a:pt x="409" y="1723"/>
                    </a:cubicBezTo>
                    <a:cubicBezTo>
                      <a:pt x="273" y="1730"/>
                      <a:pt x="54" y="1602"/>
                      <a:pt x="0" y="1377"/>
                    </a:cubicBezTo>
                    <a:lnTo>
                      <a:pt x="85" y="371"/>
                    </a:lnTo>
                    <a:lnTo>
                      <a:pt x="228" y="363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 rot="5493600">
                <a:off x="6703920" y="3050640"/>
                <a:ext cx="590760" cy="612720"/>
              </a:xfrm>
              <a:custGeom>
                <a:avLst/>
                <a:gdLst/>
                <a:ahLst/>
                <a:rect l="l" t="t" r="r" b="b"/>
                <a:pathLst>
                  <a:path w="590" h="612">
                    <a:moveTo>
                      <a:pt x="91" y="0"/>
                    </a:moveTo>
                    <a:lnTo>
                      <a:pt x="499" y="0"/>
                    </a:lnTo>
                    <a:lnTo>
                      <a:pt x="590" y="544"/>
                    </a:lnTo>
                    <a:cubicBezTo>
                      <a:pt x="552" y="612"/>
                      <a:pt x="525" y="405"/>
                      <a:pt x="273" y="408"/>
                    </a:cubicBezTo>
                    <a:cubicBezTo>
                      <a:pt x="21" y="411"/>
                      <a:pt x="30" y="612"/>
                      <a:pt x="0" y="544"/>
                    </a:cubicBez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493600">
                <a:off x="6191640" y="3018240"/>
                <a:ext cx="634680" cy="635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乐子吴吞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制作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817640" y="666720"/>
            <a:ext cx="16056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314440" y="650880"/>
            <a:ext cx="16056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979640" y="469800"/>
            <a:ext cx="320760" cy="341280"/>
            <a:chOff x="1979640" y="469800"/>
            <a:chExt cx="320760" cy="341280"/>
          </a:xfrm>
        </p:grpSpPr>
        <p:sp>
          <p:nvSpPr>
            <p:cNvPr id="284" name=""/>
            <p:cNvSpPr/>
            <p:nvPr/>
          </p:nvSpPr>
          <p:spPr>
            <a:xfrm flipH="1">
              <a:off x="1979640" y="640440"/>
              <a:ext cx="16056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139840" y="469800"/>
              <a:ext cx="16056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89000" y="479520"/>
            <a:ext cx="320760" cy="341280"/>
            <a:chOff x="1989000" y="479520"/>
            <a:chExt cx="320760" cy="341280"/>
          </a:xfrm>
        </p:grpSpPr>
        <p:sp>
          <p:nvSpPr>
            <p:cNvPr id="287" name=""/>
            <p:cNvSpPr/>
            <p:nvPr/>
          </p:nvSpPr>
          <p:spPr>
            <a:xfrm>
              <a:off x="2149560" y="650160"/>
              <a:ext cx="16020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89000" y="479520"/>
              <a:ext cx="16020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62072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未知"/>
          <p:cNvSpPr/>
          <p:nvPr/>
        </p:nvSpPr>
        <p:spPr>
          <a:xfrm>
            <a:off x="164304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未知"/>
          <p:cNvSpPr/>
          <p:nvPr/>
        </p:nvSpPr>
        <p:spPr>
          <a:xfrm>
            <a:off x="197964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1824120" y="24768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7964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813880" y="3357720"/>
            <a:ext cx="366120" cy="3598200"/>
            <a:chOff x="8813880" y="3357720"/>
            <a:chExt cx="366120" cy="3598200"/>
          </a:xfrm>
        </p:grpSpPr>
        <p:sp>
          <p:nvSpPr>
            <p:cNvPr id="295" name=""/>
            <p:cNvSpPr/>
            <p:nvPr/>
          </p:nvSpPr>
          <p:spPr>
            <a:xfrm rot="5400000">
              <a:off x="8852400" y="3323880"/>
              <a:ext cx="29376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13880" y="3596040"/>
              <a:ext cx="361440" cy="33598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7283E-006 L -1.0158 0.02104 E">
                                      <p:cBhvr>
                                        <p:cTn id="6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02312E-006 L -0.96893 0.02197 E">
                                      <p:cBhvr>
                                        <p:cTn id="8" dur="8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" dur="3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2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6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0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4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6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8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0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2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4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6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0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2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4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6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8" dur="3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0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2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4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6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4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8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0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2" dur="3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4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6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8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0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2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4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8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0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2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4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6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8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0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2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4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6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4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8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0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4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2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4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4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6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0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4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6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4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8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0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4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2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4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6" dur="3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8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4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0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2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4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2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2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02153 -0.00509 E">
                                      <p:cBhvr>
                                        <p:cTn id="185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116 L -0.01563 -0.00602 E">
                                      <p:cBhvr>
                                        <p:cTn id="187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47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701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01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2:27:58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25:17Z</dcterms:modified>
  <cp:revision>13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