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B1C-4623-42A6-85EC-F9945DAD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DAF-A67C-4063-85EA-A709B235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CE8-5B1E-4B6B-89C4-E8FE12DF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212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164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260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212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164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F5F-5FAB-47BE-85B2-303703B4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ED56-4593-4B93-9140-227F937A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BEE0-F9EF-416D-AA99-A28DD174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79DB-3EC7-413F-AF4F-C1404E2A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9F0B-66EA-48A1-8EF4-D7676AC0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2D9A-62DF-4B51-9F93-AD524AB0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30C2-CF18-478E-B408-AA2E2087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C86B-337E-4A64-BE29-E0FE87CA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D9E-27BF-4463-BDC4-C951E9A4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1447-4431-4877-9ECE-81FC433F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0B72-8EE8-4721-8762-082B1E9B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9C81-67F2-4017-836D-CF3874C1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C933-96F0-4049-B567-B8DFF5A6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212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164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4260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7212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164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17C3-6586-4EC2-BA7F-2619BBDE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1B0-C2D0-4FAE-A3F7-40709E9A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002-4420-42A4-9662-78943AE9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3F1-0840-4958-801D-F65E9D77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E9C-2475-4524-A46F-E73B3941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ED4-BB37-455F-AE28-5AC73D2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1E8-96EA-4A64-AD9B-6C91637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824-8C3B-48D9-8E39-8B4E5A1A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3325-D1FB-4585-8C45-7C88BF6DC241}" type="slidenum">
              <a:rPr b="0" lang="zh-CN" sz="1200" spc="-1" strike="noStrike">
                <a:solidFill>
                  <a:srgbClr val="898989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E5A7-0EA2-45FE-AC56-126039C84E6A}" type="slidenum">
              <a:rPr b="0" lang="zh-CN" sz="1200" spc="-1" strike="noStrike">
                <a:solidFill>
                  <a:srgbClr val="898989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2.png"/>
          <p:cNvPicPr/>
          <p:nvPr/>
        </p:nvPicPr>
        <p:blipFill>
          <a:blip r:embed="rId3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3.png"/>
          <p:cNvPicPr/>
          <p:nvPr/>
        </p:nvPicPr>
        <p:blipFill>
          <a:blip r:embed="rId4"/>
          <a:srcRect l="0" t="79265" r="0" b="0"/>
          <a:stretch/>
        </p:blipFill>
        <p:spPr>
          <a:xfrm>
            <a:off x="-34920" y="5435640"/>
            <a:ext cx="9178920" cy="14223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3.png"/>
          <p:cNvPicPr/>
          <p:nvPr/>
        </p:nvPicPr>
        <p:blipFill>
          <a:blip r:embed="rId5"/>
          <a:srcRect l="0" t="0" r="0" b="79447"/>
          <a:stretch/>
        </p:blipFill>
        <p:spPr>
          <a:xfrm>
            <a:off x="0" y="-25560"/>
            <a:ext cx="9144000" cy="140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6"/>
          <a:stretch/>
        </p:blipFill>
        <p:spPr>
          <a:xfrm>
            <a:off x="6059520" y="-57240"/>
            <a:ext cx="3120840" cy="31258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02.png"/>
          <p:cNvPicPr/>
          <p:nvPr/>
        </p:nvPicPr>
        <p:blipFill>
          <a:blip r:embed="rId7"/>
          <a:stretch/>
        </p:blipFill>
        <p:spPr>
          <a:xfrm>
            <a:off x="34920" y="3621240"/>
            <a:ext cx="912024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图片12.png"/>
          <p:cNvPicPr/>
          <p:nvPr/>
        </p:nvPicPr>
        <p:blipFill>
          <a:blip r:embed="rId8"/>
          <a:stretch/>
        </p:blipFill>
        <p:spPr>
          <a:xfrm>
            <a:off x="-34920" y="-34920"/>
            <a:ext cx="2754360" cy="2671920"/>
          </a:xfrm>
          <a:prstGeom prst="rect">
            <a:avLst/>
          </a:prstGeom>
          <a:ln w="0">
            <a:noFill/>
          </a:ln>
        </p:spPr>
      </p:pic>
      <p:sp>
        <p:nvSpPr>
          <p:cNvPr id="90" name="矩形 8"/>
          <p:cNvSpPr/>
          <p:nvPr/>
        </p:nvSpPr>
        <p:spPr>
          <a:xfrm>
            <a:off x="179280" y="2184480"/>
            <a:ext cx="87854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6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黑体"/>
                <a:ea typeface="黑体"/>
              </a:rPr>
              <a:t>xxx</a:t>
            </a:r>
            <a:r>
              <a:rPr b="0" lang="zh-CN" sz="3900" spc="-1" strike="noStrike">
                <a:solidFill>
                  <a:srgbClr val="333399"/>
                </a:solidFill>
                <a:latin typeface="黑体"/>
                <a:ea typeface="黑体"/>
              </a:rPr>
              <a:t>大学</a:t>
            </a:r>
            <a:br>
              <a:rPr sz="3900"/>
            </a:br>
            <a:r>
              <a:rPr b="1" lang="en-US" sz="3900" spc="-1" strike="noStrike">
                <a:solidFill>
                  <a:srgbClr val="cc0000"/>
                </a:solidFill>
                <a:latin typeface="Arial"/>
                <a:ea typeface="Arial"/>
              </a:rPr>
              <a:t>xxx</a:t>
            </a:r>
            <a:r>
              <a:rPr b="1" lang="zh-CN" sz="3900" spc="-1" strike="noStrike">
                <a:solidFill>
                  <a:srgbClr val="cc0000"/>
                </a:solidFill>
                <a:latin typeface="Arial"/>
                <a:ea typeface="Arial"/>
              </a:rPr>
              <a:t>战略研究中心成立仪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image5"/>
          <p:cNvPicPr/>
          <p:nvPr/>
        </p:nvPicPr>
        <p:blipFill>
          <a:blip r:embed="rId9"/>
          <a:stretch/>
        </p:blipFill>
        <p:spPr>
          <a:xfrm>
            <a:off x="-179280" y="6595920"/>
            <a:ext cx="9394560" cy="298440"/>
          </a:xfrm>
          <a:prstGeom prst="rect">
            <a:avLst/>
          </a:prstGeom>
          <a:ln w="0">
            <a:noFill/>
          </a:ln>
        </p:spPr>
      </p:pic>
      <p:sp>
        <p:nvSpPr>
          <p:cNvPr id="92" name="矩形 1"/>
          <p:cNvSpPr/>
          <p:nvPr/>
        </p:nvSpPr>
        <p:spPr>
          <a:xfrm>
            <a:off x="3534120" y="3821040"/>
            <a:ext cx="207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11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image4"/>
          <p:cNvPicPr/>
          <p:nvPr/>
        </p:nvPicPr>
        <p:blipFill>
          <a:blip r:embed="rId10"/>
          <a:stretch/>
        </p:blipFill>
        <p:spPr>
          <a:xfrm>
            <a:off x="4356000" y="-25560"/>
            <a:ext cx="4824360" cy="665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mage3"/>
          <p:cNvPicPr/>
          <p:nvPr/>
        </p:nvPicPr>
        <p:blipFill>
          <a:blip r:embed="rId11"/>
          <a:stretch/>
        </p:blipFill>
        <p:spPr>
          <a:xfrm>
            <a:off x="-108000" y="-25560"/>
            <a:ext cx="4967280" cy="665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image9"/>
          <p:cNvPicPr/>
          <p:nvPr/>
        </p:nvPicPr>
        <p:blipFill>
          <a:blip r:embed="rId12"/>
          <a:stretch/>
        </p:blipFill>
        <p:spPr>
          <a:xfrm>
            <a:off x="-54000" y="115920"/>
            <a:ext cx="9142560" cy="6597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mage8"/>
          <p:cNvPicPr/>
          <p:nvPr/>
        </p:nvPicPr>
        <p:blipFill>
          <a:blip r:embed="rId13"/>
          <a:stretch/>
        </p:blipFill>
        <p:spPr>
          <a:xfrm>
            <a:off x="-128520" y="-25560"/>
            <a:ext cx="9358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6012000" y="-57240"/>
            <a:ext cx="3120840" cy="3125880"/>
          </a:xfrm>
          <a:prstGeom prst="rect">
            <a:avLst/>
          </a:prstGeom>
          <a:ln w="0">
            <a:noFill/>
          </a:ln>
        </p:spPr>
      </p:pic>
      <p:sp>
        <p:nvSpPr>
          <p:cNvPr id="98" name="矩形 1"/>
          <p:cNvSpPr/>
          <p:nvPr/>
        </p:nvSpPr>
        <p:spPr>
          <a:xfrm>
            <a:off x="395280" y="1951200"/>
            <a:ext cx="835344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宋体"/>
              </a:rPr>
              <a:t>主持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宋体"/>
              </a:rPr>
              <a:t>X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image5"/>
          <p:cNvPicPr/>
          <p:nvPr/>
        </p:nvPicPr>
        <p:blipFill>
          <a:blip r:embed="rId3"/>
          <a:stretch/>
        </p:blipFill>
        <p:spPr>
          <a:xfrm>
            <a:off x="-179280" y="6595920"/>
            <a:ext cx="9394560" cy="29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012000" y="-57240"/>
            <a:ext cx="3120840" cy="312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mage5"/>
          <p:cNvPicPr/>
          <p:nvPr/>
        </p:nvPicPr>
        <p:blipFill>
          <a:blip r:embed="rId3"/>
          <a:stretch/>
        </p:blipFill>
        <p:spPr>
          <a:xfrm>
            <a:off x="-179280" y="6595920"/>
            <a:ext cx="9394560" cy="29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6012000" y="-57240"/>
            <a:ext cx="3120840" cy="312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image5"/>
          <p:cNvPicPr/>
          <p:nvPr/>
        </p:nvPicPr>
        <p:blipFill>
          <a:blip r:embed="rId3"/>
          <a:stretch/>
        </p:blipFill>
        <p:spPr>
          <a:xfrm>
            <a:off x="-179280" y="6595920"/>
            <a:ext cx="9394560" cy="29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0:46:38Z</dcterms:created>
  <dc:creator>www.pc6.com</dc:creator>
  <dc:description>www.pc6.com</dc:description>
  <cp:keywords>www.pc6.com</cp:keywords>
  <dc:language>en-US</dc:language>
  <cp:lastModifiedBy>微软用户</cp:lastModifiedBy>
  <cp:lastPrinted>1899-12-30T00:00:00Z</cp:lastPrinted>
  <dcterms:modified xsi:type="dcterms:W3CDTF">2012-12-26T03:23:56Z</dcterms:modified>
  <cp:revision>86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  <property fmtid="{D5CDD505-2E9C-101B-9397-08002B2CF9AE}" pid="3" name="NXTAG2">
    <vt:lpwstr>000800402c000000000001024140</vt:lpwstr>
  </property>
</Properties>
</file>