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27B8-7F10-4A50-BC6F-B7BF0CE7C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632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362320" y="3666600"/>
            <a:ext cx="632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313B-0309-4FD1-8CC9-14D2A2B5E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362320" y="366660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03400" y="366660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76BA-487A-4236-B69E-F5ABF0F1C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00720" y="167616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120" y="167616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362320" y="366660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00720" y="366660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120" y="366660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8F99-15EC-459E-8FF7-D4DB50DCE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49B17-B622-4F08-A812-77AA75873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362320" y="1676160"/>
            <a:ext cx="63244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1B3AE-589E-490C-94BA-0B7364F1E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632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F96C4-6E63-4597-AE8C-BD019C5AA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C8C22-B8F2-40B8-9C6D-536A895C5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0691B-5E59-4409-98CF-BC51A6E28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90360" y="304560"/>
            <a:ext cx="7848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9C793-9A5A-4A05-8E2B-AB148D003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362320" y="366660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09BF4-6DAA-4563-97A9-5043BF133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362320" y="1676160"/>
            <a:ext cx="63244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E292-E43B-4101-8569-FB821B494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03400" y="366660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10423-809C-4906-8F9D-EB385DD75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362320" y="3666600"/>
            <a:ext cx="632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89313-7345-4F35-B683-70CD3D238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632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362320" y="3666600"/>
            <a:ext cx="632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FAA56-C93D-4699-94F4-647CA6377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362320" y="366660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03400" y="366660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6C794-C14F-48D9-8A03-71ADCB9A1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00720" y="167616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9120" y="167616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362320" y="366660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500720" y="366660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9120" y="366660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F663C-B03A-40B3-B3EF-7BC6E3616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632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C850-0408-45E2-901A-819FB4F67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E881-6B01-434B-8B72-B41EB1225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0590-EACE-48FE-9D7B-A7685566A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360" y="304560"/>
            <a:ext cx="7848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DF64-CCAE-4B97-829B-BED907FD1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362320" y="366660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A008-6082-4A0F-A7CC-C7FD98AAE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03400" y="366660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80DD-5F3E-4FD0-926A-15C7B331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362320" y="3666600"/>
            <a:ext cx="632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7A78-FFEB-4DFC-AF5E-9DCB814B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362320" y="1676160"/>
            <a:ext cx="632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EA6B9-22C9-4220-9A96-82C19115A60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362320" y="1676160"/>
            <a:ext cx="632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76EAB-5806-4EA9-B9CD-48D066AAB73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23" descr="2-4.png"/>
          <p:cNvPicPr/>
          <p:nvPr/>
        </p:nvPicPr>
        <p:blipFill>
          <a:blip r:embed="rId2"/>
          <a:stretch/>
        </p:blipFill>
        <p:spPr>
          <a:xfrm>
            <a:off x="4495680" y="2666880"/>
            <a:ext cx="6739200" cy="1662120"/>
          </a:xfrm>
          <a:prstGeom prst="rect">
            <a:avLst/>
          </a:prstGeom>
          <a:ln w="0">
            <a:noFill/>
          </a:ln>
        </p:spPr>
      </p:pic>
      <p:pic>
        <p:nvPicPr>
          <p:cNvPr id="83" name="图片 24" descr="2-5.png"/>
          <p:cNvPicPr/>
          <p:nvPr/>
        </p:nvPicPr>
        <p:blipFill>
          <a:blip r:embed="rId3"/>
          <a:stretch/>
        </p:blipFill>
        <p:spPr>
          <a:xfrm>
            <a:off x="3886200" y="2514600"/>
            <a:ext cx="7284960" cy="1957320"/>
          </a:xfrm>
          <a:prstGeom prst="rect">
            <a:avLst/>
          </a:prstGeom>
          <a:ln w="0">
            <a:noFill/>
          </a:ln>
        </p:spPr>
      </p:pic>
      <p:pic>
        <p:nvPicPr>
          <p:cNvPr id="84" name="图片 25" descr="3-1.png"/>
          <p:cNvPicPr/>
          <p:nvPr/>
        </p:nvPicPr>
        <p:blipFill>
          <a:blip r:embed="rId4"/>
          <a:stretch/>
        </p:blipFill>
        <p:spPr>
          <a:xfrm>
            <a:off x="-2438280" y="2362320"/>
            <a:ext cx="7175520" cy="1600200"/>
          </a:xfrm>
          <a:prstGeom prst="rect">
            <a:avLst/>
          </a:prstGeom>
          <a:ln w="0">
            <a:noFill/>
          </a:ln>
        </p:spPr>
      </p:pic>
      <p:pic>
        <p:nvPicPr>
          <p:cNvPr id="85" name="图片 26" descr="3-2.png"/>
          <p:cNvPicPr/>
          <p:nvPr/>
        </p:nvPicPr>
        <p:blipFill>
          <a:blip r:embed="rId5"/>
          <a:stretch/>
        </p:blipFill>
        <p:spPr>
          <a:xfrm>
            <a:off x="-4114800" y="2362320"/>
            <a:ext cx="8872560" cy="2309760"/>
          </a:xfrm>
          <a:prstGeom prst="rect">
            <a:avLst/>
          </a:prstGeom>
          <a:ln w="0">
            <a:noFill/>
          </a:ln>
        </p:spPr>
      </p:pic>
      <p:pic>
        <p:nvPicPr>
          <p:cNvPr id="86" name="图片 32" descr="光.png"/>
          <p:cNvPicPr/>
          <p:nvPr/>
        </p:nvPicPr>
        <p:blipFill>
          <a:blip r:embed="rId6"/>
          <a:stretch/>
        </p:blipFill>
        <p:spPr>
          <a:xfrm>
            <a:off x="3992400" y="3048120"/>
            <a:ext cx="1189080" cy="1193760"/>
          </a:xfrm>
          <a:prstGeom prst="rect">
            <a:avLst/>
          </a:prstGeom>
          <a:ln w="0">
            <a:noFill/>
          </a:ln>
        </p:spPr>
      </p:pic>
      <p:pic>
        <p:nvPicPr>
          <p:cNvPr id="87" name="图片 33" descr="光.png"/>
          <p:cNvPicPr/>
          <p:nvPr/>
        </p:nvPicPr>
        <p:blipFill>
          <a:blip r:embed="rId7"/>
          <a:stretch/>
        </p:blipFill>
        <p:spPr>
          <a:xfrm>
            <a:off x="3886200" y="3048120"/>
            <a:ext cx="1308240" cy="1314360"/>
          </a:xfrm>
          <a:prstGeom prst="rect">
            <a:avLst/>
          </a:prstGeom>
          <a:ln w="0">
            <a:noFill/>
          </a:ln>
        </p:spPr>
      </p:pic>
      <p:pic>
        <p:nvPicPr>
          <p:cNvPr id="88" name="图片 34" descr="地球2.png"/>
          <p:cNvPicPr/>
          <p:nvPr/>
        </p:nvPicPr>
        <p:blipFill>
          <a:blip r:embed="rId8"/>
          <a:stretch/>
        </p:blipFill>
        <p:spPr>
          <a:xfrm>
            <a:off x="4267080" y="3352680"/>
            <a:ext cx="559080" cy="559080"/>
          </a:xfrm>
          <a:prstGeom prst="rect">
            <a:avLst/>
          </a:prstGeom>
          <a:ln w="0">
            <a:noFill/>
          </a:ln>
        </p:spPr>
      </p:pic>
      <p:pic>
        <p:nvPicPr>
          <p:cNvPr id="89" name="图片 35" descr="地球2.png"/>
          <p:cNvPicPr/>
          <p:nvPr/>
        </p:nvPicPr>
        <p:blipFill>
          <a:blip r:embed="rId9"/>
          <a:stretch/>
        </p:blipFill>
        <p:spPr>
          <a:xfrm>
            <a:off x="380880" y="0"/>
            <a:ext cx="5486400" cy="5486400"/>
          </a:xfrm>
          <a:prstGeom prst="rect">
            <a:avLst/>
          </a:prstGeom>
          <a:ln w="0">
            <a:noFill/>
          </a:ln>
        </p:spPr>
      </p:pic>
      <p:sp>
        <p:nvSpPr>
          <p:cNvPr id="90" name="TextBox 37"/>
          <p:cNvSpPr/>
          <p:nvPr/>
        </p:nvSpPr>
        <p:spPr>
          <a:xfrm>
            <a:off x="5181480" y="2438280"/>
            <a:ext cx="1843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图片 19" descr="未标题-1.png"/>
          <p:cNvPicPr/>
          <p:nvPr/>
        </p:nvPicPr>
        <p:blipFill>
          <a:blip r:embed="rId10"/>
          <a:stretch/>
        </p:blipFill>
        <p:spPr>
          <a:xfrm>
            <a:off x="0" y="3505320"/>
            <a:ext cx="9144000" cy="33526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948040" y="586728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幻灯片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22" presetSubtype="2">
                                  <p:stCondLst>
                                    <p:cond delay="12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22" presetSubtype="2">
                                  <p:stCondLst>
                                    <p:cond delay="14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22" presetSubtype="8">
                                  <p:stCondLst>
                                    <p:cond delay="5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22" presetSubtype="8">
                                  <p:stCondLst>
                                    <p:cond delay="8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10">
                                  <p:stCondLst>
                                    <p:cond delay="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8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 repeatCount="4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10">
                                  <p:stCondLst>
                                    <p:cond delay="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8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900"/>
                            </p:stCondLst>
                            <p:childTnLst>
                              <p:par>
                                <p:cTn id="5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52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900"/>
                            </p:stCondLst>
                            <p:childTnLst>
                              <p:par>
                                <p:cTn id="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7900"/>
                            </p:stCondLst>
                            <p:childTnLst>
                              <p:par>
                                <p:cTn id="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9780"/>
                            </p:stCondLst>
                            <p:childTnLst>
                              <p:par>
                                <p:cTn id="68" nodeType="afterEffect" fill="hold" presetClass="exit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69" dur="2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19:17Z</dcterms:created>
  <dc:creator>www.pc6.com</dc:creator>
  <dc:description>www.pc6.com</dc:description>
  <cp:keywords>www.pc6.com</cp:keywords>
  <dc:language>en-US</dc:language>
  <cp:lastModifiedBy>微软用户</cp:lastModifiedBy>
  <dcterms:modified xsi:type="dcterms:W3CDTF">2012-12-26T03:20:49Z</dcterms:modified>
  <cp:revision>107</cp:revision>
  <dc:subject>www.pc6.com</dc:subject>
  <dc:title>www.pc6.com</dc:title>
</cp:coreProperties>
</file>