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8B7-96C6-4D9A-983F-C6CC5C4D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D49-07FF-48E7-9EBF-3072562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D26-1D17-4D5D-B69A-2119341C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435-3D26-40C5-A03E-971C74ED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2F1-EE44-43D9-877E-B5BEB0FC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A54-968A-4AF8-B47D-95ED59E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702-A926-4D30-8958-792AFC9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8A1-7A4A-49E9-AD7E-E7A4868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495-C7C1-4904-8797-E6F937E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95E-679D-4510-85AA-6AED35D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289-E985-4196-80BA-9DD01B1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439-A3DD-454C-936D-242D796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BB7D-5F9C-4D01-BE00-38733E4D34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883-1774-4ED5-9D2C-BB5993B49A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14400" y="758880"/>
            <a:ext cx="1285920" cy="584280"/>
            <a:chOff x="914400" y="758880"/>
            <a:chExt cx="1285920" cy="584280"/>
          </a:xfrm>
        </p:grpSpPr>
        <p:sp>
          <p:nvSpPr>
            <p:cNvPr id="51" name="TextBox 27"/>
            <p:cNvSpPr/>
            <p:nvPr/>
          </p:nvSpPr>
          <p:spPr>
            <a:xfrm>
              <a:off x="914400" y="758880"/>
              <a:ext cx="1285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29"/>
            <p:cNvSpPr/>
            <p:nvPr/>
          </p:nvSpPr>
          <p:spPr>
            <a:xfrm>
              <a:off x="1262880" y="974160"/>
              <a:ext cx="588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2"/>
          <p:cNvSpPr/>
          <p:nvPr/>
        </p:nvSpPr>
        <p:spPr>
          <a:xfrm>
            <a:off x="3807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燕尾形 1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2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3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5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燕尾形 1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燕尾形 2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燕尾形 39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4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6" name="TextBox 52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3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4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5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6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9" name="TextBox 17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2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直接连接符 33"/>
          <p:cNvSpPr/>
          <p:nvPr/>
        </p:nvSpPr>
        <p:spPr>
          <a:xfrm>
            <a:off x="478296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9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29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34"/>
          <p:cNvSpPr/>
          <p:nvPr/>
        </p:nvSpPr>
        <p:spPr>
          <a:xfrm>
            <a:off x="5742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3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69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直接连接符 34"/>
          <p:cNvSpPr/>
          <p:nvPr/>
        </p:nvSpPr>
        <p:spPr>
          <a:xfrm>
            <a:off x="6759720" y="1343160"/>
            <a:ext cx="6886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7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0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直接连接符 34"/>
          <p:cNvSpPr/>
          <p:nvPr/>
        </p:nvSpPr>
        <p:spPr>
          <a:xfrm>
            <a:off x="774072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2:27Z</dcterms:modified>
  <cp:revision>15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