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94F-BC52-460B-AF96-06B5EA31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1AA-4620-4851-88D6-4646AA3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26D-911A-4A8D-A262-CBBF9536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561-793B-4A39-A271-9EB81755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DA04-99A3-4A7B-9A94-8C4CDF66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FAD7-E25F-498E-92DC-5A8C431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550F-0A1E-4D59-ACA2-16C64DBA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E0BC-B71E-4848-8C1B-91B1A90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25A8-11A3-4A3E-B497-3F77591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928-DABC-4E27-98AA-CB16D37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74C6-50FE-4CB4-99FB-A0DC85D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37F-A587-45F6-8A30-0E1EFF3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5F57-89DC-4D2F-AEBB-FBD5C9D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6911-9136-4B7F-A366-265BF11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F56-71F0-475B-BF33-4C90F96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6BFE-7D90-40E4-8905-143BE086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E9E-B805-4924-9A95-B0BCA1D6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A8B-C232-4111-98E6-A2D15A9A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D6E-27E1-4419-B220-5BDFA96C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7DA-5724-4743-B13B-ED3FC1C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0F1-5136-4144-B6CB-F251C996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5C4-474A-4831-A591-3BA8FD7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7FF-F966-42D4-AB2D-208EE3E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E4F-A4DD-4351-BD04-2D56AEA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1D2-F9ED-4271-80F9-EAD4F458E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7895-B695-4F70-8DE7-D3E4A6ED4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754200" y="-1463760"/>
            <a:ext cx="15911640" cy="1193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5840" y="724212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51_03"/>
          <p:cNvPicPr/>
          <p:nvPr/>
        </p:nvPicPr>
        <p:blipFill>
          <a:blip r:embed="rId21"/>
          <a:stretch/>
        </p:blipFill>
        <p:spPr>
          <a:xfrm>
            <a:off x="-2409840" y="234936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25" descr=""/>
          <p:cNvPicPr/>
          <p:nvPr/>
        </p:nvPicPr>
        <p:blipFill>
          <a:blip r:embed="rId22"/>
          <a:stretch/>
        </p:blipFill>
        <p:spPr>
          <a:xfrm>
            <a:off x="2554200" y="3498840"/>
            <a:ext cx="4297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30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Q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4520" y="-266760"/>
            <a:ext cx="9807480" cy="736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www.pc6.com</dc:creator>
  <dc:description/>
  <cp:keywords>www.pc6.com</cp:keywords>
  <dc:language>en-US</dc:language>
  <cp:lastModifiedBy>微软用户</cp:lastModifiedBy>
  <cp:lastPrinted>1899-12-30T00:00:00Z</cp:lastPrinted>
  <dcterms:modified xsi:type="dcterms:W3CDTF">2012-12-26T03:15:14Z</dcterms:modified>
  <cp:revision>341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